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D3C-2236-427B-9D7B-CA6D55B8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B72-2BC5-4C63-88A4-FB85B5C1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0B6-ACEE-4A40-8278-6E5BC7B9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604-F835-43A7-8E2F-D878C7F7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56F-B932-4195-AF1A-CE7FF6A0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64E-855D-4923-9F72-F63B5B0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471-C66A-49D6-9D96-A43CD9B6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737-27D4-44AD-B12F-CAAFEC1B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702-4668-4313-9DB5-8E7B7046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55F-A102-4881-AAB1-2BFACABE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C32-DD0B-4956-B0BA-7FBE1BD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BBF-ACB4-4DAE-ABD7-B1EE12DF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028C-9803-4C06-9CDB-4574712BC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" Target="slide7.xm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" Target="slide7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66"/>
                </a:solidFill>
                <a:latin typeface="Verdana"/>
              </a:rPr>
              <a:t>Il modello Punto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915240" y="1557360"/>
            <a:ext cx="1689120" cy="1600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666880" y="350352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7772400" y="763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7848720" y="763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0" y="59436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152280" y="579132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22050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Esperienze e materiali proposti dagli insegna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04360" y="2444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7" action="ppaction://hlinksldjump"/>
          </p:cNvPr>
          <p:cNvSpPr/>
          <p:nvPr/>
        </p:nvSpPr>
        <p:spPr>
          <a:xfrm>
            <a:off x="6156360" y="6165720"/>
            <a:ext cx="1584360" cy="692280"/>
          </a:xfrm>
          <a:custGeom>
            <a:avLst/>
            <a:gdLst>
              <a:gd name="textAreaLeft" fmla="*/ 44640 w 1584360"/>
              <a:gd name="textAreaRight" fmla="*/ 1539720 w 1584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9420" h="21600">
                <a:moveTo>
                  <a:pt x="0" y="0"/>
                </a:moveTo>
                <a:lnTo>
                  <a:pt x="49420" y="0"/>
                </a:lnTo>
                <a:lnTo>
                  <a:pt x="49420" y="21600"/>
                </a:lnTo>
                <a:lnTo>
                  <a:pt x="0" y="21600"/>
                </a:lnTo>
                <a:close/>
              </a:path>
              <a:path fill="lightenLess" w="49420" h="21600">
                <a:moveTo>
                  <a:pt x="0" y="0"/>
                </a:moveTo>
                <a:lnTo>
                  <a:pt x="49420" y="0"/>
                </a:lnTo>
                <a:lnTo>
                  <a:pt x="48020" y="1400"/>
                </a:lnTo>
                <a:lnTo>
                  <a:pt x="1400" y="1400"/>
                </a:lnTo>
                <a:close/>
              </a:path>
              <a:path fill="darken" w="49420" h="21600">
                <a:moveTo>
                  <a:pt x="49420" y="0"/>
                </a:moveTo>
                <a:lnTo>
                  <a:pt x="49420" y="21600"/>
                </a:lnTo>
                <a:lnTo>
                  <a:pt x="48020" y="20200"/>
                </a:lnTo>
                <a:lnTo>
                  <a:pt x="48020" y="1400"/>
                </a:lnTo>
                <a:close/>
              </a:path>
              <a:path fill="darkenLess" w="49420" h="21600">
                <a:moveTo>
                  <a:pt x="49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20" y="20200"/>
                </a:lnTo>
                <a:close/>
              </a:path>
              <a:path fill="lighten" w="49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560" y="836640"/>
            <a:ext cx="91090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I tasselli di Puntoedu – La Biblioteca delle Conosc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64480" y="1557360"/>
            <a:ext cx="1739880" cy="16635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7848720" y="763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7848720" y="763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5" action="ppaction://hlinksldjump"/>
          </p:cNvPr>
          <p:cNvSpPr/>
          <p:nvPr/>
        </p:nvSpPr>
        <p:spPr>
          <a:xfrm>
            <a:off x="0" y="59436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76320" y="57150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2205000"/>
            <a:ext cx="5791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Area di interazione tra gli utenti in formazione s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corsi </a:t>
            </a:r>
            <a:br>
              <a:rPr sz="1800"/>
            </a:b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argomenti disciplinari</a:t>
            </a:r>
            <a:br>
              <a:rPr sz="1800"/>
            </a:b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scambio di materiali ed esperienze</a:t>
            </a:r>
            <a:br>
              <a:rPr sz="1800"/>
            </a:b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argomenti di carattere generale            (metodologia Puntoedu, ec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04360" y="2444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1" action="ppaction://hlinksldjump"/>
          </p:cNvPr>
          <p:cNvSpPr/>
          <p:nvPr/>
        </p:nvSpPr>
        <p:spPr>
          <a:xfrm>
            <a:off x="6156360" y="6021360"/>
            <a:ext cx="1511280" cy="836640"/>
          </a:xfrm>
          <a:custGeom>
            <a:avLst/>
            <a:gdLst>
              <a:gd name="textAreaLeft" fmla="*/ 54000 w 1511280"/>
              <a:gd name="textAreaRight" fmla="*/ 1457280 w 151128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010" h="21600">
                <a:moveTo>
                  <a:pt x="0" y="0"/>
                </a:moveTo>
                <a:lnTo>
                  <a:pt x="39010" y="0"/>
                </a:lnTo>
                <a:lnTo>
                  <a:pt x="39010" y="21600"/>
                </a:lnTo>
                <a:lnTo>
                  <a:pt x="0" y="21600"/>
                </a:lnTo>
                <a:close/>
              </a:path>
              <a:path fill="lightenLess" w="39010" h="21600">
                <a:moveTo>
                  <a:pt x="0" y="0"/>
                </a:moveTo>
                <a:lnTo>
                  <a:pt x="39010" y="0"/>
                </a:lnTo>
                <a:lnTo>
                  <a:pt x="37610" y="1400"/>
                </a:lnTo>
                <a:lnTo>
                  <a:pt x="1400" y="1400"/>
                </a:lnTo>
                <a:close/>
              </a:path>
              <a:path fill="darken" w="39010" h="21600">
                <a:moveTo>
                  <a:pt x="39010" y="0"/>
                </a:moveTo>
                <a:lnTo>
                  <a:pt x="39010" y="21600"/>
                </a:lnTo>
                <a:lnTo>
                  <a:pt x="37610" y="20200"/>
                </a:lnTo>
                <a:lnTo>
                  <a:pt x="37610" y="1400"/>
                </a:lnTo>
                <a:close/>
              </a:path>
              <a:path fill="darkenLess" w="39010" h="21600">
                <a:moveTo>
                  <a:pt x="39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10" y="20200"/>
                </a:lnTo>
                <a:close/>
              </a:path>
              <a:path fill="lighten" w="39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920" y="83628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I tasselli di Puntoedu -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77080" y="1557360"/>
            <a:ext cx="1739880" cy="1625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666880" y="350352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7772400" y="763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7848720" y="763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0" y="59436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6" action="ppaction://hlinksldjump"/>
          </p:cNvPr>
          <p:cNvSpPr/>
          <p:nvPr/>
        </p:nvSpPr>
        <p:spPr>
          <a:xfrm>
            <a:off x="76320" y="579132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2205000"/>
            <a:ext cx="5791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Spazio on line di incontro tra un gruppo di studenti e il tutor facilitatore p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discut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approfond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ampli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il lavoro svolto in presenza e la fruizione dell’ambiente di apprendimento on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04360" y="2444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6227640" y="6165720"/>
            <a:ext cx="1440000" cy="692280"/>
          </a:xfrm>
          <a:custGeom>
            <a:avLst/>
            <a:gdLst>
              <a:gd name="textAreaLeft" fmla="*/ 44640 w 1440000"/>
              <a:gd name="textAreaRight" fmla="*/ 1395360 w 144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4918" h="21600">
                <a:moveTo>
                  <a:pt x="0" y="0"/>
                </a:moveTo>
                <a:lnTo>
                  <a:pt x="44918" y="0"/>
                </a:lnTo>
                <a:lnTo>
                  <a:pt x="44918" y="21600"/>
                </a:lnTo>
                <a:lnTo>
                  <a:pt x="0" y="21600"/>
                </a:lnTo>
                <a:close/>
              </a:path>
              <a:path fill="lightenLess" w="44918" h="21600">
                <a:moveTo>
                  <a:pt x="0" y="0"/>
                </a:moveTo>
                <a:lnTo>
                  <a:pt x="44918" y="0"/>
                </a:lnTo>
                <a:lnTo>
                  <a:pt x="43518" y="1400"/>
                </a:lnTo>
                <a:lnTo>
                  <a:pt x="1400" y="1400"/>
                </a:lnTo>
                <a:close/>
              </a:path>
              <a:path fill="darken" w="44918" h="21600">
                <a:moveTo>
                  <a:pt x="44918" y="0"/>
                </a:moveTo>
                <a:lnTo>
                  <a:pt x="44918" y="21600"/>
                </a:lnTo>
                <a:lnTo>
                  <a:pt x="43518" y="20200"/>
                </a:lnTo>
                <a:lnTo>
                  <a:pt x="43518" y="1400"/>
                </a:lnTo>
                <a:close/>
              </a:path>
              <a:path fill="darkenLess" w="44918" h="21600">
                <a:moveTo>
                  <a:pt x="44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18" y="20200"/>
                </a:lnTo>
                <a:close/>
              </a:path>
              <a:path fill="lighten" w="44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920" y="83628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I tasselli di Puntoedu – Classe virt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64480" y="1557360"/>
            <a:ext cx="1739880" cy="1612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66880" y="350352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7772400" y="763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7848720" y="763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7913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5791320"/>
            <a:ext cx="1638360" cy="914400"/>
          </a:xfrm>
          <a:custGeom>
            <a:avLst/>
            <a:gdLst>
              <a:gd name="textAreaLeft" fmla="*/ 59040 w 1638360"/>
              <a:gd name="textAreaRight" fmla="*/ 1579320 w 1638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8695" h="21600">
                <a:moveTo>
                  <a:pt x="0" y="0"/>
                </a:moveTo>
                <a:lnTo>
                  <a:pt x="38695" y="0"/>
                </a:lnTo>
                <a:lnTo>
                  <a:pt x="38695" y="21600"/>
                </a:lnTo>
                <a:lnTo>
                  <a:pt x="0" y="21600"/>
                </a:lnTo>
                <a:close/>
              </a:path>
              <a:path fill="lightenLess" w="38695" h="21600">
                <a:moveTo>
                  <a:pt x="0" y="0"/>
                </a:moveTo>
                <a:lnTo>
                  <a:pt x="38695" y="0"/>
                </a:lnTo>
                <a:lnTo>
                  <a:pt x="37295" y="1400"/>
                </a:lnTo>
                <a:lnTo>
                  <a:pt x="1400" y="1400"/>
                </a:lnTo>
                <a:close/>
              </a:path>
              <a:path fill="darken" w="38695" h="21600">
                <a:moveTo>
                  <a:pt x="38695" y="0"/>
                </a:moveTo>
                <a:lnTo>
                  <a:pt x="38695" y="21600"/>
                </a:lnTo>
                <a:lnTo>
                  <a:pt x="37295" y="20200"/>
                </a:lnTo>
                <a:lnTo>
                  <a:pt x="37295" y="1400"/>
                </a:lnTo>
                <a:close/>
              </a:path>
              <a:path fill="darkenLess" w="38695" h="21600">
                <a:moveTo>
                  <a:pt x="38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95" y="20200"/>
                </a:lnTo>
                <a:close/>
              </a:path>
              <a:path fill="lighten" w="38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1341360"/>
            <a:ext cx="6408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Il tutor svolge una funzione di supporto ai docenti aiutandoli, in particola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sull’utilizzo delle nuove tecnologi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sulla personalizzazione dei percorsi di    apprendi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nella riflessione critica sui materia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E’ un insegnante che coordina le iniziative in presenza e facilita le attività per formazione in r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I tutor avranno, inoltre, delle funzioni di monitoraggio e documentazione delle attività svolte dai singoli insegnanti a loro affi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32720" y="244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6237360"/>
            <a:ext cx="1366920" cy="620640"/>
          </a:xfrm>
          <a:custGeom>
            <a:avLst/>
            <a:gdLst>
              <a:gd name="textAreaLeft" fmla="*/ 39960 w 1366920"/>
              <a:gd name="textAreaRight" fmla="*/ 1326960 w 136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558" h="21600">
                <a:moveTo>
                  <a:pt x="0" y="0"/>
                </a:moveTo>
                <a:lnTo>
                  <a:pt x="47558" y="0"/>
                </a:lnTo>
                <a:lnTo>
                  <a:pt x="47558" y="21600"/>
                </a:lnTo>
                <a:lnTo>
                  <a:pt x="0" y="21600"/>
                </a:lnTo>
                <a:close/>
              </a:path>
              <a:path fill="lightenLess" w="47558" h="21600">
                <a:moveTo>
                  <a:pt x="0" y="0"/>
                </a:moveTo>
                <a:lnTo>
                  <a:pt x="47558" y="0"/>
                </a:lnTo>
                <a:lnTo>
                  <a:pt x="46158" y="1400"/>
                </a:lnTo>
                <a:lnTo>
                  <a:pt x="1400" y="1400"/>
                </a:lnTo>
                <a:close/>
              </a:path>
              <a:path fill="darken" w="47558" h="21600">
                <a:moveTo>
                  <a:pt x="47558" y="0"/>
                </a:moveTo>
                <a:lnTo>
                  <a:pt x="47558" y="21600"/>
                </a:lnTo>
                <a:lnTo>
                  <a:pt x="46158" y="20200"/>
                </a:lnTo>
                <a:lnTo>
                  <a:pt x="46158" y="1400"/>
                </a:lnTo>
                <a:close/>
              </a:path>
              <a:path fill="darkenLess" w="47558" h="21600">
                <a:moveTo>
                  <a:pt x="47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58" y="20200"/>
                </a:lnTo>
                <a:close/>
              </a:path>
              <a:path fill="lighten" w="47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920" y="83628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I tasselli di Puntoedu – Il t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04000" y="1557360"/>
            <a:ext cx="1778040" cy="1612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666880" y="350352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763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763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57150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205000"/>
            <a:ext cx="662472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Attività in aula con il tutor che hanno la scopo di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creare momenti di discussione e di                     confronto;</a:t>
            </a:r>
            <a:br>
              <a:rPr sz="1800"/>
            </a:b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facilitare le attività on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32720" y="244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6237360"/>
            <a:ext cx="1366920" cy="620640"/>
          </a:xfrm>
          <a:custGeom>
            <a:avLst/>
            <a:gdLst>
              <a:gd name="textAreaLeft" fmla="*/ 39960 w 1366920"/>
              <a:gd name="textAreaRight" fmla="*/ 1326960 w 136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558" h="21600">
                <a:moveTo>
                  <a:pt x="0" y="0"/>
                </a:moveTo>
                <a:lnTo>
                  <a:pt x="47558" y="0"/>
                </a:lnTo>
                <a:lnTo>
                  <a:pt x="47558" y="21600"/>
                </a:lnTo>
                <a:lnTo>
                  <a:pt x="0" y="21600"/>
                </a:lnTo>
                <a:close/>
              </a:path>
              <a:path fill="lightenLess" w="47558" h="21600">
                <a:moveTo>
                  <a:pt x="0" y="0"/>
                </a:moveTo>
                <a:lnTo>
                  <a:pt x="47558" y="0"/>
                </a:lnTo>
                <a:lnTo>
                  <a:pt x="46158" y="1400"/>
                </a:lnTo>
                <a:lnTo>
                  <a:pt x="1400" y="1400"/>
                </a:lnTo>
                <a:close/>
              </a:path>
              <a:path fill="darken" w="47558" h="21600">
                <a:moveTo>
                  <a:pt x="47558" y="0"/>
                </a:moveTo>
                <a:lnTo>
                  <a:pt x="47558" y="21600"/>
                </a:lnTo>
                <a:lnTo>
                  <a:pt x="46158" y="20200"/>
                </a:lnTo>
                <a:lnTo>
                  <a:pt x="46158" y="1400"/>
                </a:lnTo>
                <a:close/>
              </a:path>
              <a:path fill="darkenLess" w="47558" h="21600">
                <a:moveTo>
                  <a:pt x="47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58" y="20200"/>
                </a:lnTo>
                <a:close/>
              </a:path>
              <a:path fill="lighten" w="47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920" y="83628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I tasselli di Puntoedu – Incontri in pres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83664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Cosa vuol dire e-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1422360" cy="888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66"/>
            </a:outerShdw>
          </a:effectLst>
        </p:spPr>
      </p:pic>
      <p:sp>
        <p:nvSpPr>
          <p:cNvPr id="45" name=""/>
          <p:cNvSpPr/>
          <p:nvPr/>
        </p:nvSpPr>
        <p:spPr>
          <a:xfrm>
            <a:off x="3581280" y="2057400"/>
            <a:ext cx="4114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E-learning significa utilizzare le tecnologie di rete p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572000"/>
            <a:ext cx="1600200" cy="6094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724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Progett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4572000"/>
            <a:ext cx="1600200" cy="6094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4572000"/>
            <a:ext cx="1600200" cy="6094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4572000"/>
            <a:ext cx="1600200" cy="6094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4572000"/>
            <a:ext cx="1600200" cy="6094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724280"/>
            <a:ext cx="152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Distribu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Scegli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Gest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371600" y="2895480"/>
            <a:ext cx="32004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71440" y="2895480"/>
            <a:ext cx="160020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8954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895480"/>
            <a:ext cx="160020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895480"/>
            <a:ext cx="342900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5775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l’</a:t>
            </a:r>
            <a:r>
              <a:rPr b="1" i="1" lang="it-IT" sz="2000" spc="-1" strike="noStrike">
                <a:solidFill>
                  <a:srgbClr val="000066"/>
                </a:solidFill>
                <a:latin typeface="Verdana"/>
              </a:rPr>
              <a:t>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5562720"/>
            <a:ext cx="2895480" cy="838080"/>
          </a:xfrm>
          <a:prstGeom prst="ellipse">
            <a:avLst/>
          </a:prstGeom>
          <a:noFill/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4692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Ampli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32720" y="244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83664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Cosa vuol dire e-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422360" cy="888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66"/>
            </a:outerShdw>
          </a:effectLst>
        </p:spPr>
      </p:pic>
      <p:sp>
        <p:nvSpPr>
          <p:cNvPr id="66" name=""/>
          <p:cNvSpPr/>
          <p:nvPr/>
        </p:nvSpPr>
        <p:spPr>
          <a:xfrm>
            <a:off x="1828800" y="1766880"/>
            <a:ext cx="525780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L’utilizzo delle tecnologie multimediali per  </a:t>
            </a:r>
            <a:r>
              <a:rPr b="1" i="1" lang="it-IT" sz="1800" spc="-1" strike="noStrike">
                <a:solidFill>
                  <a:srgbClr val="000066"/>
                </a:solidFill>
                <a:latin typeface="Verdana"/>
              </a:rPr>
              <a:t>migliorare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la qualità dell’apprendimento </a:t>
            </a:r>
            <a:r>
              <a:rPr b="1" i="1" lang="it-IT" sz="1800" spc="-1" strike="noStrike">
                <a:solidFill>
                  <a:srgbClr val="000066"/>
                </a:solidFill>
                <a:latin typeface="Verdana"/>
              </a:rPr>
              <a:t>agevolando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l’access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334120"/>
            <a:ext cx="1600200" cy="6094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454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Ris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334120"/>
            <a:ext cx="1600200" cy="6094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334120"/>
            <a:ext cx="1600200" cy="6094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334120"/>
            <a:ext cx="2209680" cy="6094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66"/>
            </a:solidFill>
            <a:miter/>
          </a:ln>
          <a:effectLst>
            <a:outerShdw dist="153753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468760"/>
            <a:ext cx="152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Servi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5454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Scam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28624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Verdana"/>
              </a:rPr>
              <a:t>Collaborazione a dist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371240" y="3276720"/>
            <a:ext cx="3048120" cy="1752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3276720"/>
            <a:ext cx="3200400" cy="1752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360" y="3276720"/>
            <a:ext cx="1143000" cy="1752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3276720"/>
            <a:ext cx="838080" cy="1752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32720" y="244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83628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Dalla teoria alla pratica educativ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59280" y="1717560"/>
            <a:ext cx="3417840" cy="949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784600"/>
            <a:ext cx="2209680" cy="10666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19520"/>
            <a:ext cx="259092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Corsi, materiali, forum, prodotti, condotti da esperti nazionali ed internaziona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89360"/>
            <a:ext cx="2361960" cy="91440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689360"/>
            <a:ext cx="23619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Laboratori con materiali per attività proposte per gli insegna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3048120"/>
            <a:ext cx="2361960" cy="106668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4384800"/>
            <a:ext cx="2361960" cy="914400"/>
          </a:xfrm>
          <a:prstGeom prst="foldedCorner">
            <a:avLst>
              <a:gd name="adj" fmla="val 12500"/>
            </a:avLst>
          </a:prstGeom>
          <a:solidFill>
            <a:srgbClr val="bdcef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342900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Tracciamento di alcune ‘azioni’ e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537080"/>
            <a:ext cx="2362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Certificazione rilasciata dal direttore del co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666880" y="2631960"/>
            <a:ext cx="198144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00400" y="2631960"/>
            <a:ext cx="144792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2631960"/>
            <a:ext cx="182880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631960"/>
            <a:ext cx="1447560" cy="1752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57150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2631960"/>
            <a:ext cx="0" cy="2590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19440" y="5756400"/>
            <a:ext cx="2057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Tutor </a:t>
            </a:r>
            <a:br>
              <a:rPr sz="1200"/>
            </a:b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Incontri in pres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32720" y="244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4000" y="1197000"/>
            <a:ext cx="8839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Alcune caratteristiche della formazione in servizio degli insegnant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7980800">
            <a:off x="2922480" y="1620720"/>
            <a:ext cx="3619440" cy="5448240"/>
          </a:xfrm>
          <a:custGeom>
            <a:avLst/>
            <a:gdLst>
              <a:gd name="textAreaLeft" fmla="*/ 484920 w 3619440"/>
              <a:gd name="textAreaRight" fmla="*/ 3134520 w 3619440"/>
              <a:gd name="textAreaTop" fmla="*/ 953280 h 5448240"/>
              <a:gd name="textAreaBottom" fmla="*/ 3949920 h 544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f3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133720"/>
            <a:ext cx="2895480" cy="12189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aiutare il passagg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dalla teoria alla pratica: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learning by d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2209680"/>
            <a:ext cx="2819520" cy="10670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rapporto tra il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numero degli insegnanti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e la qualità degli interv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800600"/>
            <a:ext cx="3200400" cy="1295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contenuti 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non solo di tipo teorico – 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metodologia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non trasmiss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4876920"/>
            <a:ext cx="2743200" cy="9903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sostegno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Verdana"/>
              </a:rPr>
              <a:t>all’inno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244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09720" y="1444680"/>
            <a:ext cx="1514520" cy="107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0" y="1371600"/>
            <a:ext cx="610236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Verdana"/>
              </a:rPr>
              <a:t>Gli insegnanti hanno partecipato a esperienze di e-Learning, che per dimensioni sono forse le più grandi in Euro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1166760" cy="1111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00360" y="3962520"/>
            <a:ext cx="6192720" cy="1266840"/>
          </a:xfrm>
          <a:prstGeom prst="roundRect">
            <a:avLst>
              <a:gd name="adj" fmla="val 16667"/>
            </a:avLst>
          </a:prstGeom>
          <a:solidFill>
            <a:srgbClr val="ffffb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Formazione tecnologica - </a:t>
            </a:r>
            <a:r>
              <a:rPr b="1" i="1" lang="it-IT" sz="1200" spc="-1" strike="noStrike">
                <a:solidFill>
                  <a:srgbClr val="000066"/>
                </a:solidFill>
                <a:latin typeface="Verdana"/>
              </a:rPr>
              <a:t>Percorso A e B </a:t>
            </a: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(aggiornato al 8/04/03)</a:t>
            </a: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Insegnanti : </a:t>
            </a:r>
            <a:r>
              <a:rPr b="1" lang="it-IT" sz="1200" spc="-1" strike="noStrike">
                <a:solidFill>
                  <a:srgbClr val="000066"/>
                </a:solidFill>
                <a:latin typeface="Arial"/>
                <a:ea typeface="Arial"/>
              </a:rPr>
              <a:t>169478</a:t>
            </a:r>
            <a:r>
              <a:rPr b="0" lang="it-IT" sz="1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Direttori dei corsi: </a:t>
            </a: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2.3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Tutor: </a:t>
            </a: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2.2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5410080"/>
            <a:ext cx="4191120" cy="1067040"/>
          </a:xfrm>
          <a:prstGeom prst="roundRect">
            <a:avLst>
              <a:gd name="adj" fmla="val 16667"/>
            </a:avLst>
          </a:prstGeom>
          <a:solidFill>
            <a:srgbClr val="ffffb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Formazione sulla Riform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Insegnanti, Tutor  e Direttori dei corsi: </a:t>
            </a: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46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(aggiornato al 8/04/03)</a:t>
            </a: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57680" y="2362320"/>
            <a:ext cx="6095880" cy="1295280"/>
          </a:xfrm>
          <a:prstGeom prst="roundRect">
            <a:avLst>
              <a:gd name="adj" fmla="val 16667"/>
            </a:avLst>
          </a:prstGeom>
          <a:solidFill>
            <a:srgbClr val="ffffb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Docenti neoassunti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Insegnanti neoassunti : </a:t>
            </a: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44.734</a:t>
            </a: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 (insegnanti di tutti i livelli scolastici </a:t>
            </a:r>
            <a:br>
              <a:rPr sz="1200"/>
            </a:b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e di tutte le regioni itali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Tutor: </a:t>
            </a: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2.2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Verdana"/>
              </a:rPr>
              <a:t>Direttori dei corsi: </a:t>
            </a: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2.373</a:t>
            </a:r>
            <a:br>
              <a:rPr sz="1200"/>
            </a:br>
            <a:r>
              <a:rPr b="1" lang="it-IT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680" y="825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Lo sviluppo del modello Punto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1880" y="244440"/>
            <a:ext cx="6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125360"/>
            <a:ext cx="7956720" cy="534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0" y="76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Il modello Punto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2720" y="244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" y="83628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I tasselli di Puntoedu - Co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20500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Contributi e/o saggi monografici ipertesualizzati corredati da Bibliografia, Approfondimenti, Sitografia,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76320" y="57150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813720" y="1557360"/>
            <a:ext cx="1790640" cy="1638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604360" y="2444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6227640" y="6237360"/>
            <a:ext cx="1368720" cy="620640"/>
          </a:xfrm>
          <a:custGeom>
            <a:avLst/>
            <a:gdLst>
              <a:gd name="textAreaLeft" fmla="*/ 39960 w 1368720"/>
              <a:gd name="textAreaRight" fmla="*/ 1328760 w 1368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20" h="21600">
                <a:moveTo>
                  <a:pt x="0" y="0"/>
                </a:moveTo>
                <a:lnTo>
                  <a:pt x="47620" y="0"/>
                </a:lnTo>
                <a:lnTo>
                  <a:pt x="47620" y="21600"/>
                </a:lnTo>
                <a:lnTo>
                  <a:pt x="0" y="21600"/>
                </a:lnTo>
                <a:close/>
              </a:path>
              <a:path fill="lightenLess" w="47620" h="21600">
                <a:moveTo>
                  <a:pt x="0" y="0"/>
                </a:moveTo>
                <a:lnTo>
                  <a:pt x="47620" y="0"/>
                </a:lnTo>
                <a:lnTo>
                  <a:pt x="46220" y="1400"/>
                </a:lnTo>
                <a:lnTo>
                  <a:pt x="1400" y="1400"/>
                </a:lnTo>
                <a:close/>
              </a:path>
              <a:path fill="darken" w="47620" h="21600">
                <a:moveTo>
                  <a:pt x="47620" y="0"/>
                </a:moveTo>
                <a:lnTo>
                  <a:pt x="47620" y="21600"/>
                </a:lnTo>
                <a:lnTo>
                  <a:pt x="46220" y="20200"/>
                </a:lnTo>
                <a:lnTo>
                  <a:pt x="46220" y="1400"/>
                </a:lnTo>
                <a:close/>
              </a:path>
              <a:path fill="darkenLess" w="47620" h="21600">
                <a:moveTo>
                  <a:pt x="47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20" y="20200"/>
                </a:lnTo>
                <a:close/>
              </a:path>
              <a:path fill="lighten" w="47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1520" y="1484280"/>
            <a:ext cx="1752840" cy="163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666880" y="350352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7848720" y="763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7848720" y="763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0" y="59436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76320" y="57150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220500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Contenitore di  “learning objects” che hanno la funzione primaria di supporto e spunti per la didat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2720" y="244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6300720" y="6237360"/>
            <a:ext cx="1511280" cy="620640"/>
          </a:xfrm>
          <a:custGeom>
            <a:avLst/>
            <a:gdLst>
              <a:gd name="textAreaLeft" fmla="*/ 39960 w 1511280"/>
              <a:gd name="textAreaRight" fmla="*/ 1471320 w 1511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52579" h="21600">
                <a:moveTo>
                  <a:pt x="0" y="0"/>
                </a:moveTo>
                <a:lnTo>
                  <a:pt x="52579" y="0"/>
                </a:lnTo>
                <a:lnTo>
                  <a:pt x="52579" y="21600"/>
                </a:lnTo>
                <a:lnTo>
                  <a:pt x="0" y="21600"/>
                </a:lnTo>
                <a:close/>
              </a:path>
              <a:path fill="lightenLess" w="52579" h="21600">
                <a:moveTo>
                  <a:pt x="0" y="0"/>
                </a:moveTo>
                <a:lnTo>
                  <a:pt x="52579" y="0"/>
                </a:lnTo>
                <a:lnTo>
                  <a:pt x="51179" y="1400"/>
                </a:lnTo>
                <a:lnTo>
                  <a:pt x="1400" y="1400"/>
                </a:lnTo>
                <a:close/>
              </a:path>
              <a:path fill="darken" w="52579" h="21600">
                <a:moveTo>
                  <a:pt x="52579" y="0"/>
                </a:moveTo>
                <a:lnTo>
                  <a:pt x="52579" y="21600"/>
                </a:lnTo>
                <a:lnTo>
                  <a:pt x="51179" y="20200"/>
                </a:lnTo>
                <a:lnTo>
                  <a:pt x="51179" y="1400"/>
                </a:lnTo>
                <a:close/>
              </a:path>
              <a:path fill="darkenLess" w="52579" h="21600">
                <a:moveTo>
                  <a:pt x="52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79" y="20200"/>
                </a:lnTo>
                <a:close/>
              </a:path>
              <a:path fill="lighten" w="52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920" y="83628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I tasselli di Puntoedu - Lab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5:04:39Z</dcterms:created>
  <dc:creator>Microsoft</dc:creator>
  <dc:description/>
  <dc:language>en-US</dc:language>
  <cp:lastModifiedBy>pavatti</cp:lastModifiedBy>
  <cp:lastPrinted>2003-04-08T11:38:45Z</cp:lastPrinted>
  <dcterms:modified xsi:type="dcterms:W3CDTF">2003-05-26T09:33:07Z</dcterms:modified>
  <cp:revision>110</cp:revision>
  <dc:subject/>
  <dc:title>Formazione sulla riforma</dc:title>
</cp:coreProperties>
</file>