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0989-D3D8-4FF4-ADE0-607F1FCF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B01A-AB4B-4A24-A882-201EFD96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0624-DD61-47E1-B615-76401A50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8F2-7EA9-43FC-9CD1-A3DABDEC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4D0B-9FF3-4255-91ED-BE474FAF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A97-0FA1-4812-A681-2AD21F73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E442-B22A-4379-A722-0E057342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220-BBED-4D5D-8688-0E2B071B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DEFA-34EF-4CDD-9A6F-F1E465AF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706-9AB4-4209-BE44-2E3C80B2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CE2-D92B-413C-B9D6-A2A571D1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34F-D31E-4EAD-A235-396BCB84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C22C-C743-4C5A-A07C-53DBEFAF4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RIFORMA MORATTI E SCUOLA DELL’INFANZ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4149360"/>
            <a:ext cx="6400800" cy="1536840"/>
          </a:xfrm>
          <a:prstGeom prst="rect">
            <a:avLst/>
          </a:prstGeom>
          <a:gradFill rotWithShape="0">
            <a:gsLst>
              <a:gs pos="0">
                <a:srgbClr val="bbe0e3">
                  <a:alpha val="49019"/>
                </a:srgbClr>
              </a:gs>
              <a:gs pos="100000">
                <a:srgbClr val="ffffff">
                  <a:alpha val="46274"/>
                </a:srgbClr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Alcune rifles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Maggio 2003 Incontri Provinciali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8147160" cy="543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7d4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ff"/>
                </a:solidFill>
                <a:latin typeface="Arial"/>
              </a:rPr>
              <a:t>AVVERTENZE E INDIC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ondo l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vvertenz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 aprono il testo elaborato dalla commissione, 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 indicazioni hann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rattere prescrittiv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→ vincolante e obbligatorio) e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plicitano i livelli essenziali di prestazio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 tutte le scuole dell’infanzia sono tenute ad assicurare al fine di garantire il diritto personale, sociale e civile all’istruzione e alla formazione di qualità delle bambine e dei bambini”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Maggio 2003 Incontri Provinciali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300880" cy="51130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INDICAZIONI E RACCOMAND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 è già detto che l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Raccomandazioni non hann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cu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alore ‘prescrittiv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’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 intendono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uggerir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e scuol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cune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ipotesi ed orientamenti scientificamente e professionalmente legittimati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 organizzare le attività dei bambini e pe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radurre le  Indicazioni nella concretezza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delle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differenti realtà scolastich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verso le quali salgono le domande formative espresse dalle comunità che abitano nei diversi territ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Maggio 2003 Incontri Provinciali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Arial"/>
              </a:rPr>
              <a:t>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è una collezione strutturata, selezionata e commentata di materiali paradigmatici prodotti dal bambino, che consente la ricostruzione del suo processo di maturazione e, allo stesso tempo, della maggiore o minore pertinenza degli interventi didattici adottati”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Maggio 2003 Incontri Provinciali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8360" y="476280"/>
          <a:ext cx="8207280" cy="61340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a scuola dell’infanz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mbiente educativo di esperienze concrete e di</a:t>
                      </a: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pprendimenti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teg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e differenti forme del</a:t>
                      </a:r>
                      <a:r>
                        <a:rPr b="0" lang="it-I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</a:tr>
              <a:tr h="335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47760" indent="-174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e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47760" indent="-174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ire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47760" indent="-174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sare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47760" indent="-174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ire relazionale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47760" indent="-174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rimere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47760" indent="-174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care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47760" indent="-174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stare il bello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47760" indent="-174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rire significa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47760" indent="-174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relazione personale tra pari e con gli adulti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47760" indent="-174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valorizzazione del gioco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47760" indent="-174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esperienza diretta con la natura, le cose, i materiali, l’ambiente sociale e la cultur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47760" indent="-174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a promozione di tutte le capacità personali di ogni bambi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 configura co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iritto soggettivo perfetto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Maggio 2003 Incontri Provinciali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8360" y="1773360"/>
          <a:ext cx="8229600" cy="491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81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biettivi generali</a:t>
                      </a:r>
                      <a:r>
                        <a:rPr b="0" lang="it-IT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449280">
                        <a:spcBef>
                          <a:spcPts val="550"/>
                        </a:spcBef>
                        <a:buClr>
                          <a:srgbClr val="0000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’identit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449280">
                        <a:spcBef>
                          <a:spcPts val="550"/>
                        </a:spcBef>
                        <a:buClr>
                          <a:srgbClr val="0000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’autonom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449280">
                        <a:spcBef>
                          <a:spcPts val="700"/>
                        </a:spcBef>
                        <a:buClr>
                          <a:srgbClr val="0000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a competenza.</a:t>
                      </a:r>
                      <a:r>
                        <a:rPr b="0" lang="it-IT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biettivi specifici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l sé e l’alt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0000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rpo movimento salu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0000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ruizione e produzione di   messagg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0000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splorare conoscere e progettar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</a:tr>
              <a:tr h="214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Gli obiettivi specifici diventano formativi se</a:t>
                      </a:r>
                      <a:r>
                        <a:rPr b="0" lang="it-IT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174600">
                        <a:spcBef>
                          <a:spcPts val="550"/>
                        </a:spcBef>
                        <a:buClr>
                          <a:srgbClr val="0000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seriti in una storia narrativa personale o di gruppo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174600">
                        <a:spcBef>
                          <a:spcPts val="550"/>
                        </a:spcBef>
                        <a:buClr>
                          <a:srgbClr val="0000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ercepiti come traguardi importanti e significativi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er la crescita individua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523880" y="692280"/>
          <a:ext cx="6096240" cy="704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biettivi generali e formati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Maggio 2003 Incontri Provinciali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stretch/>
          </a:blipFill>
          <a:ln w="3240">
            <a:solidFill>
              <a:srgbClr val="8e8d5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Obiettivi specifici di apprend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stretch/>
          </a:blipFill>
          <a:ln w="3240">
            <a:solidFill>
              <a:srgbClr val="8e8d5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l sé e l’altr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rpo movimento salu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ruizione e produzione di messagg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splorare conoscere e progettare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Maggio 2003 Incontri Provinciali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73960" cy="2305080"/>
          </a:xfrm>
          <a:prstGeom prst="rect">
            <a:avLst/>
          </a:prstGeom>
          <a:blipFill rotWithShape="0">
            <a:blip r:embed="rId1"/>
            <a:stretch/>
          </a:blipFill>
          <a:ln w="12600">
            <a:solidFill>
              <a:srgbClr val="8e8d5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it-IT" sz="2400" spc="-1" strike="noStrike">
                <a:solidFill>
                  <a:srgbClr val="666699"/>
                </a:solidFill>
                <a:latin typeface="Arial"/>
              </a:rPr>
              <a:t>Unità di apprendimento, </a:t>
            </a:r>
            <a:br>
              <a:rPr sz="2400"/>
            </a:br>
            <a:r>
              <a:rPr b="1" lang="it-IT" sz="2400" spc="-1" strike="noStrike">
                <a:solidFill>
                  <a:srgbClr val="666699"/>
                </a:solidFill>
                <a:latin typeface="Arial"/>
              </a:rPr>
              <a:t>individuali o di gruppo </a:t>
            </a:r>
            <a:br>
              <a:rPr sz="2400"/>
            </a:br>
            <a:r>
              <a:rPr b="1" lang="it-IT" sz="2400" spc="-1" strike="noStrike">
                <a:solidFill>
                  <a:srgbClr val="666699"/>
                </a:solidFill>
                <a:latin typeface="Arial"/>
              </a:rPr>
              <a:t>e</a:t>
            </a:r>
            <a:br>
              <a:rPr sz="2400"/>
            </a:br>
            <a:r>
              <a:rPr b="1" lang="it-IT" sz="2400" spc="-1" strike="noStrike">
                <a:solidFill>
                  <a:srgbClr val="666699"/>
                </a:solidFill>
                <a:latin typeface="Arial"/>
              </a:rPr>
              <a:t> Piano personalizzato delle</a:t>
            </a:r>
            <a:br>
              <a:rPr sz="2400"/>
            </a:br>
            <a:r>
              <a:rPr b="1" lang="it-IT" sz="2400" spc="-1" strike="noStrike">
                <a:solidFill>
                  <a:srgbClr val="666699"/>
                </a:solidFill>
                <a:latin typeface="Arial"/>
              </a:rPr>
              <a:t> attività educative</a:t>
            </a:r>
            <a:r>
              <a:rPr b="1" lang="it-IT" sz="2800" spc="-1" strike="noStrike">
                <a:solidFill>
                  <a:srgbClr val="66669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2781360"/>
            <a:ext cx="8372520" cy="3527280"/>
          </a:xfrm>
          <a:prstGeom prst="rect">
            <a:avLst/>
          </a:prstGeom>
          <a:blipFill rotWithShape="0">
            <a:blip r:embed="rId2"/>
            <a:stretch/>
          </a:blipFill>
          <a:ln w="12600">
            <a:solidFill>
              <a:srgbClr val="8e8d5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4367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367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6699"/>
                </a:solidFill>
                <a:latin typeface="Arial"/>
              </a:rPr>
              <a:t>Le Unità di apprendimento sono determin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367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6699"/>
                </a:solidFill>
                <a:latin typeface="Arial"/>
              </a:rPr>
              <a:t>dall’insieme di uno o più obiettivi formati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3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6699"/>
                </a:solidFill>
                <a:latin typeface="Arial"/>
              </a:rPr>
              <a:t>                   </a:t>
            </a:r>
            <a:r>
              <a:rPr b="0" lang="it-IT" sz="1800" spc="-1" strike="noStrike">
                <a:solidFill>
                  <a:srgbClr val="666699"/>
                </a:solidFill>
                <a:latin typeface="Arial"/>
              </a:rPr>
              <a:t>(assieme alle attività, ai metodi, alle soluzioni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3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666699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666699"/>
                </a:solidFill>
                <a:latin typeface="Arial"/>
              </a:rPr>
              <a:t>organizzative e alle modalità di verif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3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3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367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6699"/>
                </a:solidFill>
                <a:latin typeface="Arial"/>
              </a:rPr>
              <a:t>Il Piano personalizzato delle attività educ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367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6699"/>
                </a:solidFill>
                <a:latin typeface="Arial"/>
              </a:rPr>
              <a:t>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367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6699"/>
                </a:solidFill>
                <a:latin typeface="Arial"/>
              </a:rPr>
              <a:t>costitui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36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6699"/>
                </a:solidFill>
                <a:latin typeface="Arial"/>
              </a:rPr>
              <a:t>dall’insieme unità di apprendimento.</a:t>
            </a:r>
            <a:r>
              <a:rPr b="1" lang="it-IT" sz="2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36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3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36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Maggio 2003 Incontri Provinciali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dc1dc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Novità introdotte dalle Indic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c1dc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’istanza della continuità educativa orizzontale e vertic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a scelta dell’anticipazione da parte delle famiglie, che viene negoziata con il tutor che ha seguito il bambino durante la scuola dell’infanz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’articolazione della funzione docente è affidata a un docente coordinato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l tempo scuola viene articolato, a seconda delle necessità, con un monte ore annuale di 1000, 1300, 1500, 18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’organico è assegnato secondo le norme vig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(Si prevede un rapporto aggiuntivo di  1 docente ogni 8/10 bambini in  presenza di soggetti nella sezione di età inferiore ai tre ann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attraverso le convenzioni con gli enti locali, possono essere costituite sezioni con bambini di età inferiore ai tre anni di raccordo con gli asili nido per l’intero anno scolastico o per parti di es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Maggio 2003 Incontri Provinciali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stretch/>
          </a:blipFill>
          <a:ln w="1260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66"/>
                </a:solidFill>
                <a:latin typeface="Arial"/>
              </a:rPr>
              <a:t>CAMPI DI ESPERIE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889080"/>
          </a:xfrm>
          <a:prstGeom prst="rect">
            <a:avLst/>
          </a:prstGeom>
          <a:blipFill rotWithShape="0">
            <a:blip r:embed="rId2"/>
            <a:stretch/>
          </a:blipFill>
          <a:ln w="1260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Sono sempre i classici se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ma risultano spesso rivist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ampliati, suddivisi in sottotitol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contenenti nuove propos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con avverten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cautele metodologi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Maggio 2003 Incontri Provinciali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LEGA AL GOVERNO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FINIZIONE DELLE NORME GENERALI SULL’ISTRUZIONE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VELLI ESSENZIALI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STAZIONI IN MATERIA D’ISTRUZIONE E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AZIONE PROFESSIONAL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4869000"/>
            <a:ext cx="6985080" cy="15361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바탕"/>
              </a:rPr>
              <a:t>LA SCUOLA DELL’INFAN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Maggio 2003 Incontri Provinciali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 PRINCIPI  INNOV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gradFill rotWithShape="0">
            <a:gsLst>
              <a:gs pos="0">
                <a:srgbClr val="d8d7d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finizione norme generali istruzione livelli essenziali (→ documento dei “saggi”) delle prestazioni in materia di istruzione e di formazione professionale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iordina tutta la materia delle innovazion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one la persona umana al centro del sistema scolastico e dello sviluppo educati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’obbligo scolastico è riformulato nei termini di diritto - dover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atto educativo con le famiglie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765000"/>
            <a:ext cx="8207280" cy="97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Arial"/>
              </a:rPr>
              <a:t>Materie previste dopo le modifiche del titolo V della  Costituzione</a:t>
            </a: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567640" y="6308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Maggio 2003 Incontri Provinciali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gradFill rotWithShape="0">
            <a:gsLst>
              <a:gs pos="0">
                <a:srgbClr val="d8d7d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l percorso formativo si articola in tre cicl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’istruzione e la formazione professionale sono innalzate al rango di percorso alternativo a quello dei lice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l sistema dei “licei” è conferma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iene introdotta per la scuola l’alternanza di scuola - lavo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a valutazione diventa bienn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’ reintrodotta la valutazione della condott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765000"/>
            <a:ext cx="8207280" cy="97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Arial"/>
              </a:rPr>
              <a:t>Materie previste dopo le modifiche del titolo V della  Costituzione</a:t>
            </a: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26028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 PRINCIPI  INNOV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Maggio 2003 Incontri Provinciali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1209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 Legge 10 febbraio 2000 n. 30 recit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l sistema educativo di istruzione e di formazione è finalizzato alla crescita e alla valorizzazione della persona umana nel rispetto dei ritmi dell’età evolutiva, delle differenze e delle identità di ciascuno, nel quadro della cooperazione tra scuola e genitori, in coerenza con le disposizioni in materia di autonomia delle istituzioni scolastiche e secondo i principi sanciti dalla Costituzione  e dalla Dichiarazione dei diritti dell’uom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Maggio 2003 Incontri Provinciali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115092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ulazione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t. 1 Legge Delegat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 fine di favorire la crescita e la valorizzazione della persona umana, nel rispetto dell’età evolutiva, delle differenze e dell’identità di ciascuno e delle scelte educative della famiglia, nel quadro della cooperazione tra scuola e genitori, in coerenza con il principio di autonomia delle istituzioni scolastiche e secondo i principi sanciti dalla Costituzione, il Governo è delegato a adottare, entro 24 mesi dall’entrata in vigore della presente legge, nel rispetto delle competenze conferite ai diversi soggetti istituzionali, e dell’autonomia delle istituzioni scolastiche, uno o più decreti legislativi  per la definizione delle norme generali sull’istruzione e dei livelli essenziali delle prestazioni….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Maggio 2003 Incontri Provinciali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l testo reci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844640"/>
            <a:ext cx="8137440" cy="350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8d7d4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l sistema educativo di istruzione e di formazione si articola nella scuola dell’infanzia, in un primo ciclo che comprende la scuola primaria  e la secondaria di scuola grado, e in un secondo ciclo che comprende il sistema dei licei e il sistema dell’istruzione e della formazione professiona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Maggio 2003 Incontri Provinciali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1908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’art. 2 della legge 10 febbraio 2000 n. 30 recit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7d4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La scuola dell’infanzia, di durata triennale, concorre all’educazione e allo sviluppo affettivo, cognitivo e sociale dei bambini e delle bambine di età compresa tra i tre e i sei anni, promovendone  le potenzialità di autonomia, creatività, apprendimento e operando per assicurare un’effettiva eguaglianza delle opportunità educa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Nel rispetto dell’orientamento educativo dei genitori, concorre alla formazione integrale dei bambini e delle bambin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Maggio 2003 Incontri Provinciali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po aver assicurato la generalizzazione del servizio, stabilisce che alla scuola dell’inf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sono essere iscritti secondo criteri di gradualità e in forma di sperimentazione le bambine e i bambini che compiono i 3 anni di età entro il 30 aprile dell’anno scolastico di riferimento, anche in rapporto all’introduzione di nuove professionalità e modalità organizzativ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Beltramini - Maggio 2003 Incontri Provinciali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5:12:57Z</dcterms:created>
  <dc:creator> </dc:creator>
  <dc:description/>
  <dc:language>en-US</dc:language>
  <cp:lastModifiedBy> </cp:lastModifiedBy>
  <dcterms:modified xsi:type="dcterms:W3CDTF">2003-06-02T15:11:14Z</dcterms:modified>
  <cp:revision>79</cp:revision>
  <dc:subject/>
  <dc:title>PER UN’EDUCAZIONE LINGUISTICA INTEGRATA</dc:title>
</cp:coreProperties>
</file>