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938-84B5-4F04-8F15-8A32C4FD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582-6BBE-4061-A899-E3052E1E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A7A-8498-4065-9369-20147B55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761-05EE-4315-9299-D979B069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AF3-7878-4943-A515-FD1376F0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03D-A72E-4A6B-9DF9-41F07E72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137-6957-4CC1-B1A6-02889BF3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A45-6E8B-458D-B091-37926B45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761-19AC-4F93-AF6F-83133A81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A2E-CBCA-42C6-8782-C9FCB537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4CF-A944-4B78-8D70-93A0BB0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200-9950-44D3-91C8-01DC3E54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48E-9814-4214-905F-0A50120B09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petti problematici dei Progetti Pilota e nuovi compiti del Servizio Nazion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di Anna Maria Capu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Udine 28/10/200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ività di valutazione del sistema di istruzione a.s. 2004-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514600"/>
            <a:ext cx="13716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882880"/>
            <a:ext cx="12193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tazione es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Val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590920"/>
            <a:ext cx="1447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3657600"/>
            <a:ext cx="1447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66688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 di apprend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3733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mentario 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2743200"/>
            <a:ext cx="106668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733920"/>
            <a:ext cx="106668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2819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u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3733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tituzione Scola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3154320"/>
            <a:ext cx="99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2971800"/>
            <a:ext cx="12193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tazione in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tituzione Scola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1980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ioni corret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8288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4800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6022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smissione risult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51814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9816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smissione elab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2514600"/>
            <a:ext cx="13716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6960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3244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209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3429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tazione degli apprendime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petenza del Ministro le discipline da indaga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ivelli scolastici e periodo di somministrazione per il I ciclo contenuti nella Riforma (D.lgs. N. 59 2004) (fissi, inizio I, II e III biennio, obbligatorietà pubbliche e paritari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petenza del Ministro indicare i livelli scolastici e il periodo di somministrazione per il II ciclo (volontarietà, I e III secondaria II grado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e disciplinari da indagar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 criter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48436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Continuità con la fase sperimentale (PP), scelta condizionata: italiano, matematica, scienze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le stesse discipline per tutti i livelli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i nuclei disciplinari essenziali (conoscenze ed abilità) determinati dal GdL per la predisposizione delle prove.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 strument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 oggettive con quesiti a scelta multipla (3 alternative di risposta in II primaria, 4/5 alternative di risposta per gli altri livelli) (edizioni per i diversamente abili visivam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e di supporto (manuali, elenchi, moduli somministrazione, ecc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ario insegnante on-line sulle opportunità di apprendimento (solo per gli insegnanti delle discipline indaga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ro (questionario on-line sulle edizioni delle prove per i diversamente abili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 classi dei livelli indagati partecipan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utte per le Istituzioni scolastiche del I ciclo pubbliche e paritarie funzionanti in Italia (ad esclusione delle Is della Val D’Aosta, di Tn e di Bz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lo le classi iscritte per le Is del II ciclo e per Is del I ciclo non pubbliche e non paritarie o della Val D’Aosta, di Tn e di Bz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Quale modalità di somministrazione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elta della Istituzione scolastica t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acea con materiale inviato al Dirigente scolast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ca se disponibile un’attrezzatura informatica che soddisfi alcuni criter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ta, alcune classi con modalità informatica e le rimanenti classi con modalità cartace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 per la somministrazione informa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guardano essenzialmente la dotazione informatica della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umero dei laboratori (almeno un laboratorio o un aula attrezza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umero dei computer (almeno 10 Pc per laboratorio o aul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llegamento in rete locale dei computer di ogni laboratorio (o aula attrezz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cesso diretto a internet da ogni laboratorio (o aula attrezz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Vincoli per Is aderenti alla somministrazione informa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tte le classi coinvolte devono svolgere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emporan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 prove rispettando i tempi di somministrazione previsti (forma cartacea e informatic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classe può al massimo essere divisa in due gruppi distinti che effettuano la prova in ordine temporale successivo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numero di classi deve essere non più del doppio del numero di laboratori disponibili (la compilazione non può superare l’arco di una giorna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e periodo di somministrazi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imes New Roman"/>
              </a:rPr>
              <a:t>Prima metà di aprile con arrivo dei materiali cartacei nelle scuole (all’attenzione del Dirigente scolastico) prima di Pasqua per permettere l’organizzazione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imes New Roman"/>
              </a:rPr>
              <a:t>tre giorni per le Is del I ciclo a partecipazione obbligatoria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imes New Roman"/>
              </a:rPr>
              <a:t>tre giorni + tre giorni di recupero per le Is a partecipazione volontaria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razioni a cura delle Istituzioni scolastic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le Is del I ciclo a partecipazione obbligato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riconfermare i propri dati anagrafici già in possesso dell’INValSI attraverso modulo on-line sul sito INValS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per ogni classe, oltre a fornire alcune informazioni (sezione, numero studenti, ecc.), scegliere la modalità di somministrazion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fornire il nominativo del coordinatore referente per l’Is e il nominativo del coordinatore referente per la somministrazione informatica se prevista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2296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etti pilota (2001-2004): perch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perimentare il modello di SNVI messo a punto dal GdL (definizione, finalità e caratteristich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mulazione dinamica in un ambiente definito di un modello di servizio (individuazione aspetti non funzionali, modifica del modello, prova sul campo, ecc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articolarmente osservato aspetto organizzativo, logistico ed econom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razioni a cura delle Istituzioni scolastic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le Is a partecipazione volonta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crizione della Is on-line sul sito dell’INValSI come lo scorso ann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crizione delle classi partecipanti e scelta della modalità di somministrazio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nire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il nominativo del coordinatore referente per l’Is e il nominativo del coordinatore referente per la somministrazione informatica se prevista.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 sta costruendo le prove?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Gruppo di lavoro (GdL), esperti disciplinari provenienti dal mondo accademico, dal mondo della scuola e da ricercatori INValSI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esieduto dal Presidente dell’INValS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ordinato da alcuni membri del CTS e dall’INValS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 continuità con i PP ha utilizzato il medesimo gruppo di esperti integrandolo con esperti provenienti dal mondo della scu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 sta costruendo le prove?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ddiviso per sottogruppi disciplinar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taliano, coordinato dal prof. Manzotti (Univ. Ginevra, 14 espert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tematica, coordinato dal prof. Marchi (Univ. Cattolica, Brescia; 17 espert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cienze, raggruppa 5 discipline, coordinato dai prof. Casati (Univ. Como) e Pallottino (Univ. La Sapienza, Roma) (19 esperti + 3 docenti universitari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 criteri per la costruzio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le prove?   (1/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si approfondita degli item PP3 (calibrazione degli ite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zione di un numero limitato di conoscenze ed abilità ritenute irrinunciabili (essenziali), acquisite nel biennio precedente, tenendo conto delle indicazioni nazionali, degli OSA (I ciclo) e dei “programmi” effettivamente e generalmente sviluppat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orsività di alcune conoscenze ed abilità in più livelli ed esplorazione con complessità crescente;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 criteri per la costruzio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le prove?   (2/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ruttura dei quesiti per riflettere e non per rispondere meccanicamen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iformità della struttura (quesiti a scelta multipla per consentire la lettura ottica e restituire gli esiti alle Is in tempi brev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urata della prova non superiore ad 1 ora e per la II primaria a 30 minuti (3 gg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aratura dei quesiti nel pretesting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 criteri per la costruzio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le prove?   (3/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l I ciclo predisposizione di una prova per disciplina e per livell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la secondaria di II gr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la I classe, nessuna differenziazione (a regime somministrazione ad inizio di a. s., testano conoscenze ed abilità acquisite nella scuola secondaria di I grad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41911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 criteri per la costruzio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le prove?   (4/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la classe III, diverso comportamento a seconda delle discip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iano, nessuna differenziazione perché si saggiano conoscenze ed abilità di base (linguistica e non “culturale”) che tutti gli studenti debbono possedere dopo 10 anni di scolarità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matica, 2 forme della stessa prova: una di alfabetizzazione matematica (concetti di base, argomenti fondamentali ed applicazioni) ed una specialistica (prassi didattica consolidata, argomenti esplorati in profondità, liceo scientifico, ITI, ec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 criteri per la costruzio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le prove?   (5/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Scienze, 2 forme della stessa prova: una prova di alfabetizzazione scientifica (conoscenza ed abilità di carattere fondamentale); una specialistica che implica conoscenze ed abilità più specifiche (linguaggi specialistici) relative alla Chimica e Fisica (ITI e licei scientifici tecnologici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il campi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 la scuola primaria e secondari di I grado, nessun campione vista l’obbligatorietà per le scuole pubbliche e paritar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 la scuola secondaria di II grado, progettazione di un campione per la I classe e per la III (relativamente al solo Italiano, difficoltà a reperire le informazioni sulle tipologie delle classi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diversamente abil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motori e sensoriali partecipazione alle prove con edizioni ad hoc (braille, caratteri ingranditi, ecc.) o accorgimenti in sede di somministrazione (insegnante di sostegno che conosce il linguaggio dei gesti, prolungamento della sessione di somministrazione, ecc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i mentali l’Is preparerà le prove, anche attingendo dalle prove nazionali, e somministrerà in contemporanea. Invierà tali prove all’INValSI che costruirà un archiv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V: quale compi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mento per la gestione in qualità del Sistema dell’Istruzione da parte dei vari centri decisionali (Ministero, eventualmente enti locali e scuo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 alunni con D.S.A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Ogni alunno possiede personali risorse e disabilità diverse per affrontare lettura, scrittura e calcol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verrà chiesto in sede di conferma/iscrizione se presenti nella Is e di cosa si avvalgono abitualmente (lettore o strumenti compensativi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consigli in sede di manuale di somministrazione (tempi più lunghi, presenza insegnante sostegno, lettore, ecc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decisione Is cosa somministrare (numero inferiore di item, suddivisione della prova, ecc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retesting : scelt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ministrazione in un campione di giudizio (facilità di somministrazione e massima collaborazione da parte dei somministratori), equilibrato sul territorio per I ciclo e presenza di numerosi indirizzi per scuola secondaria di II grado (classe III, 2 forme per matematica e scien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divisione dei quesiti in molti fascicoli (tempo di somministrazione basso) senza banalizzare, ad esempio in II primaria per matematica 4 test di 16-18 quesiti in 25 minuti, per italiano 3 test con una breve storia e 19 quesiti in 25 minuti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retesting: scelt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472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ministrati a metà novembre in una classe successiva a quella oggetto di rilevazione (III e V primaria, II secondaria di I grado, II e IV secondaria di II grad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 di sce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matematica e scienze, indice di facilità medio facile ed indice di discriminazione eleva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taliano, indice di consistenza interna elevato (testo con relativi quesit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zione o modifica dei distrattori non funzionanti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ulati base della 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erformance di uno studente in un item di un test può essere predetta (spiegata) da un insieme di fattori (tratti latenti, abilità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lazione fra la performance di uno studente in un item e l’insieme dei tratti latenti può essere descritta da una funzione monotona crescente, chiamata curva caratteristica dell’item (IC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lo matematico logistico ad un paramet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, 2, 3,…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0" y="5205240"/>
                <a:ext cx="1992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ulati base della 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restazione (performance) di uno studente in un item di un test può essere predetta (spiegata) da un insieme di fattori (tratti latenti, abilità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lazione fra la performance di uno studente in un item e l’insieme dei tratti latenti può essere descritta da una funzione monotona crescente, chiamata curva caratteristica dell’item (IC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lo matematico logistico ad un paramet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, 2, 3,…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5205240"/>
                <a:ext cx="1992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490760" y="1490760"/>
          <a:ext cx="616428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490760"/>
                    <a:ext cx="616428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54200" y="228600"/>
          <a:ext cx="7634160" cy="6400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200" y="228600"/>
                    <a:ext cx="76341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157280" y="4683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igur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90000">
            <a:off x="-511560" y="319464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à di risposta cor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6324480"/>
            <a:ext cx="6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6324480"/>
            <a:ext cx="6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61840" y="5791320"/>
            <a:ext cx="214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nteggio dello stud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6720" y="62596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icoltà dell’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50400" y="14590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182880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26960" y="244944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93432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5288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9548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ematica classe IV superio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cicol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00000" y="1700280"/>
            <a:ext cx="7209000" cy="4664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8728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isponde a 1,2 c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ematica classe IV superio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cicol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1916280"/>
            <a:ext cx="7564320" cy="4671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8728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isponde a 1,4 c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V: quale caratteristiche?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1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ensimento: misurare scuola per scuola le uscite del sistema istruzione (obiettivi nazionali) indicate dal Ministr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zione tempestiva e sistematica (annualmente) dei punti critici (scuola per scuola) per eventuali azioni correttive e allocazioni di risorse (secondo diversi livelli di responsabilità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V: quale caratteristiche?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2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1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zo di parametri (durante la misura e nella fase di elaborazione ed analisi) coerenti con quelli usati dai servizi di valutazione comunitari ed internazional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orse congruenti con il bilanc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: che cosa hanno dimostrato? (1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à di coesistenza nella stessa indagine di una rilevazione volontaria e di una rilevazione campionar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raticabilità del modello su grandi numer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ormazione necessaria per preparare gli insegnanti a svolgere questo compi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tà della struttura dell’INValSI e degli organi centrali e periferici del Ministero a gestire operazioni di così grandi dimensioni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: che cosa hanno dimostrato? (2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modalità d’elaborazione dei dati e d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in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utili per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 livello centra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capacità delle scuole di elaborare (valutazione interna) i dati della valutazione nazionale (valutazione esterna) per il loro miglioramento continu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adeguatezza dei sistemi informatici del Miur, dell’INValSI e delle scuole alle nuove esigenz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modalità di pubblicazione dei dat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P: problemi aperti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o di nuove prove (item non equivalenti) ad ogni rilevazione non permette la costruzione di serie storich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uso degli insegnanti come somministratori (garanzia del rispetto delle procedure di somministrazion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lta per il superiore di testare saperi ed abilità indipendenti dagli indirizzi, di carattere di 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canza di un questionario studenti (costruzione di indici a livello di sistem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: problemi aperti (2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o da parte dell’Amministrazione (centrale e periferica) dei dati raccolt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porto tra i dati della somministrazione cartacea e informatica (affidabilità, equivalenza delle prove, tempi, abilità, ecc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borazione ed analisi dei dati dei diversamente abili visivame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to delle esclusioni e loro legittimità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porto tra gli esiti della rilevazione sugli apprendimenti e dati del questionario di sistema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4:51:08Z</dcterms:created>
  <dc:creator>Anna Maria</dc:creator>
  <dc:description/>
  <dc:language>en-US</dc:language>
  <cp:lastModifiedBy>Isp. Luigi Torchio</cp:lastModifiedBy>
  <dcterms:modified xsi:type="dcterms:W3CDTF">2004-11-01T21:36:43Z</dcterms:modified>
  <cp:revision>28</cp:revision>
  <dc:subject/>
  <dc:title>Aspetti problematici dei Progetti Pilota e nuovi compiti del Servizio Nazionale</dc:title>
</cp:coreProperties>
</file>