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6DE3-110F-46F4-AEDB-EDA675FE3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21D0-B5CE-4969-8319-E593CFA7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7E4B-142C-4112-80EB-8F71DD69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68D8-4F30-414F-9DD2-12C2329F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72A6-67B6-4800-8DF0-9606EDF08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4C62-F5F9-4AD0-8565-F197CE13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F06C-E10B-42AF-B869-F7D55DD5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E506-C138-4725-B529-E1047EC5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3B5F-9037-44E5-A932-5D8BC912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D046-7EDB-49F9-A827-B9D63ADD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D2AF-5E60-4515-86C3-2E667EAD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5DE6-34C4-4BED-B79F-11094459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52BC-47C8-4AFF-931B-71C4B8AF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2195-2B61-4DE9-B4DA-E1478D26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27E8-352F-4602-B7A7-D5F3AB61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AD10-406F-4245-B099-9E9C874A8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5CD2-E047-444A-9634-1FBFA6FE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E01C-4E58-4572-860F-C3EDB3CD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D62A-EFA0-43D5-945E-49392E12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C2DE-3BA4-4B68-9473-F548568D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77D5-BE86-458D-9211-734B8810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4B85-FDCA-443C-B477-ABF2FEAF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DDF3-BB6A-4407-87CE-106529AE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B0C8-F8E0-4466-9A7D-3ABD02B3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FECA-5AA1-4339-923A-34984971558E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958A-4FCB-4A58-B790-9F773899B00F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62120" y="457200"/>
            <a:ext cx="895320" cy="47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p3.invalsi.it/Default_Informatica.htm" TargetMode="External"/><Relationship Id="rId3" Type="http://schemas.openxmlformats.org/officeDocument/2006/relationships/hyperlink" Target="http://pp3.invalsi.it/Default_Informatica.htm" TargetMode="External"/><Relationship Id="rId4" Type="http://schemas.openxmlformats.org/officeDocument/2006/relationships/hyperlink" Target="http://pp3.invalsi.it/Default_Informatica.htm" TargetMode="External"/><Relationship Id="rId5" Type="http://schemas.openxmlformats.org/officeDocument/2006/relationships/hyperlink" Target="http://pp3.invalsi.it/Default_Informatica.htm" TargetMode="External"/><Relationship Id="rId6" Type="http://schemas.openxmlformats.org/officeDocument/2006/relationships/hyperlink" Target="http://pp3.invalsi.it/Default_Informatica.htm" TargetMode="External"/><Relationship Id="rId7" Type="http://schemas.openxmlformats.org/officeDocument/2006/relationships/hyperlink" Target="http://pp3.invalsi.it/Default_Informatica.htm" TargetMode="External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nvinformatica.invalsi.it/" TargetMode="External"/><Relationship Id="rId3" Type="http://schemas.openxmlformats.org/officeDocument/2006/relationships/hyperlink" Target="http://snvinformatica.invalsi.it/" TargetMode="External"/><Relationship Id="rId4" Type="http://schemas.openxmlformats.org/officeDocument/2006/relationships/hyperlink" Target="http://snvinformatica.invalsi.it/" TargetMode="External"/><Relationship Id="rId5" Type="http://schemas.openxmlformats.org/officeDocument/2006/relationships/hyperlink" Target="http://snvinformatica.invalsi.it/" TargetMode="External"/><Relationship Id="rId6" Type="http://schemas.openxmlformats.org/officeDocument/2006/relationships/hyperlink" Target="http://snvinformatica.invalsi.it/html/FAQ.htm" TargetMode="External"/><Relationship Id="rId7" Type="http://schemas.openxmlformats.org/officeDocument/2006/relationships/hyperlink" Target="http://snvinformatica.invalsi.it/Documenti/Perception_togo/ManualePerLaSomministrazioneinformatica31_01_05.doc" TargetMode="External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nvinformatica.invalsi.it/Documenti/SeminarioSNV%202004/Presenter/Presenter.exe" TargetMode="External"/><Relationship Id="rId3" Type="http://schemas.openxmlformats.org/officeDocument/2006/relationships/hyperlink" Target="http://snvinformatica.invalsi.it/Documenti/SeminarioSNV%202004/Presenter/Presenter.exe" TargetMode="External"/><Relationship Id="rId4" Type="http://schemas.openxmlformats.org/officeDocument/2006/relationships/hyperlink" Target="http://snvinformatica.invalsi.it/Documenti/SeminarioSNV%202004/Presenter/Presenter.exe" TargetMode="External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p3.invalsi.it/Default_Informatica.htm" TargetMode="External"/><Relationship Id="rId3" Type="http://schemas.openxmlformats.org/officeDocument/2006/relationships/hyperlink" Target="http://pp3.invalsi.it/Default_Informatica.htm" TargetMode="External"/><Relationship Id="rId4" Type="http://schemas.openxmlformats.org/officeDocument/2006/relationships/hyperlink" Target="http://pp3.invalsi.it/Default_Informatica.htm" TargetMode="External"/><Relationship Id="rId5" Type="http://schemas.openxmlformats.org/officeDocument/2006/relationships/hyperlink" Target="http://pp3.invalsi.it/Default_Informatica.htm" TargetMode="External"/><Relationship Id="rId6" Type="http://schemas.openxmlformats.org/officeDocument/2006/relationships/hyperlink" Target="http://pp3.invalsi.it/Default_Informatica.htm" TargetMode="External"/><Relationship Id="rId7" Type="http://schemas.openxmlformats.org/officeDocument/2006/relationships/hyperlink" Target="http://pp3.invalsi.it/Default_Informatica.htm" TargetMode="External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228600"/>
            <a:ext cx="8229600" cy="55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888ae"/>
                </a:solidFill>
                <a:latin typeface="Tahoma"/>
              </a:rPr>
              <a:t>Servizio Nazionale di Valutazione 2004 - 2005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660066"/>
                </a:solidFill>
                <a:latin typeface="Tahoma"/>
              </a:rPr>
              <a:t>Le azioni per la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660066"/>
                </a:solidFill>
                <a:latin typeface="Tahoma"/>
              </a:rPr>
              <a:t>somministrazione informatica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888ae"/>
                </a:solidFill>
                <a:latin typeface="Tahoma"/>
              </a:rPr>
              <a:t>A cura del prof. Mauro Bullo  - gruppo  regionale per il sistema di valutazione USR FVG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L’attività di simulazione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1219320"/>
            <a:ext cx="8382240" cy="51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i possono riutilizzare le prove dell’anno scorso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Una volta entrati nel sito INVALSI alla pagina:</a:t>
            </a:r>
            <a:br>
              <a:rPr sz="2200"/>
            </a:b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2200" spc="-1" strike="noStrike" u="sng">
                <a:solidFill>
                  <a:srgbClr val="0000c6"/>
                </a:solidFill>
                <a:uFillTx/>
                <a:latin typeface="Verdana"/>
                <a:ea typeface="Times New Roman"/>
                <a:hlinkClick r:id="rId2"/>
              </a:rPr>
              <a:t>http://pp3.invalsi.</a:t>
            </a:r>
            <a:r>
              <a:rPr b="0" lang="it-IT" sz="2200" spc="-1" strike="noStrike" u="sng">
                <a:solidFill>
                  <a:srgbClr val="0000c6"/>
                </a:solidFill>
                <a:uFillTx/>
                <a:latin typeface="Verdana"/>
                <a:ea typeface="Times New Roman"/>
                <a:hlinkClick r:id="rId3"/>
              </a:rPr>
              <a:t>it</a:t>
            </a:r>
            <a:r>
              <a:rPr b="0" lang="it-IT" sz="2200" spc="-1" strike="noStrike" u="sng">
                <a:solidFill>
                  <a:srgbClr val="0000c6"/>
                </a:solidFill>
                <a:uFillTx/>
                <a:latin typeface="Verdana"/>
                <a:ea typeface="Times New Roman"/>
                <a:hlinkClick r:id="rId4"/>
              </a:rPr>
              <a:t>/</a:t>
            </a:r>
            <a:r>
              <a:rPr b="0" lang="it-IT" sz="2200" spc="-1" strike="noStrike" u="sng">
                <a:solidFill>
                  <a:srgbClr val="0000c6"/>
                </a:solidFill>
                <a:uFillTx/>
                <a:latin typeface="Verdana"/>
                <a:ea typeface="Times New Roman"/>
                <a:hlinkClick r:id="rId5"/>
              </a:rPr>
              <a:t>Default</a:t>
            </a:r>
            <a:r>
              <a:rPr b="0" lang="it-IT" sz="2200" spc="-1" strike="noStrike" u="sng">
                <a:solidFill>
                  <a:srgbClr val="0000c6"/>
                </a:solidFill>
                <a:uFillTx/>
                <a:latin typeface="Verdana"/>
                <a:ea typeface="Times New Roman"/>
                <a:hlinkClick r:id="rId6"/>
              </a:rPr>
              <a:t>_Informatica.</a:t>
            </a:r>
            <a:r>
              <a:rPr b="0" lang="it-IT" sz="2200" spc="-1" strike="noStrike" u="sng">
                <a:solidFill>
                  <a:srgbClr val="0000c6"/>
                </a:solidFill>
                <a:uFillTx/>
                <a:latin typeface="Verdana"/>
                <a:ea typeface="Times New Roman"/>
                <a:hlinkClick r:id="rId7"/>
              </a:rPr>
              <a:t>htm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i clicca sul pulsante “Accesso prove di apprendimento”</a:t>
            </a:r>
            <a:br>
              <a:rPr sz="2200"/>
            </a:b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nel campo “nome” si digita “prova”</a:t>
            </a:r>
            <a:br>
              <a:rPr sz="2200"/>
            </a:b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nel campo “password” si digita “prova”</a:t>
            </a:r>
            <a:br>
              <a:rPr sz="2200"/>
            </a:b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i clicca sul pulsante “Inizia i Test”</a:t>
            </a:r>
            <a:br>
              <a:rPr sz="2200"/>
            </a:b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di seguito si inserisce il codice di accesso alle prove per la simulazione: “12345”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Lo svolgimento delle prove: la tempistica /1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981000"/>
            <a:ext cx="80755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Calendario delle sessioni di prova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br>
              <a:rPr sz="2200"/>
            </a:b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[sessione ordinaria ed eventuale sessione di recupero]: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Nelle prime due settimane di aprile 2005 </a:t>
            </a:r>
            <a:br>
              <a:rPr sz="2200"/>
            </a:b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[4 e 16 inclusi]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Ordine della somministrazione: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Italiano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prima giornata, al mattin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Matematica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econda giornata, al mattin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cienze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terza  giornata, al mattino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In caso di somministrazione mista le prove devono essere somministrate in contemporanea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Lo svolgimento delle prove: la tempistica /2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990720"/>
            <a:ext cx="80755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La condizioni prestabilite: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lvl="1" marL="1130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una classe può al massimo essere divisa in due gruppi distinti e in due turni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lvl="1" marL="1130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gli studenti del primo turno dovranno compilare le prove  identificate dal codice A, quelli del secondo turno dal codice B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lvl="1" marL="1130400" indent="-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per una corretta gestione dei turni si rimanda alle proposte rintracciabili sul manuale d’uso [Caratteristiche operative della compilazione delle prove di apprendimento – gestione per turni – Strategia 1 e 2]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I codici di esclusione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762120"/>
            <a:ext cx="80755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Il coordinatore scolastico deve compilare e inviare all’INVALSI l’elenco delle classi e degli studenti. Tale elenco è fondamentale per l’assegnazione dei codici di esclusione alle prove che, pur essendo svolte, non dovranno essere tenute in considerazione in fase di elaborazione dei dati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523880" y="3048120"/>
            <a:ext cx="5715000" cy="3068640"/>
          </a:xfrm>
          <a:prstGeom prst="rect">
            <a:avLst/>
          </a:prstGeom>
          <a:ln w="9360">
            <a:solidFill>
              <a:srgbClr val="545472"/>
            </a:solidFill>
            <a:miter/>
          </a:ln>
        </p:spPr>
      </p:pic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79246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L’indagine sperimentale /1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600200"/>
            <a:ext cx="80758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Gli obiettivi: verificare se e in quale misura  la compilazione informatica: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lvl="1" marL="1130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influenza le risposte degli studenti agli stimoli proposti dalle prove di apprendimento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lvl="1" marL="1130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dipende dalla conoscenza delle TIC derivante da attività scolastica, extrascolastica, dalla situazione familiare e, in generale, dalle esperienze personali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L’indagine sperimentale /2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762120"/>
            <a:ext cx="80755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La verifica si farà con due questionari: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lvl="1" marL="1130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l questionario dello student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[informazioni su aspetti socio-culturali della famiglia, interessi, motivazioni e atteggiamenti nei confronti dello studio]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lvl="1" marL="1130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l questionario dell’insegnant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[informazioni su anagrafica e curricolo dell’insegnante, motivazioni e aspettative circa l’insegnamento, aspetti qualificanti della didattica]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I questionari, la cui compilazione non è obbligatoria,  si potranno fare al termine della terza prova o nei giorni successivi. La loro compilazione dovrà essere conclusa in ogni caso entro la settimana successiva a quella della somministrazione delle prove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Il monitoraggio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838080"/>
            <a:ext cx="8075520" cy="53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Gli obiettivi del monitoraggio sono due: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controllare in tempo reale lo svolgimento della somministrazione informatica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re i punti di forza e di debolezza delle modalità operative prescelte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Il monitoraggio sarà effettuato con liste di controllo, presentate sotto forma di schede digitali, inerenti le seguenti attività: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imes New Roman"/>
            </a:endParaRPr>
          </a:p>
          <a:p>
            <a:pPr lvl="1" marL="1130400" indent="-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volgimento della somministrazione informatica [scheda per il coordinatore scolastico]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lvl="1" marL="1130400" indent="-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ilazione delle prove di apprendimento da parte degli studenti [scheda per i docenti somministratori]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lvl="1" marL="1130400" indent="-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ilazione del Questionario [scheda per i dirigenti scolastici]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Assistenza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762120"/>
            <a:ext cx="807588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er tutte le attività concernenti la somministrazione informatica l’indirizzo web sul sito INVALSI cui fare riferimento è: </a:t>
            </a:r>
            <a:r>
              <a:rPr b="0" lang="it-IT" sz="1800" spc="-1" strike="noStrike" u="sng">
                <a:solidFill>
                  <a:srgbClr val="0000c6"/>
                </a:solidFill>
                <a:uFillTx/>
                <a:latin typeface="Verdana"/>
                <a:ea typeface="Times New Roman"/>
                <a:hlinkClick r:id="rId2"/>
              </a:rPr>
              <a:t>http://</a:t>
            </a:r>
            <a:r>
              <a:rPr b="0" lang="it-IT" sz="1800" spc="-1" strike="noStrike" u="sng">
                <a:solidFill>
                  <a:srgbClr val="0000c6"/>
                </a:solidFill>
                <a:uFillTx/>
                <a:latin typeface="Verdana"/>
                <a:ea typeface="Times New Roman"/>
                <a:hlinkClick r:id="rId3"/>
              </a:rPr>
              <a:t>snvinformatica</a:t>
            </a:r>
            <a:r>
              <a:rPr b="0" lang="it-IT" sz="1800" spc="-1" strike="noStrike" u="sng">
                <a:solidFill>
                  <a:srgbClr val="0000c6"/>
                </a:solidFill>
                <a:uFillTx/>
                <a:latin typeface="Verdana"/>
                <a:ea typeface="Times New Roman"/>
                <a:hlinkClick r:id="rId4"/>
              </a:rPr>
              <a:t>.invalsi.</a:t>
            </a:r>
            <a:r>
              <a:rPr b="0" lang="it-IT" sz="1800" spc="-1" strike="noStrike" u="sng">
                <a:solidFill>
                  <a:srgbClr val="0000c6"/>
                </a:solidFill>
                <a:uFillTx/>
                <a:latin typeface="Verdana"/>
                <a:ea typeface="Times New Roman"/>
                <a:hlinkClick r:id="rId5"/>
              </a:rPr>
              <a:t>it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In caso di dubbi o difficoltà si possono consultare le </a:t>
            </a:r>
            <a:r>
              <a:rPr b="0" lang="it-IT" sz="1800" spc="-1" strike="noStrike" u="sng">
                <a:solidFill>
                  <a:srgbClr val="0000c6"/>
                </a:solidFill>
                <a:uFillTx/>
                <a:latin typeface="Verdana"/>
                <a:ea typeface="Times New Roman"/>
                <a:hlinkClick r:id="rId6"/>
              </a:rPr>
              <a:t>risposte alle domande più frequenti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all’indirizzo: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http://snvinformatica.invalsi.it/html/FAQ.htm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empre da INVALSI si può scaricare il </a:t>
            </a:r>
            <a:r>
              <a:rPr b="0" lang="it-IT" sz="1800" spc="-1" strike="noStrike" u="sng">
                <a:solidFill>
                  <a:srgbClr val="0000c6"/>
                </a:solidFill>
                <a:uFillTx/>
                <a:latin typeface="Verdana"/>
                <a:ea typeface="Times New Roman"/>
                <a:hlinkClick r:id="rId7"/>
              </a:rPr>
              <a:t>Manuale d’us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per la somministrazione informatica, all’indirizzo: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http://snvinformatica.invalsi.it/Documenti/Perception_togo/ManualePerLaSomministrazioneinformatica31_01_05.doc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Una presentazione dell’installazione del software </a:t>
            </a:r>
            <a:r>
              <a:rPr b="0" i="1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erception To G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può essere scaricata dal sito dell’USR del Friuli Venezia Giulia, all’indirizzo: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http://www.scuola.fvg.it/frame.asp?t=tit_proget.htm&amp;pg=/scuolefvg/menu.asp?num=72 alla voce “Sistema Nazionale di Valutazione”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 può prendere contatto con il referente regionale per la somministrazione informatica, Prof. Mauro Bullo – tel 0404194171 - mail mauro.bullo1@istruzione.it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68580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Le azioni per la somministrazione informatica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981000"/>
            <a:ext cx="7848360" cy="47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545472"/>
                </a:solidFill>
                <a:latin typeface="Tahoma"/>
              </a:rPr>
              <a:t>La somministrazione informatica prevede: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545472"/>
                </a:solidFill>
                <a:latin typeface="Tahoma"/>
              </a:rPr>
              <a:t>registrazione delle Istituzioni e delle classi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545472"/>
                </a:solidFill>
                <a:latin typeface="Tahoma"/>
              </a:rPr>
              <a:t>definizione di un responsabile e dei somministratori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545472"/>
                </a:solidFill>
                <a:latin typeface="Tahoma"/>
              </a:rPr>
              <a:t>installazione del software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545472"/>
                </a:solidFill>
                <a:latin typeface="Tahoma"/>
              </a:rPr>
              <a:t>modalità di somministrazione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545472"/>
                </a:solidFill>
                <a:latin typeface="Tahoma"/>
              </a:rPr>
              <a:t>attività di simulazione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545472"/>
                </a:solidFill>
                <a:latin typeface="Tahoma"/>
              </a:rPr>
              <a:t>svolgimento prove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545472"/>
                </a:solidFill>
                <a:latin typeface="Tahoma"/>
              </a:rPr>
              <a:t>compilazione dei questionari per l’indagine sperimentale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545472"/>
                </a:solidFill>
                <a:latin typeface="Tahoma"/>
              </a:rPr>
              <a:t>compilazione delle schede di monitoraggi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6705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La registrazione delle Istituzioni e delle classi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981000"/>
            <a:ext cx="784836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45472"/>
                </a:solidFill>
                <a:latin typeface="Verdana"/>
                <a:ea typeface="Times New Roman"/>
              </a:rPr>
              <a:t>Sono iscritte alla somministrazione informatica / mista le seguenti 21 scuole del Friuli Venezia Giulia: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MS Sans Serif"/>
                <a:ea typeface="Times New Roman"/>
              </a:rPr>
              <a:t>I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C. “G. Pascoli”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Cormon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I.C. “F. U. Della Torre” 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radisca D'isonzo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I.C. “L. Da Vinci”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Ronchi Dei Legionari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SMS “G.I. Ascoli”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orizia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SMS "V. Locchi“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orizia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Elem  Paritaria "Don Bosco“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Pordenone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I.C.  Di Fontanafredda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Fontanafredda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SMS “G. Ungaretti”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Prata Di Pordenone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Liceo Scientifico Statale "Le Filandiere“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San Vito Al Tagliamento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I.C.Paritario” European School Of Trieste”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rieste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Montessori "S. Giusto“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rieste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Direzione Didattica di S. Giacomo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rieste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I.C.  “Italo Svevo”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rieste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I.C. “ai Campi Elisi”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rieste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Educandato "Uccellis“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Udine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I.C.  "C. Cavour“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Palazzolo Dello Stella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I.C. Arta-Paularo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Paularo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I.C. “L. Andervolti”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Majano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ISIS “Malignani”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Cervignano Del Friuli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Educandato “Uccellis”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Udine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SMS "L. Da Vinci" 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Mortegliano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La definizione del responsabile e dei somministratori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160020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Tahoma"/>
              </a:rPr>
              <a:t>L’organizzazione del gruppo di lavoro in ciascuna scuola per la somministrazione informatica prevede: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2666880"/>
            <a:ext cx="8153280" cy="32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imes New Roman"/>
            </a:endParaRPr>
          </a:p>
          <a:p>
            <a:pPr lvl="1" marL="1130400" indent="-457200"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il dirigente scolastico, responsabile della somministrazione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lvl="1" marL="1130400" indent="-457200"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un coordinatore della scuola per le attività complessive della </a:t>
            </a:r>
            <a:r>
              <a:rPr b="0" lang="en-US" sz="2200" spc="-1" strike="noStrike">
                <a:solidFill>
                  <a:srgbClr val="080808"/>
                </a:solidFill>
                <a:latin typeface="Tahoma"/>
              </a:rPr>
              <a:t>compilazione delle prove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lvl="1" marL="1130400" indent="-457200"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un referente per la compilazione informatica</a:t>
            </a:r>
            <a:r>
              <a:rPr b="0" lang="en-US" sz="2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lvl="1" marL="1130400" indent="-457200"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il gruppo dei docenti somministratori</a:t>
            </a:r>
            <a:r>
              <a:rPr b="0" lang="en-US" sz="2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Le modalità di somministrazione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1752480"/>
            <a:ext cx="8228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La compilazione informatica può avvenire in forma mista: cartacea / informatica. In caso di compilazione informatica si possono utilizzare due modalità operative: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off line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: utilizzando il software </a:t>
            </a:r>
            <a:r>
              <a:rPr b="0" i="1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Perception To G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on line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: con collegamento diretto on-line al sito</a:t>
            </a:r>
            <a:br>
              <a:rPr sz="2200"/>
            </a:b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dell’INVALSI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010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0066"/>
                </a:solidFill>
                <a:latin typeface="Tahoma"/>
              </a:rPr>
              <a:t>Perception To Go /1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320040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45472"/>
                </a:solidFill>
                <a:latin typeface="Verdana"/>
                <a:ea typeface="Times New Roman"/>
              </a:rPr>
              <a:t>http://snvinformatica.invalsi.it/html/software_perception.htm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523880"/>
            <a:ext cx="7772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  <a:ea typeface="Times New Roman"/>
              </a:rPr>
              <a:t>Chi non lo avesse, può scaricare tutto il pacchetto [il software e le applicazioni di supporto per la sua installazione] direttamente all’indirizzo: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4038480"/>
            <a:ext cx="7924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Prima di procedere con le installazioni dei software è necessario prendere visione del</a:t>
            </a:r>
            <a:r>
              <a:rPr b="0" lang="en-US" sz="2200" spc="-1" strike="noStrike">
                <a:solidFill>
                  <a:srgbClr val="545472"/>
                </a:solidFill>
                <a:latin typeface="Verdana"/>
                <a:ea typeface="Times New Roman"/>
              </a:rPr>
              <a:t> Manuale d’us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0066"/>
                </a:solidFill>
                <a:latin typeface="Tahoma"/>
              </a:rPr>
              <a:t>Perception To Go /2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600200"/>
            <a:ext cx="8228160" cy="36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545472"/>
                </a:solidFill>
                <a:latin typeface="Verdana"/>
                <a:ea typeface="Times New Roman"/>
              </a:rPr>
              <a:t>Chi lo ha già installato lo scorso anno, deve aggiornarlo seguendo queste istruzioni: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marL="190440" indent="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imes New Roman"/>
            </a:endParaRPr>
          </a:p>
          <a:p>
            <a:pPr lvl="1" marL="1130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aggiornare il programma con il seguente file: </a:t>
            </a:r>
            <a:r>
              <a:rPr b="0" lang="it-IT" sz="2200" spc="-1" strike="noStrike" u="sng">
                <a:solidFill>
                  <a:srgbClr val="0000c6"/>
                </a:solidFill>
                <a:uFillTx/>
                <a:latin typeface="Verdana"/>
                <a:ea typeface="Times New Roman"/>
                <a:hlinkClick r:id="rId2"/>
              </a:rPr>
              <a:t>Presenter</a:t>
            </a:r>
            <a:r>
              <a:rPr b="0" lang="it-IT" sz="2200" spc="-1" strike="noStrike" u="sng">
                <a:solidFill>
                  <a:srgbClr val="0000c6"/>
                </a:solidFill>
                <a:uFillTx/>
                <a:latin typeface="Verdana"/>
                <a:ea typeface="Times New Roman"/>
                <a:hlinkClick r:id="rId3"/>
              </a:rPr>
              <a:t>.</a:t>
            </a:r>
            <a:r>
              <a:rPr b="0" lang="it-IT" sz="2200" spc="-1" strike="noStrike" u="sng">
                <a:solidFill>
                  <a:srgbClr val="0000c6"/>
                </a:solidFill>
                <a:uFillTx/>
                <a:latin typeface="Verdana"/>
                <a:ea typeface="Times New Roman"/>
                <a:hlinkClick r:id="rId4"/>
              </a:rPr>
              <a:t>exe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br>
              <a:rPr sz="2200"/>
            </a:b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lvl="1" marL="1130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Il percorso da seguire per il posizionamento del file è: C:/Perception3/P2Gclient</a:t>
            </a:r>
            <a:br>
              <a:rPr sz="2200"/>
            </a:b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lvl="1" marL="1130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ovrascrivere il file già esistente nella cartella P2GClient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Accorgimenti specifici per la somministrazione /1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1143000"/>
            <a:ext cx="807552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Per la modalità off line, una volta installato e lanciato il software </a:t>
            </a:r>
            <a:r>
              <a:rPr b="0" i="1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Perception To Go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: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i entra con: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lvl="2" marL="133344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Username [codice numerico a 11 cifre assegnato a ciascuna classe al momento dell’iscrizione al SNV]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lvl="2" marL="133344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password [codice meccanografico della scuola]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alunni assenti: Bisogna inserire il codice studente che deve corrispondere al numero progressivo dello studente nel registro di classe [e non dell’insegnante]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Accorgimenti specifici per la somministrazione /2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295280"/>
            <a:ext cx="8075520" cy="41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Per la modalità on line, una volta entrati nel sito INVALSI alla pagina: </a:t>
            </a:r>
            <a:r>
              <a:rPr b="0" lang="it-IT" sz="2200" spc="-1" strike="noStrike" u="sng">
                <a:solidFill>
                  <a:srgbClr val="0000c6"/>
                </a:solidFill>
                <a:uFillTx/>
                <a:latin typeface="Verdana"/>
                <a:ea typeface="Times New Roman"/>
                <a:hlinkClick r:id="rId2"/>
              </a:rPr>
              <a:t>http://pp3.invalsi.</a:t>
            </a:r>
            <a:r>
              <a:rPr b="0" lang="it-IT" sz="2200" spc="-1" strike="noStrike" u="sng">
                <a:solidFill>
                  <a:srgbClr val="0000c6"/>
                </a:solidFill>
                <a:uFillTx/>
                <a:latin typeface="Verdana"/>
                <a:ea typeface="Times New Roman"/>
                <a:hlinkClick r:id="rId3"/>
              </a:rPr>
              <a:t>it</a:t>
            </a:r>
            <a:r>
              <a:rPr b="0" lang="it-IT" sz="2200" spc="-1" strike="noStrike" u="sng">
                <a:solidFill>
                  <a:srgbClr val="0000c6"/>
                </a:solidFill>
                <a:uFillTx/>
                <a:latin typeface="Verdana"/>
                <a:ea typeface="Times New Roman"/>
                <a:hlinkClick r:id="rId4"/>
              </a:rPr>
              <a:t>/</a:t>
            </a:r>
            <a:r>
              <a:rPr b="0" lang="it-IT" sz="2200" spc="-1" strike="noStrike" u="sng">
                <a:solidFill>
                  <a:srgbClr val="0000c6"/>
                </a:solidFill>
                <a:uFillTx/>
                <a:latin typeface="Verdana"/>
                <a:ea typeface="Times New Roman"/>
                <a:hlinkClick r:id="rId5"/>
              </a:rPr>
              <a:t>Default</a:t>
            </a:r>
            <a:r>
              <a:rPr b="0" lang="it-IT" sz="2200" spc="-1" strike="noStrike" u="sng">
                <a:solidFill>
                  <a:srgbClr val="0000c6"/>
                </a:solidFill>
                <a:uFillTx/>
                <a:latin typeface="Verdana"/>
                <a:ea typeface="Times New Roman"/>
                <a:hlinkClick r:id="rId6"/>
              </a:rPr>
              <a:t>_Informatica.</a:t>
            </a:r>
            <a:r>
              <a:rPr b="0" lang="it-IT" sz="2200" spc="-1" strike="noStrike" u="sng">
                <a:solidFill>
                  <a:srgbClr val="0000c6"/>
                </a:solidFill>
                <a:uFillTx/>
                <a:latin typeface="Verdana"/>
                <a:ea typeface="Times New Roman"/>
                <a:hlinkClick r:id="rId7"/>
              </a:rPr>
              <a:t>htm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lvl="1" marL="1130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i clicca sul pulsante “Accesso prove di apprendimento”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lvl="1" marL="1130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imes New Roman"/>
            </a:endParaRPr>
          </a:p>
          <a:p>
            <a:pPr lvl="1" marL="1130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nel campo “nome” si digita il codice numerico a 11 cifre assegnato a ciascuna classe al momento dell’iscrizione al SNV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lvl="1" marL="1130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imes New Roman"/>
            </a:endParaRPr>
          </a:p>
          <a:p>
            <a:pPr lvl="1" marL="1130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nel campo “password” si digita il codice meccanografico della scuola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lvl="1" marL="1130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imes New Roman"/>
            </a:endParaRPr>
          </a:p>
          <a:p>
            <a:pPr lvl="1" marL="1130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i clicca sul pulsante “Inizia i Test”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10:46:56Z</dcterms:created>
  <dc:creator>RMelchiori</dc:creator>
  <dc:description/>
  <dc:language>en-US</dc:language>
  <cp:lastModifiedBy>bullo</cp:lastModifiedBy>
  <dcterms:modified xsi:type="dcterms:W3CDTF">2005-03-16T13:31:06Z</dcterms:modified>
  <cp:revision>346</cp:revision>
  <dc:subject/>
  <dc:title>Presentazione di PowerPoint</dc:title>
</cp:coreProperties>
</file>