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117-592F-4E08-B28B-8F73DE44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616-095C-4340-BFBE-613EA858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B27-9635-49B1-8C13-89112481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673-3983-401D-AC0B-D423F75E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570C-6D90-40F0-9DC7-FB2539CF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0CD8-0441-4DA9-9F0C-C0D8D16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5227-9A0A-42B6-BB75-486B6C0D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35ED-DB42-41A1-A266-CDD6E57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9550-38A0-47C1-9845-7C0A79EF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5AF7-6BC7-472E-8CDD-1F5785E0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E211-CA3E-4665-82F3-EF031608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DB0-2B6F-428D-BCBA-00F1FC85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5A89-C8A0-4FDF-997E-143D18B0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448C-E781-407F-BC04-E698FE2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A5FE-80D4-41F3-90AE-5540AD8B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AB32-2F07-4B9E-A4B9-B75D7051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9D9-0D90-441C-88F6-3AF14CD4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236-6620-4B75-A619-E7737460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75B-D563-4876-8F16-E832F8C5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4F7-766E-4447-BA7B-06B2E5A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C8B-13E6-473D-9F3F-177ADB96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025-44D5-4BA1-B5E4-B295C7F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E9B-2F69-4B47-B76A-7E8EC8CB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A6A-A469-4B35-965E-77786916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6A8-A25B-479A-829D-D90C5D191786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110D-886D-436A-BD55-CEC05D3E0A3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0066"/>
                </a:solidFill>
                <a:latin typeface="Tahoma"/>
              </a:rPr>
              <a:t>RILEVAZIONE INValS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0066"/>
                </a:solidFill>
                <a:latin typeface="Tahoma"/>
              </a:rPr>
              <a:t>Aspetti normativi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105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888ae"/>
                </a:solidFill>
                <a:latin typeface="Tahoma"/>
              </a:rPr>
              <a:t>A cura della Dott.ssa Giuliana Cinelli  - gruppo  regionale per il sistema di valutazione USR FV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888ae"/>
                </a:solidFill>
                <a:latin typeface="Tahoma"/>
              </a:rPr>
              <a:t>Servizio Nazionale di Valutazione 2004 - 200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22100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ValSI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È istituito con D.L.vo 19.11.2004, n.286 con l’obiettivo di valutare l’efficienza e l’efficacia del sistema educativo di istruzione e formazion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ale valutazione concerne esclusivamente i livelli essenziali di prestazione ed è effettuata tenuto conto degli altri soggetti istituzionali che già operano a livello nazionale nel settore della valutazione delle politiche nazionali finalizzate allo sviluppo delle risorse uman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art.1 D.L.vo n.286/04)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Compiti dell’INValSI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effettuare verifiche periodiche e sistematiche su conoscenze e abilità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e prove a carattere nazionale per l’esame di Stato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volgere attività di ricerca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udiare le cause dell’insuccesso e della dispersione scolastica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ssicurare la partecipazione italiana a progetti di ricerca europea e internazionale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volgere attività di supporto per il monitoraggio, la valutazione, l’autovalutazione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volge attività di formazione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art.3 D.L.vo n.286/04)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irettiva ministeriale n.56 del 12 luglio 2004</a:t>
            </a:r>
            <a:r>
              <a:rPr b="0" lang="it-IT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ndica le discipline da saggiare (Italiano, Matematica, Scienze)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ribadisce il carattere di obbligatorietà per le scuole del 1° ciclo, pubbliche e paritarie, ed il carattere facoltativo per le scuole del 2° ciclo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fferma, per il secondo ciclo, che le rilevazioni dovranno tener conto degli specifici piani di studio propri di ciascun indirizzo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sente la deroga, per l’anno in corso, dai tempi previsti dalle indicazioni nazionali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a rilevazione degli apprendimenti a.s.2004/05</a:t>
            </a:r>
            <a:r>
              <a:rPr b="0" lang="it-IT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E’ parte della rilevazione annuale nazionale del sistema educativo di istruzione condotta dal SNV e si colloca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ll’interno di un quadro normativo nazionale,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n accordo con gli obiettivi strategici di Lisbona (relazione commissione europea maggio 2000)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n continuità con le attività sperimentali precedenti (PP1, PP2, PP3)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l dirigente scolastico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 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organizza l’attività scolastica secondo criteri di efficienza ed efficacia formative,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 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omuove interventi per assicurare la qualità dei processi formativi,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 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er l’esercizio della libertà di insegnamento intesa anche come libertà di ricerca e di innovazione metodologica e didattica,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 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er l’esercizio della libera scelta educativa delle famiglie,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 </a:t>
            </a: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er l’attuazione del diritto all’apprendimento da parte degli alunni.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art. 25 D.L.vo 30 marzo 2001, n.165)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304920"/>
            <a:ext cx="8381880" cy="58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545472"/>
                </a:solidFill>
                <a:latin typeface="Times New Roman"/>
                <a:ea typeface="Arial"/>
              </a:rPr>
              <a:t>I sette saperi necessari all’educazione del futu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(di </a:t>
            </a:r>
            <a:r>
              <a:rPr b="1" i="1" lang="it-IT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Edgar Morin, Raffaello Cortina Editore, Milano 2001)</a:t>
            </a:r>
            <a:r>
              <a:rPr b="0" lang="it-IT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Capitolo 1. Le cecità della conoscenza: l’errore e l’illusione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E’ sorprendente che l’educazione, che mira a comunicare conoscenze, sia cieca su ciò che è la conoscenza umana, su ciò che sono i suoi dispositivi, le sue menomazioni, le sue difficoltà, le sue propensioni all’errore e all’illusione e che non si preoccupi affatto di far conoscere che cosa è conoscere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… </a:t>
            </a:r>
            <a:r>
              <a:rPr b="0" lang="it-IT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la conoscenza della conoscenza deve apparire come una necessità primaria …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…</a:t>
            </a:r>
            <a:r>
              <a:rPr b="0" lang="it-IT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è necessario introdurre e potenziare nell’insegnamento lo studio dei caratteri cerebrali, mentali, culturali della conoscenza umana, dei suoi processi, delle sue modalità, delle disposizioni psichiche che la inducono a rischiare l’errore o l’illusione.</a:t>
            </a:r>
            <a:r>
              <a:rPr b="0" lang="it-IT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.:…in Italia – sono misurazioni del 1999 – ha il diploma appena il 42 per cento della popolazione adulta compresa tra i 25 ed i 64 anni. La media europea è del 59. Francia e Gran Bretagna sono al 62. La Germania è all’81. La Grecia è intorno al 50, l’Irlanda supera il 50. Peggio dell’Italia sono solo Spagna e Portogallo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 </a:t>
            </a: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 dati sui titoli universitari: solo il 9 per cento degli italiani adulti fra i 25 ed i 64 anni, possiede una laurea. La media europea è del 21 per cento, quella inglese del 25, quella tedesca del 23, quella francese del 21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lla intervista di Francesco Erbani ad un famoso linguista italiano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248520"/>
            <a:ext cx="761760" cy="457200"/>
          </a:xfrm>
          <a:prstGeom prst="rightArrow">
            <a:avLst>
              <a:gd name="adj1" fmla="val 44444"/>
              <a:gd name="adj2" fmla="val 55191"/>
            </a:avLst>
          </a:prstGeom>
          <a:solidFill>
            <a:srgbClr val="cc99ff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</a:t>
            </a: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cavalcando questi che sono dati formali, in un’indagine condotta dal Cede è risultato che il 5 per cento della popolazione adulta non riesce nemmeno a leggere il primo e più semplice dei cinque questionari (l’indagine era a carattere internazionale e le modalità erano fissate dall’OCSE) ed è quindi da considerarsi radicalmente analfabeta. Al primo dei cinque questionari si ferma il 33 per cento degli italiani adulti e non va oltre, …questo primo questionario è composto da frasi assolutamente elementari e di calcoli altrettanto elementari (pp.22-23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8077320" y="6248520"/>
            <a:ext cx="761760" cy="457200"/>
          </a:xfrm>
          <a:prstGeom prst="rightArrow">
            <a:avLst>
              <a:gd name="adj1" fmla="val 44444"/>
              <a:gd name="adj2" fmla="val 55191"/>
            </a:avLst>
          </a:prstGeom>
          <a:solidFill>
            <a:srgbClr val="cc99ff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.: Elementari che cosa significa? Mi faccia un esempio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.: “Il gatto miagola”. Oltre a questo riesce a completare un’addizione a una cifra, ma quando passa al secondo questionario si blocca. Le frasi sono un po’ più complicate: “Il gatto miagola, perché vorrebbe bere il latte”. Oppure gli si chiede: “Formula una frase di venti parole”.  …in queste condizioni non è possibile leggere …neanche la cosiddetta free press, i giornali gratuiti che vengono distribuiti fuori dalla metropolitana. (p.162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’Istituzione Scolastica individua</a:t>
            </a:r>
            <a:r>
              <a:rPr b="0" lang="it-IT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e modalità e i criteri di valutazione degli alunni nel rispetto della  normativa nazional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 criteri per la valutazione periodica dei risultati conseguiti dalla istituzioni scolastiche rispetto agli obiettivi prefissat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art. 4 comma 4, D.P.R. n. 275 dell’8 marzo 1999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l Sistema Nazionale di Valutazione</a:t>
            </a:r>
            <a:r>
              <a:rPr b="0" lang="it-IT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er la verifica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el raggiungimento degli obiettivi di apprendimento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egli standard di qualità del servizio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l MIUR fissa metodi e scadenze per le rilevazioni periodiche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e rilevazioni sono finalizzate a sostenere le scuole per l’efficace raggiungimento degli obiettivi attraverso l’attivazione di iniziative nazionali e locali di perequazione, promozione, supporto e monitoraggio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art. 10  D.P.R. n. 275 dell’8 marzo 1999)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Valutazione Interna …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ono affidate ai docenti 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a valutazione periodica e annuale degli </a:t>
            </a: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pprendimenti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e del </a:t>
            </a: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mportamento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e la certificazione delle </a:t>
            </a: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mpetenze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acquisit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a valutazione dei periodi didattici ai fini del passaggio al periodo successivo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Valutazione Esterna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’InvalSI  effettua verifiche periodiche  e sistematiche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ulle </a:t>
            </a: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oscenze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e </a:t>
            </a:r>
            <a:r>
              <a:rPr b="0" i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bilità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degli studenti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ulla qualità complessiva dell’offerta formativa delle istituzion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 art. 3 legge n.53/03)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Esame di stato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clusivo dei cicli di istruzione considera e valuta le </a:t>
            </a:r>
            <a:r>
              <a:rPr b="0" i="1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mpetenze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acquisite dagli studenti nel corso e al termine del ciclo e si svolge su prove:</a:t>
            </a:r>
            <a:r>
              <a:rPr b="0" lang="it-IT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organizzate dalle commissioni d’esa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edisposte e gestite dall’INValS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 art. 3 legge n.53/03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674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creto Legislativo n.59 del 19.02.04</a:t>
            </a:r>
            <a:r>
              <a:rPr b="0" lang="it-IT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a valutazione nella scuola primaria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(art.8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nnuale e periodica degli apprendimenti e del comportamento, la certificazione delle competenze nonché la valutazione dei periodi didattici è </a:t>
            </a:r>
            <a:r>
              <a:rPr b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ffidata ai docenti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responsabili delle attività educative e didattiche previste dal P.S.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a valutazione nella scuola secondaria di primo grado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(art.11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nnuale e periodica degli apprendimenti e del comportamento, la certificazione delle competenze nonché la valutazione dei periodi didattici è </a:t>
            </a:r>
            <a:r>
              <a:rPr b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ffidata ai docenti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responsabili delle attività educative e didattiche previste dal P.S.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ulla base degli esiti della valutazione periodica, le istituzioni scolastiche predispongono gli interventi ritenuti necessari al </a:t>
            </a:r>
            <a:r>
              <a:rPr b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recupero 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e allo </a:t>
            </a:r>
            <a:r>
              <a:rPr b="1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viluppo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degli apprendimenti.</a:t>
            </a:r>
            <a:r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9:09:28Z</dcterms:created>
  <dc:creator>ZOCCHI</dc:creator>
  <dc:description/>
  <dc:language>en-US</dc:language>
  <cp:lastModifiedBy>bullo</cp:lastModifiedBy>
  <dcterms:modified xsi:type="dcterms:W3CDTF">2005-03-17T08:19:31Z</dcterms:modified>
  <cp:revision>17</cp:revision>
  <dc:subject/>
  <dc:title>Presentazione di PowerPoint</dc:title>
</cp:coreProperties>
</file>