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EF83-4F49-4134-8862-E9D1C304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48F-B5C1-4C99-82E4-034175A9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011-3AE8-41E8-AB90-B96EE011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525-B9E0-426E-B6DB-0EF5F6B2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ADCE-EC24-449C-9519-9CF50C99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A4D5-690E-491B-BC14-BA6B1327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012F-951E-4A9E-8911-6EB0369F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DC21-72DC-4F13-9BEC-57861E40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AC58-C7AD-47B7-935E-57FC9CEC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977D-00C6-41E5-ABDE-059A6937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84F8-0F2D-4CCA-99CF-81066B8F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541-7B79-49F2-BAA3-31974548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63DD-7DC9-4679-A1C5-FCD7A037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8AA6-9F2F-43D7-AC17-9BF5CD7B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AF11-2AB0-46F4-89CB-A22DECCF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A534-6555-465C-8D4C-F4F2A452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E0FD-E36B-4F48-9D4C-0A6FEF41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5D5-9FC2-441C-BB20-D8EA2CED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EE3-DEDA-4C98-9795-F3163174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D0C-EC7A-4415-9840-C61C030E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83C-BD7C-4533-9A90-EA4F20BB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97F-2CFE-4FB3-B811-CB5C160C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D26-41C4-4A91-A663-D4F09C3F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358-AAC0-48E9-B32C-041BF044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1B6A-63AF-491B-8743-1D49C5B6E314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6DA5-340C-4214-AE7C-0885DE3505F5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36.xml"/><Relationship Id="rId5" Type="http://schemas.openxmlformats.org/officeDocument/2006/relationships/slide" Target="slide36.xml"/><Relationship Id="rId6" Type="http://schemas.openxmlformats.org/officeDocument/2006/relationships/slide" Target="slide36.xml"/><Relationship Id="rId7" Type="http://schemas.openxmlformats.org/officeDocument/2006/relationships/image" Target="../media/image2.png"/><Relationship Id="rId8" Type="http://schemas.openxmlformats.org/officeDocument/2006/relationships/slide" Target="slide35.xml"/><Relationship Id="rId9" Type="http://schemas.openxmlformats.org/officeDocument/2006/relationships/slide" Target="slide35.xml"/><Relationship Id="rId10" Type="http://schemas.openxmlformats.org/officeDocument/2006/relationships/slide" Target="slide35.xml"/><Relationship Id="rId11" Type="http://schemas.openxmlformats.org/officeDocument/2006/relationships/image" Target="../media/image2.png"/><Relationship Id="rId12" Type="http://schemas.openxmlformats.org/officeDocument/2006/relationships/slide" Target="slide37.xml"/><Relationship Id="rId13" Type="http://schemas.openxmlformats.org/officeDocument/2006/relationships/slide" Target="slide37.xml"/><Relationship Id="rId14" Type="http://schemas.openxmlformats.org/officeDocument/2006/relationships/slide" Target="slide37.xml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valsi.it/" TargetMode="External"/><Relationship Id="rId3" Type="http://schemas.openxmlformats.org/officeDocument/2006/relationships/hyperlink" Target="http://www.invalsi.it/" TargetMode="External"/><Relationship Id="rId4" Type="http://schemas.openxmlformats.org/officeDocument/2006/relationships/hyperlink" Target="http://www.scuola.fvg.it/" TargetMode="External"/><Relationship Id="rId5" Type="http://schemas.openxmlformats.org/officeDocument/2006/relationships/hyperlink" Target="http://www.scuola.fvg.it/" TargetMode="External"/><Relationship Id="rId6" Type="http://schemas.openxmlformats.org/officeDocument/2006/relationships/hyperlink" Target="http://www.scuola.fvg.it/" TargetMode="External"/><Relationship Id="rId7" Type="http://schemas.openxmlformats.org/officeDocument/2006/relationships/hyperlink" Target="http://www.scuola.fvg.it/" TargetMode="External"/><Relationship Id="rId8" Type="http://schemas.openxmlformats.org/officeDocument/2006/relationships/hyperlink" Target="http://www.scuola.fvg.it/" TargetMode="External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152280"/>
            <a:ext cx="7467480" cy="55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888ae"/>
                </a:solidFill>
                <a:latin typeface="Tahoma"/>
              </a:rPr>
              <a:t>Servizio Nazionale di Valutazione 2004 - 2005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Procedure e modalità della somministrazione cartacea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888ae"/>
                </a:solidFill>
                <a:latin typeface="Tahoma"/>
              </a:rPr>
              <a:t>A cura della dott.ssa Daniela Cellie - gruppo  regionale per il sistema di valutazione USR FVG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660066"/>
                </a:solidFill>
                <a:uFillTx/>
                <a:latin typeface="Tahoma"/>
              </a:rPr>
              <a:t>Il somministratore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aiuta il coordinatore ad applicare le etichette autoadesive con i codic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somministra le prove seguendo accuratamente le istruzioni fornite  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assicura che la durata delle prove sia corrispondente a quella prevista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completa l’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Elenco degli student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compilare il 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Modulo di somministrazion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Come somministratore delle prove è opportuno conoscere in modo approfondito il manuale prima della somministrazion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Contattare il coordinatore della scuola per ogni dubbio o quesito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660066"/>
                </a:solidFill>
                <a:uFillTx/>
                <a:latin typeface="Tahoma"/>
              </a:rPr>
              <a:t>I materi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i fascicoli della 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Prova di italiano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, della 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Prova di matematica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e della 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Prova di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scienze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per le classi oggetto di somministrazione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(2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copie in più per ogni classe)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9595ff"/>
                </a:solidFill>
                <a:uFillTx/>
                <a:latin typeface="Times New Roman"/>
                <a:hlinkClick r:id="rId4" action="ppaction://hlinksldjump"/>
              </a:rPr>
              <a:t>l’</a:t>
            </a:r>
            <a:r>
              <a:rPr b="0" lang="it-IT" sz="2600" spc="-1" strike="noStrike" u="sng">
                <a:solidFill>
                  <a:srgbClr val="9595ff"/>
                </a:solidFill>
                <a:uFillTx/>
                <a:latin typeface="Times New Roman"/>
                <a:hlinkClick r:id="rId5" action="ppaction://hlinksldjump"/>
              </a:rPr>
              <a:t>Elenco delle classi</a:t>
            </a:r>
            <a:r>
              <a:rPr b="0" lang="it-IT" sz="2600" spc="-1" strike="noStrike" u="sng">
                <a:solidFill>
                  <a:srgbClr val="9595ff"/>
                </a:solidFill>
                <a:uFillTx/>
                <a:latin typeface="Times New Roman"/>
                <a:hlinkClick r:id="rId6" action="ppaction://hlinksldjump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(1 per ogni livello di classe interessata)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9595ff"/>
                </a:solidFill>
                <a:uFillTx/>
                <a:latin typeface="Times New Roman"/>
                <a:hlinkClick r:id="rId8" action="ppaction://hlinksldjump"/>
              </a:rPr>
              <a:t>gli </a:t>
            </a:r>
            <a:r>
              <a:rPr b="0" lang="it-IT" sz="2600" spc="-1" strike="noStrike" u="sng">
                <a:solidFill>
                  <a:srgbClr val="9595ff"/>
                </a:solidFill>
                <a:uFillTx/>
                <a:latin typeface="Times New Roman"/>
                <a:hlinkClick r:id="rId9" action="ppaction://hlinksldjump"/>
              </a:rPr>
              <a:t>Elenchi degli studenti</a:t>
            </a:r>
            <a:r>
              <a:rPr b="0" lang="it-IT" sz="2600" spc="-1" strike="noStrike" u="sng">
                <a:solidFill>
                  <a:srgbClr val="9595ff"/>
                </a:solidFill>
                <a:uFillTx/>
                <a:latin typeface="Times New Roman"/>
                <a:hlinkClick r:id="rId10" action="ppaction://hlinksldjump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(1 per ciascuna classe interessata)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9595ff"/>
                </a:solidFill>
                <a:uFillTx/>
                <a:latin typeface="Times New Roman"/>
                <a:hlinkClick r:id="rId12" action="ppaction://hlinksldjump"/>
              </a:rPr>
              <a:t>il </a:t>
            </a:r>
            <a:r>
              <a:rPr b="0" lang="it-IT" sz="2600" spc="-1" strike="noStrike" u="sng">
                <a:solidFill>
                  <a:srgbClr val="9595ff"/>
                </a:solidFill>
                <a:uFillTx/>
                <a:latin typeface="Times New Roman"/>
                <a:hlinkClick r:id="rId13" action="ppaction://hlinksldjump"/>
              </a:rPr>
              <a:t>Modulo per le “prove personalizzate</a:t>
            </a:r>
            <a:r>
              <a:rPr b="0" lang="it-IT" sz="2600" spc="-1" strike="noStrike" u="sng">
                <a:solidFill>
                  <a:srgbClr val="9595ff"/>
                </a:solidFill>
                <a:uFillTx/>
                <a:latin typeface="Times New Roman"/>
                <a:hlinkClick r:id="rId14" action="ppaction://hlinksldjump"/>
              </a:rPr>
              <a:t>”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stampato nel retro dell’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Elenco student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le etichette autoadesive con i codici identificativi da applicare sulla copertina di ciascun fascicolo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l’etichetta autoadesiva con prestampato l’indirizzo a cui riconsegnare il pacco al termine della somministrazion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9228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rrivano circa una settimana prima della data di</a:t>
            </a:r>
            <a:r>
              <a:rPr b="0" lang="it-IT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omministrazione delle prove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660066"/>
                </a:solidFill>
                <a:uFillTx/>
                <a:latin typeface="Tahoma"/>
              </a:rPr>
              <a:t>L’</a:t>
            </a:r>
            <a:r>
              <a:rPr b="0" i="1" lang="it-IT" sz="4000" spc="-1" strike="noStrike" u="sng">
                <a:solidFill>
                  <a:srgbClr val="660066"/>
                </a:solidFill>
                <a:uFillTx/>
                <a:latin typeface="Tahoma"/>
              </a:rPr>
              <a:t>Elenco degli studen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738000"/>
            <a:ext cx="86421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5472"/>
                </a:solidFill>
                <a:latin typeface="Tahoma"/>
              </a:rPr>
              <a:t>è di importanza critica per le somministrazioni delle prov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5472"/>
                </a:solidFill>
                <a:latin typeface="Tahoma"/>
              </a:rPr>
              <a:t>permette di registrare se il singolo studente ha partecipato o meno alla prova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5472"/>
                </a:solidFill>
                <a:latin typeface="Tahoma"/>
              </a:rPr>
              <a:t>è essenziale per l’analisi dei risultati rispetto alle variabili di sfondo (età, sesso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5472"/>
                </a:solidFill>
                <a:latin typeface="Tahoma"/>
              </a:rPr>
              <a:t>Il somministratore dovrà: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5472"/>
                </a:solidFill>
                <a:latin typeface="Tahoma"/>
              </a:rPr>
              <a:t>controllare che nella casella (d) dell’</a:t>
            </a:r>
            <a:r>
              <a:rPr b="0" i="1" lang="it-IT" sz="1800" spc="-1" strike="noStrike">
                <a:solidFill>
                  <a:srgbClr val="545472"/>
                </a:solidFill>
                <a:latin typeface="Tahoma"/>
              </a:rPr>
              <a:t>Elenco degli studenti </a:t>
            </a:r>
            <a:r>
              <a:rPr b="0" lang="it-IT" sz="1800" spc="-1" strike="noStrike">
                <a:solidFill>
                  <a:srgbClr val="545472"/>
                </a:solidFill>
                <a:latin typeface="Tahoma"/>
              </a:rPr>
              <a:t>sia indicata la sezione corretta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5472"/>
                </a:solidFill>
                <a:latin typeface="Tahoma"/>
              </a:rPr>
              <a:t>controllare che l’</a:t>
            </a:r>
            <a:r>
              <a:rPr b="0" i="1" lang="it-IT" sz="1800" spc="-1" strike="noStrike">
                <a:solidFill>
                  <a:srgbClr val="545472"/>
                </a:solidFill>
                <a:latin typeface="Tahoma"/>
              </a:rPr>
              <a:t>Elenco degli studenti </a:t>
            </a:r>
            <a:r>
              <a:rPr b="0" lang="it-IT" sz="1800" spc="-1" strike="noStrike">
                <a:solidFill>
                  <a:srgbClr val="545472"/>
                </a:solidFill>
                <a:latin typeface="Tahoma"/>
              </a:rPr>
              <a:t>sia completo dalla colonna (2) alla colonna (5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5472"/>
                </a:solidFill>
                <a:latin typeface="Tahoma"/>
              </a:rPr>
              <a:t>nella colonna (2) ci sarà il cognome e nome dello studente in ordine alfabetico (oppure semplicemente le iniziali dello studente o un codice numerico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5472"/>
                </a:solidFill>
                <a:latin typeface="Tahoma"/>
              </a:rPr>
              <a:t>la colonna (3) riporta il motivo di una eventuale esclusione dello studente - codici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5472"/>
                </a:solidFill>
                <a:latin typeface="Tahoma"/>
              </a:rPr>
              <a:t>È responsabilità della scuola assicurare che siano esclusi </a:t>
            </a:r>
            <a:r>
              <a:rPr b="1" lang="it-IT" sz="1800" spc="-1" strike="noStrike">
                <a:solidFill>
                  <a:srgbClr val="545472"/>
                </a:solidFill>
                <a:latin typeface="Tahoma"/>
              </a:rPr>
              <a:t>soltanto </a:t>
            </a:r>
            <a:r>
              <a:rPr b="0" lang="it-IT" sz="1800" spc="-1" strike="noStrike">
                <a:solidFill>
                  <a:srgbClr val="545472"/>
                </a:solidFill>
                <a:latin typeface="Tahoma"/>
              </a:rPr>
              <a:t>gli studenti ch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5472"/>
                </a:solidFill>
                <a:latin typeface="Tahoma"/>
              </a:rPr>
              <a:t>rientrano fra i casi previsti per la non partecipazione alla prova. </a:t>
            </a:r>
            <a:r>
              <a:rPr b="1" lang="it-IT" sz="1800" spc="-1" strike="noStrike">
                <a:solidFill>
                  <a:srgbClr val="545472"/>
                </a:solidFill>
                <a:latin typeface="Tahoma"/>
              </a:rPr>
              <a:t>A tutti gli studenti presenti in aula il giorno della somministrazione deve essere comunque consegnato il fascicolo della prova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5029200"/>
            <a:ext cx="3812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660066"/>
                </a:solidFill>
                <a:uFillTx/>
                <a:latin typeface="Tahoma"/>
              </a:rPr>
              <a:t>L’</a:t>
            </a:r>
            <a:r>
              <a:rPr b="0" i="1" lang="it-IT" sz="4000" spc="-1" strike="noStrike" u="sng">
                <a:solidFill>
                  <a:srgbClr val="660066"/>
                </a:solidFill>
                <a:uFillTx/>
                <a:latin typeface="Tahoma"/>
              </a:rPr>
              <a:t>Elenco delle class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838080"/>
            <a:ext cx="914400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già stampat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oordinatore troverà un </a:t>
            </a:r>
            <a:r>
              <a:rPr b="0" i="1" lang="en-US" sz="2000" spc="-1" strike="noStrike">
                <a:solidFill>
                  <a:srgbClr val="000000"/>
                </a:solidFill>
                <a:latin typeface="Times-Italic"/>
                <a:ea typeface="Times New Roman"/>
              </a:rPr>
              <a:t>Elenco delle class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e classi interessate alla rilevazion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odici corrispondono al numero di classi comunicate dalla scuola al momento dell’adesion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oordinatore è tenuto a riportare nella colonna “Note” dell’elenco delle classi, l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zione per la quale una classe non ha partecipato a una o più prove a causa di eventi eccezionali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ora si verificasse un evento eccezionale che impedisca la somministrazione i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o più classi, il coordinatore è tenuto a informare il referente regionale pe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rdarsi su una nuova data di somministrazione. Il coordinatore è inoltre tenuto 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ne comunicazione immediata all’INValSI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fondamentale che ai codici indicati </a:t>
            </a:r>
            <a:r>
              <a:rPr b="1" i="1" lang="en-US" sz="2000" spc="-1" strike="noStrike">
                <a:solidFill>
                  <a:srgbClr val="000000"/>
                </a:solidFill>
                <a:latin typeface="Times-Italic"/>
                <a:ea typeface="Times New Roman"/>
              </a:rPr>
              <a:t>nell’Elenco delle class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ispondano le classi interessate alla rilevazione presenti nella scuola, e il relativo numero di studenti. Qualora ciò non fosse il coordinatore dovrà riportare nell’Elenco le opportune modifiche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660066"/>
                </a:solidFill>
                <a:uFillTx/>
                <a:latin typeface="Tahoma"/>
              </a:rPr>
              <a:t>Il modulo per le prove personalizza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Sul retro dell’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Elenco degli studenti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è stampato un modulo dedicato alla somministrazion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delle prove personalizzate per studenti appartenenti ad alcune categorie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Le prove personalizzate sono previste per le seguenti categorie di studenti: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660066"/>
                </a:solidFill>
                <a:uFillTx/>
                <a:latin typeface="Tahoma"/>
              </a:rPr>
              <a:t>Controllo materi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il coordinatore della scuola dovrà controllarli per verificare che ci siano tutti e che i fascicoli siano in numero sufficiente per tutti gli alunn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se il coordinatore dovesse riscontrare la mancanza di </a:t>
            </a:r>
            <a:r>
              <a:rPr b="0" lang="it-IT" sz="2600" spc="-1" strike="noStrike" u="sng">
                <a:solidFill>
                  <a:srgbClr val="020202"/>
                </a:solidFill>
                <a:uFillTx/>
                <a:latin typeface="Times New Roman"/>
              </a:rPr>
              <a:t>non più di 5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 fascicoli per ciascuna prova è autorizzato a fotocopiarli personalmente presso la scuola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Problemi sui materiali: accedere al sito dell’INValSI (</a:t>
            </a:r>
            <a:r>
              <a:rPr b="1" lang="it-IT" sz="2600" spc="-1" strike="noStrike">
                <a:solidFill>
                  <a:srgbClr val="660066"/>
                </a:solidFill>
                <a:latin typeface="Times New Roman"/>
              </a:rPr>
              <a:t>www.invalsi.it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) per scaricare i moduli mancanti o contattare immediatamente: 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	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	</a:t>
            </a:r>
            <a:r>
              <a:rPr b="1" lang="it-IT" sz="2600" spc="-1" strike="noStrike">
                <a:solidFill>
                  <a:srgbClr val="660066"/>
                </a:solidFill>
                <a:latin typeface="Times New Roman"/>
              </a:rPr>
              <a:t>C.T.E. s.r.l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it-IT" sz="2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it-IT" sz="2600" spc="-1" strike="noStrike">
                <a:solidFill>
                  <a:srgbClr val="660066"/>
                </a:solidFill>
                <a:latin typeface="Times New Roman"/>
              </a:rPr>
              <a:t>tel: 06/7194116; fax: 06/71357217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it-IT" sz="2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it-IT" sz="2600" spc="-1" strike="noStrike">
                <a:solidFill>
                  <a:srgbClr val="660066"/>
                </a:solidFill>
                <a:latin typeface="Times New Roman"/>
              </a:rPr>
              <a:t>e-mail: snv2004@ctecorriere.it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660066"/>
                </a:solidFill>
                <a:uFillTx/>
                <a:latin typeface="Tahoma"/>
              </a:rPr>
              <a:t>Cosa fa il somministratore il giorno delle prov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569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Deve assicurarsi di avere con sé il seguente materiale: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un pacco con i fascicoli di italiano o di matematica o di scienze destinati alla class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l’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Elenco degli student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il 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Modulo di somministrazione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della prova di italiano o di matematica o di scienz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Compilare il 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Modulo di somministrazione: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dal punto 1 al punto 10 prima della somministrazione della prova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i punti 11, 12 e 13 al momento della somministrazion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dal punto 14 al punto 18 al termine della somministrazion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660066"/>
                </a:solidFill>
                <a:uFillTx/>
                <a:latin typeface="Tahoma"/>
              </a:rPr>
              <a:t>La somministrazio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42472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Periodo di somministrazione previsto da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</a:rPr>
              <a:t>ll’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USR FVG: </a:t>
            </a:r>
            <a:r>
              <a:rPr b="1" lang="it-IT" sz="2600" spc="-1" strike="noStrike" u="sng">
                <a:solidFill>
                  <a:srgbClr val="020202"/>
                </a:solidFill>
                <a:uFillTx/>
                <a:latin typeface="Times New Roman"/>
              </a:rPr>
              <a:t>prime 2 settimane aprile 2005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Somministrazione </a:t>
            </a:r>
            <a:r>
              <a:rPr b="1" lang="it-IT" sz="2600" spc="-1" strike="noStrike">
                <a:solidFill>
                  <a:srgbClr val="020202"/>
                </a:solidFill>
                <a:latin typeface="Times New Roman"/>
              </a:rPr>
              <a:t>in tre giorni diversi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 per le diverse prove (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italiano, matematica, scienze)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Somministrazione di tutte le prove nella </a:t>
            </a:r>
            <a:r>
              <a:rPr b="1" lang="it-IT" sz="2600" spc="-1" strike="noStrike">
                <a:solidFill>
                  <a:srgbClr val="020202"/>
                </a:solidFill>
                <a:latin typeface="Times New Roman"/>
              </a:rPr>
              <a:t>prima parte della giornata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 scolastica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Comunicazione delle date delle prove alle classi  oggetto della rilevazione qualche giorno prima della somministrazione (sensibilizzazione)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4940280"/>
            <a:ext cx="60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660066"/>
                </a:solidFill>
                <a:uFillTx/>
                <a:latin typeface="Tahoma"/>
              </a:rPr>
              <a:t>I tempi delle session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È essenziale che il somministratore delle prove rispetti esattamente i limiti di tempo indicati di seguito. A nessuno studente deve essere concesso un prolungamento del tempo a disposizione, se non previsto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Il coordinatore della scuola deve accertarsi che i somministratori possano usufruire di tutto il tempo necessario per le prove senza interruzion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Non è prevista alcuna forma di intervallo durante la somministrazione delle prove 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La pianificazione dei tempi delle prove deve adeguarsi alla tabella seguente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660066"/>
                </a:solidFill>
                <a:uFillTx/>
                <a:latin typeface="Tahoma"/>
              </a:rPr>
              <a:t>I tempi delle sessioni</a:t>
            </a:r>
            <a:r>
              <a:rPr b="0" lang="it-IT" sz="4400" spc="-1" strike="noStrike" u="sng">
                <a:solidFill>
                  <a:srgbClr val="660066"/>
                </a:solidFill>
                <a:uFillTx/>
                <a:latin typeface="Tahoma"/>
              </a:rPr>
              <a:t>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176720" cy="53290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-Bold"/>
                <a:ea typeface="Times New Roman"/>
              </a:rPr>
              <a:t>Tempi per la classe d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-Bold"/>
                <a:ea typeface="Times New Roman"/>
              </a:rPr>
              <a:t>II primaria</a:t>
            </a:r>
            <a:r>
              <a:rPr b="1" lang="it-IT" sz="2000" spc="-1" strike="noStrike">
                <a:solidFill>
                  <a:srgbClr val="000000"/>
                </a:solidFill>
                <a:latin typeface="Times-Bold"/>
                <a:ea typeface="Times New Roman"/>
              </a:rPr>
              <a:t>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a di italiano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° GIORNO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a di matematica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° GIORNO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a di scienze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° GIORNO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-Bold"/>
                <a:ea typeface="Times New Roman"/>
              </a:rPr>
              <a:t>10 minut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distribuzione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fascicoli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la lettura delle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uzioni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-Bold"/>
                <a:ea typeface="Times New Roman"/>
              </a:rPr>
              <a:t>30 minut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o svolgimento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a prova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-Bold"/>
                <a:ea typeface="Times New Roman"/>
              </a:rPr>
              <a:t>CASI PARTICOLAR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-Bold"/>
                <a:ea typeface="Times New Roman"/>
              </a:rPr>
              <a:t>Fino a 20 minuti in più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studenti non vedenti che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no la prova in braille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-Bold"/>
                <a:ea typeface="Times New Roman"/>
              </a:rPr>
              <a:t>Fino a 10 minuti in più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studenti ipovedenti che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no le prove con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ttere ingrandit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87640" y="1052280"/>
            <a:ext cx="4105080" cy="53290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-Bold"/>
                <a:ea typeface="Times New Roman"/>
              </a:rPr>
              <a:t>Tempi per la classe d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-Bold"/>
                <a:ea typeface="Times New Roman"/>
              </a:rPr>
              <a:t>IV primaria</a:t>
            </a:r>
            <a:r>
              <a:rPr b="1" lang="it-IT" sz="2000" spc="-1" strike="noStrike">
                <a:solidFill>
                  <a:srgbClr val="000000"/>
                </a:solidFill>
                <a:latin typeface="Times-Bold"/>
                <a:ea typeface="Times New Roman"/>
              </a:rPr>
              <a:t>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a di italiano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° GIORNO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a di matematica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° GIORNO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a di scienze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° GIORNO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-Bold"/>
                <a:ea typeface="Times New Roman"/>
              </a:rPr>
              <a:t>10 minut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distribuzione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fascicoli e la lettura delle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uzioni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-Bold"/>
                <a:ea typeface="Times New Roman"/>
              </a:rPr>
              <a:t>45 minut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o svolgimento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a prova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-Bold"/>
                <a:ea typeface="Times New Roman"/>
              </a:rPr>
              <a:t>CASI PARTICOLAR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-Bold"/>
                <a:ea typeface="Times New Roman"/>
              </a:rPr>
              <a:t>Fino a 30 minuti in più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studenti non vedenti che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no la prova in braille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-Bold"/>
                <a:ea typeface="Times New Roman"/>
              </a:rPr>
              <a:t>Fino a 10 minuti in più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studenti ipovedenti che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no le prove con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ttere ingrandit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660066"/>
                </a:solidFill>
                <a:uFillTx/>
                <a:latin typeface="Tahoma"/>
              </a:rPr>
              <a:t>Premes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20202"/>
                </a:solidFill>
                <a:latin typeface="Times New Roman"/>
              </a:rPr>
              <a:t>Per ottenere </a:t>
            </a:r>
            <a:r>
              <a:rPr b="0" lang="hr-HR" sz="2800" spc="-1" strike="noStrike" u="sng">
                <a:solidFill>
                  <a:srgbClr val="020202"/>
                </a:solidFill>
                <a:uFillTx/>
                <a:latin typeface="Times New Roman"/>
              </a:rPr>
              <a:t>dati attendibil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fondamentale che le procedure qui descritte siano eseguite alla lettera, in modo da assicurare che la somministrazione delle prove sia uniforme in tutte le scuole partecipanti all’indagin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067280" y="2276640"/>
            <a:ext cx="761760" cy="1218960"/>
          </a:xfrm>
          <a:prstGeom prst="downArrow">
            <a:avLst>
              <a:gd name="adj1" fmla="val 50000"/>
              <a:gd name="adj2" fmla="val 53339"/>
            </a:avLst>
          </a:prstGeom>
          <a:solidFill>
            <a:srgbClr val="c7c7d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660066"/>
                </a:solidFill>
                <a:uFillTx/>
                <a:latin typeface="Tahoma"/>
              </a:rPr>
              <a:t>Cosa fa il somministratore una settimana prima del giorno previsto per le prov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569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leggere attentamente il manuale del somministrator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incontrare il coordinatore della scuola e il Dirigente scolastico per pianificare tutte le operazioni necessari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compilare nelle parti mancanti il 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Modulo di somministrazione della prova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dal punto 1 al punto 11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accordarsi con l’insegnante di sostegno se prevista la sua presenza durante la somministrazion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660066"/>
                </a:solidFill>
                <a:uFillTx/>
                <a:latin typeface="Tahoma"/>
              </a:rPr>
              <a:t>Norme da seguire durante la somministrazione delle prove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non rispondere a domande riguardanti il contenuto dei quesit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non fornire nessuna informazione, risposta o indicazione specifica 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assicurarsi che ogni studente abbia compreso ciò che deve fare e come rispondere 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agli studenti non è consentito utilizzare la calcolatrice tascabile nel corso della prova di matematica e di scienz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in nessun caso è consentito l’uso del dizionario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660066"/>
                </a:solidFill>
                <a:uFillTx/>
                <a:latin typeface="Tahoma"/>
              </a:rPr>
              <a:t>Norme da seguire durante la somministrazione delle prove (2)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7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per lo svolgimento delle prove è sufficiente una penna         a biro, preferibilmente nera, e il relativo fascicolo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non consentire l’uso di bianchetti, gomme, matite e penne cancellabil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per le prove di matematica, eventuali calcoli o disegni vanno effettuati sul fascicolo stesso, utilizzando gli spazi bianchi accanto alle domande oppure le pagine bianche alla fine del fascicolo. Non è consentito l’uso di fogli bianchi per la brutta copia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qualora uno studente si rifiutasse di partecipare alla prova, è opportuno informare il dirigente scolastico e il coordinatore al fine di prendere provvediment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660066"/>
                </a:solidFill>
                <a:uFillTx/>
                <a:latin typeface="Tahoma"/>
              </a:rPr>
              <a:t>Norme da seguire durante la somministrazione delle prove (3)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97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se uno studente non porta a termine una Prova ritirare il fascicolo e scrivere sulla copertina il motivo 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se invece uno studente abbandona la prova e poi rientra, annotare gli orari sulla copertina del rispettivo fascicolo prima di riconsegnarlo allo student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se uno studente arriva in ritardo, ma comunque prima che la prova abbia avuto inizio, si può consegnare ugualmente il relativo fascicolo. Una volta che la prova è iniziata </a:t>
            </a:r>
            <a:r>
              <a:rPr b="1" lang="it-IT" sz="2600" spc="-1" strike="noStrike">
                <a:solidFill>
                  <a:srgbClr val="020202"/>
                </a:solidFill>
                <a:latin typeface="Times New Roman"/>
              </a:rPr>
              <a:t>non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possono essere ammessi studenti ritardatar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660066"/>
                </a:solidFill>
                <a:uFillTx/>
                <a:latin typeface="Tahoma"/>
              </a:rPr>
              <a:t>Somministrazione agli studen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20202"/>
                </a:solidFill>
                <a:latin typeface="Times New Roman"/>
              </a:rPr>
              <a:t>ricordare agli studenti l’importanza dell’indagine e degli obiettivi che si vogliono conseguire 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20202"/>
                </a:solidFill>
                <a:latin typeface="Times New Roman"/>
              </a:rPr>
              <a:t>affermare che le informazioni che permettono di identificare ogni singolo studente non verranno in alcun modo divulgate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20202"/>
                </a:solidFill>
                <a:latin typeface="Times New Roman"/>
              </a:rPr>
              <a:t>è importante che gli studenti, durante la prova, non parlino tra di loro, e facciano del loro meglio per completare tutte le domande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20202"/>
                </a:solidFill>
                <a:latin typeface="Times New Roman"/>
              </a:rPr>
              <a:t>è importante che gli studenti non scrivano sui codici a barre presenti sotto ogni pagina del fascicolo 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20202"/>
                </a:solidFill>
                <a:latin typeface="Times New Roman"/>
              </a:rPr>
              <a:t>si consiglia di appuntare a matita il cognome e il nome dello studente sul fascicolo a lui attribuito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20202"/>
                </a:solidFill>
                <a:latin typeface="Times New Roman"/>
              </a:rPr>
              <a:t>per garantire l’uniformità delle procedure, il somministratore deve leggere le istruzioni come riportato sul manuale 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20202"/>
                </a:solidFill>
                <a:latin typeface="Times New Roman"/>
              </a:rPr>
              <a:t>registrare l’ora corrente nella colonna (a) del punto 14 del </a:t>
            </a:r>
            <a:r>
              <a:rPr b="0" i="1" lang="it-IT" sz="2200" spc="-1" strike="noStrike">
                <a:solidFill>
                  <a:srgbClr val="020202"/>
                </a:solidFill>
                <a:latin typeface="Times New Roman"/>
              </a:rPr>
              <a:t>Modulo di somministrazione</a:t>
            </a:r>
            <a:r>
              <a:rPr b="0" lang="it-IT" sz="2200" spc="-1" strike="noStrike">
                <a:solidFill>
                  <a:srgbClr val="020202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765000"/>
            <a:ext cx="78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20202"/>
                </a:solidFill>
                <a:latin typeface="Times New Roman"/>
              </a:rPr>
              <a:t>All’inizio della sessione di somministrazione è importante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660066"/>
                </a:solidFill>
                <a:uFillTx/>
                <a:latin typeface="Tahoma"/>
              </a:rPr>
              <a:t>Casi particolari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</a:rPr>
              <a:t>s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t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</a:rPr>
              <a:t>udenti con disabilit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à motorie e sensorial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studenti con disabilità intellettiv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studenti di prima lingua diversa dall’italiano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studenti dislessic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407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660066"/>
                </a:solidFill>
                <a:uFillTx/>
                <a:latin typeface="Tahoma"/>
              </a:rPr>
              <a:t>Somministrazione agli studenti di prima lingua diversa dall’italian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2565000"/>
            <a:ext cx="8640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649"/>
              </a:spcBef>
              <a:buClr>
                <a:srgbClr val="020202"/>
              </a:buClr>
              <a:buSzPct val="90000"/>
              <a:buFont typeface="Times-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lo studente con sufficiente dimestichezza con la lingua delle prove risponde alle prove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INValSI 2004-2005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649"/>
              </a:spcBef>
              <a:buClr>
                <a:srgbClr val="020202"/>
              </a:buClr>
              <a:buSzPct val="90000"/>
              <a:buFont typeface="Times-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lo studente non è in grado di rispondere alla prova d’Italiano (risponde a prova personalizzata predisposta dalla scuola)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ma è in grado di rispondere alla prova di matematica, per scienze lo studente può rispondere alla prova INValSI 2004-2005 con l’aiuto del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mediatore culturale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o ad una prova personalizzata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73360"/>
            <a:ext cx="421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3 casi:</a:t>
            </a: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660066"/>
                </a:solidFill>
                <a:uFillTx/>
                <a:latin typeface="Tahoma"/>
              </a:rPr>
              <a:t>Somministrazione agli studenti di prima lingua diversa dall’italiano</a:t>
            </a:r>
            <a:r>
              <a:rPr b="0" lang="it-IT" sz="4400" spc="-1" strike="noStrike" u="sng">
                <a:solidFill>
                  <a:srgbClr val="660066"/>
                </a:solidFill>
                <a:uFillTx/>
                <a:latin typeface="Tahoma"/>
              </a:rPr>
              <a:t>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Times-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studente con scarsa conoscenza della lingua delle prove, risponde alle prove</a:t>
            </a:r>
            <a:r>
              <a:rPr b="0" lang="hr-HR" sz="2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izzate preparate dalla scuola. Può rispondere alle prove INValSI 2004-2005 di</a:t>
            </a:r>
            <a:r>
              <a:rPr b="0" lang="hr-HR" sz="2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matica e scienze con l’aiuto del mediatore culturale (anche in questo caso gli</a:t>
            </a:r>
            <a:r>
              <a:rPr b="0" lang="hr-HR" sz="2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gnanti valuteranno se concedere più tempo o ridurre i quesiti)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517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517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permesso avvalersi del mediatore culturale per le prove di matematica e scienze.</a:t>
            </a:r>
            <a:r>
              <a:rPr b="0" lang="hr-HR" sz="26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517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è permesso</a:t>
            </a: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 contrario</a:t>
            </a: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la prova di italiano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660066"/>
                </a:solidFill>
                <a:uFillTx/>
                <a:latin typeface="Tahoma"/>
              </a:rPr>
              <a:t>Le prove personalizza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utilizzare lo stesso tipo di verifiche alle quali lo studente è sottoposto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durante l’anno scolastico nelle discipline oggetto di rilevazion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utilizzare le prove INValSI dei precedenti Progetti Pilota di livelli più bassi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,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 reperibili sul sito o da richiedere (anche il file in word) direttamente allo staff del SNV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utilizzare le prove INValSI dei Progetti Pilota come modelli per costruire prove proprie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anche con consegne divers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zare le prove INValSI 2004-2005 dei livelli inferiori, in questo caso le prove vanno</a:t>
            </a:r>
            <a:r>
              <a:rPr b="0" lang="hr-HR" sz="26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ieste allo staff del SNV che le invierà alla scuola </a:t>
            </a: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un pacco a part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07920"/>
            <a:ext cx="889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Gli insegnanti con l’aiuto del coordinatore possono:</a:t>
            </a: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660066"/>
                </a:solidFill>
                <a:uFillTx/>
                <a:latin typeface="Tahoma"/>
              </a:rPr>
              <a:t>Le prove personalizzate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viamente gli studenti che svolgeranno le prove “personalizzate”, dovranno essere segnalati</a:t>
            </a:r>
            <a:r>
              <a:rPr b="0" lang="hr-HR" sz="2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a nell’</a:t>
            </a:r>
            <a:r>
              <a:rPr b="0" i="1" lang="it-IT" sz="2600" spc="-1" strike="noStrike">
                <a:solidFill>
                  <a:srgbClr val="000000"/>
                </a:solidFill>
                <a:latin typeface="Times-Italic"/>
                <a:ea typeface="Times New Roman"/>
              </a:rPr>
              <a:t>Elenco degli studenti 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a nell’apposito modulo nel retro dello stesso (</a:t>
            </a:r>
            <a:r>
              <a:rPr b="0" i="1" lang="it-IT" sz="2600" spc="-1" strike="noStrike">
                <a:solidFill>
                  <a:srgbClr val="000000"/>
                </a:solidFill>
                <a:latin typeface="Times-Italic"/>
                <a:ea typeface="Times New Roman"/>
              </a:rPr>
              <a:t>Modulo prove personalizzate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rove “personalizzate” dovranno essere inviate, insieme al resto del materiale, all’INValSI</a:t>
            </a:r>
            <a:r>
              <a:rPr b="0" lang="hr-HR" sz="2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avrà il compito di creare</a:t>
            </a: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tali prove</a:t>
            </a:r>
            <a:r>
              <a:rPr b="0" lang="hr-HR" sz="2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a banca dati.</a:t>
            </a:r>
            <a:r>
              <a:rPr b="0" lang="hr-HR" sz="26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cisione di effettuare delle prove “personalizzate” dovrà essere presa dal Dirigente</a:t>
            </a:r>
            <a:r>
              <a:rPr b="1" lang="hr-HR" sz="2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lastico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660066"/>
                </a:solidFill>
                <a:uFillTx/>
                <a:latin typeface="Tahoma"/>
              </a:rPr>
              <a:t>Indicazioni per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0202"/>
                </a:solidFill>
                <a:latin typeface="Times New Roman"/>
              </a:rPr>
              <a:t>assicurare il funzionamento delle operazioni di somministrazione delle prov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0202"/>
                </a:solidFill>
                <a:latin typeface="Times New Roman"/>
              </a:rPr>
              <a:t>definire il ruolo del coordinatore e del somministrato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20202"/>
                </a:solidFill>
                <a:latin typeface="Times New Roman"/>
              </a:rPr>
              <a:t>stabil</a:t>
            </a:r>
            <a:r>
              <a:rPr b="0" lang="it-IT" sz="2800" spc="-1" strike="noStrike">
                <a:solidFill>
                  <a:srgbClr val="020202"/>
                </a:solidFill>
                <a:latin typeface="Times New Roman"/>
              </a:rPr>
              <a:t>ire tempi e modalità di somministrazion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660066"/>
                </a:solidFill>
                <a:uFillTx/>
                <a:latin typeface="Tahoma"/>
              </a:rPr>
              <a:t>Somministrazione agli studenti dislessic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seguire tutti gli accorgimenti tenuti durante il percorso scolastico dello studente (evitare stress)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utilizzare tutti i sussidi didattici necessar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supporto CD o cassetta vocale nel pacco contenente tutte le prove per scuole che hanno fatto richiesta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660066"/>
                </a:solidFill>
                <a:uFillTx/>
                <a:latin typeface="Tahoma"/>
              </a:rPr>
              <a:t>Somministrazione agli studenti dislessici</a:t>
            </a:r>
            <a:r>
              <a:rPr b="0" lang="it-IT" sz="4400" spc="-1" strike="noStrike" u="sng">
                <a:solidFill>
                  <a:srgbClr val="660066"/>
                </a:solidFill>
                <a:uFillTx/>
                <a:latin typeface="Tahoma"/>
              </a:rPr>
              <a:t>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864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tempo di somministrazione superiore di 10 minuti rispetto al tempo previsto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compilazione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parziale del fascicolo (il somministratore dovrà indicarlo sia nell’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Elenco degli studenti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</a:rPr>
              <a:t>,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 sia nel 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Modulo prove personalizzate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tali prove compilate, vanno comunque inserite nel pacco con tutto il resto del material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1628640"/>
            <a:ext cx="73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Se grado di dislessia particolarmente elevato:</a:t>
            </a: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660066"/>
                </a:solidFill>
                <a:uFillTx/>
                <a:latin typeface="Tahoma"/>
              </a:rPr>
              <a:t>Restituzione dei materiali: cosa fa il somministrator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5472"/>
                </a:solidFill>
                <a:latin typeface="Tahoma"/>
              </a:rPr>
              <a:t>Risponde alle domande 14, 15, 16, 17 e 18 del </a:t>
            </a:r>
            <a:r>
              <a:rPr b="0" i="1" lang="it-IT" sz="2000" spc="-1" strike="noStrike">
                <a:solidFill>
                  <a:srgbClr val="545472"/>
                </a:solidFill>
                <a:latin typeface="Tahoma"/>
              </a:rPr>
              <a:t>Modulo di somministrazione della Prov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5472"/>
                </a:solidFill>
                <a:latin typeface="Tahoma"/>
              </a:rPr>
              <a:t>Si assicura che tutte le fasi siano state completate accuratamente e restituire tutto il materiale,compreso quello non utilizzato, al coordinatore della scuol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5472"/>
                </a:solidFill>
                <a:latin typeface="Tahoma"/>
              </a:rPr>
              <a:t>Restituisce l’</a:t>
            </a:r>
            <a:r>
              <a:rPr b="0" i="1" lang="it-IT" sz="2000" spc="-1" strike="noStrike">
                <a:solidFill>
                  <a:srgbClr val="545472"/>
                </a:solidFill>
                <a:latin typeface="Tahoma"/>
              </a:rPr>
              <a:t>Elenco degli studenti </a:t>
            </a:r>
            <a:r>
              <a:rPr b="0" lang="it-IT" sz="2000" spc="-1" strike="noStrike">
                <a:solidFill>
                  <a:srgbClr val="545472"/>
                </a:solidFill>
                <a:latin typeface="Tahoma"/>
              </a:rPr>
              <a:t>ed il </a:t>
            </a:r>
            <a:r>
              <a:rPr b="0" i="1" lang="it-IT" sz="2000" spc="-1" strike="noStrike">
                <a:solidFill>
                  <a:srgbClr val="545472"/>
                </a:solidFill>
                <a:latin typeface="Tahoma"/>
              </a:rPr>
              <a:t>Modulo di somministrazione della Prova</a:t>
            </a:r>
            <a:r>
              <a:rPr b="0" lang="it-IT" sz="2000" spc="-1" strike="noStrike">
                <a:solidFill>
                  <a:srgbClr val="545472"/>
                </a:solidFill>
                <a:latin typeface="Tahoma"/>
              </a:rPr>
              <a:t> accuratamente compila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5472"/>
                </a:solidFill>
                <a:latin typeface="Tahoma"/>
              </a:rPr>
              <a:t>Rivede tutto il materiale insieme al coordinatore della scuola, per verificare che ogni modulo sia stato compilato correttament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1371240"/>
            <a:ext cx="87138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45472"/>
                </a:solidFill>
                <a:latin typeface="Tahoma"/>
              </a:rPr>
              <a:t>PREPARA UNA BREVE RELAZIONE in cui descrive l'andamento delle prove e in particolare eventuali problemi o difficoltà incontrati (specificando sempre la classe e il tipo di somministrazione) – vedi modello riportato in appendice al manuale del coordiantore 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45472"/>
                </a:solidFill>
                <a:latin typeface="Tahoma"/>
              </a:rPr>
              <a:t>RESTITUISCE I MATERIALI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lang="it-IT" sz="1600" spc="-1" strike="noStrike">
                <a:solidFill>
                  <a:srgbClr val="545472"/>
                </a:solidFill>
                <a:latin typeface="Tahoma"/>
              </a:rPr>
              <a:t>E’ responsabilità del coordinatore la riconsegna di tutti i materiali.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lang="it-IT" sz="1600" spc="-1" strike="noStrike">
                <a:solidFill>
                  <a:srgbClr val="545472"/>
                </a:solidFill>
                <a:latin typeface="Tahoma"/>
              </a:rPr>
              <a:t>Per la riconsegna utilizzare la confezione con cui è pervenuto il pacco.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545472"/>
                </a:solidFill>
                <a:uFillTx/>
                <a:latin typeface="Tahoma"/>
              </a:rPr>
              <a:t>Dovranno essere presenti i seguenti materiali: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45472"/>
                </a:solidFill>
                <a:latin typeface="Tahoma"/>
              </a:rPr>
              <a:t>l’</a:t>
            </a:r>
            <a:r>
              <a:rPr b="0" i="1" lang="it-IT" sz="1600" spc="-1" strike="noStrike">
                <a:solidFill>
                  <a:srgbClr val="545472"/>
                </a:solidFill>
                <a:latin typeface="Tahoma"/>
              </a:rPr>
              <a:t>Elenco degli studenti </a:t>
            </a:r>
            <a:r>
              <a:rPr b="0" lang="it-IT" sz="1600" spc="-1" strike="noStrike">
                <a:solidFill>
                  <a:srgbClr val="545472"/>
                </a:solidFill>
                <a:latin typeface="Tahoma"/>
              </a:rPr>
              <a:t>compilato per ogni classe in cui è avvenuta la somministrazione;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45472"/>
                </a:solidFill>
                <a:latin typeface="Tahoma"/>
              </a:rPr>
              <a:t>l’ </a:t>
            </a:r>
            <a:r>
              <a:rPr b="0" i="1" lang="it-IT" sz="1600" spc="-1" strike="noStrike">
                <a:solidFill>
                  <a:srgbClr val="545472"/>
                </a:solidFill>
                <a:latin typeface="Tahoma"/>
              </a:rPr>
              <a:t>Elenco delle prove personalizzate </a:t>
            </a:r>
            <a:r>
              <a:rPr b="0" lang="it-IT" sz="1600" spc="-1" strike="noStrike">
                <a:solidFill>
                  <a:srgbClr val="545472"/>
                </a:solidFill>
                <a:latin typeface="Tahoma"/>
              </a:rPr>
              <a:t>compilato;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45472"/>
                </a:solidFill>
                <a:latin typeface="Tahoma"/>
              </a:rPr>
              <a:t>l’</a:t>
            </a:r>
            <a:r>
              <a:rPr b="0" i="1" lang="it-IT" sz="1600" spc="-1" strike="noStrike">
                <a:solidFill>
                  <a:srgbClr val="545472"/>
                </a:solidFill>
                <a:latin typeface="Tahoma"/>
              </a:rPr>
              <a:t>Elenco delle classi</a:t>
            </a:r>
            <a:r>
              <a:rPr b="0" lang="it-IT" sz="1600" spc="-1" strike="noStrike">
                <a:solidFill>
                  <a:srgbClr val="545472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45472"/>
                </a:solidFill>
                <a:latin typeface="Tahoma"/>
              </a:rPr>
              <a:t>tre </a:t>
            </a:r>
            <a:r>
              <a:rPr b="0" i="1" lang="it-IT" sz="1600" spc="-1" strike="noStrike">
                <a:solidFill>
                  <a:srgbClr val="545472"/>
                </a:solidFill>
                <a:latin typeface="Tahoma"/>
              </a:rPr>
              <a:t>Moduli di somministrazione </a:t>
            </a:r>
            <a:r>
              <a:rPr b="0" lang="it-IT" sz="1600" spc="-1" strike="noStrike">
                <a:solidFill>
                  <a:srgbClr val="545472"/>
                </a:solidFill>
                <a:latin typeface="Tahoma"/>
              </a:rPr>
              <a:t>(uno per ciascuna prova) per ogni classe oggetto di somministrazione;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45472"/>
                </a:solidFill>
                <a:latin typeface="Tahoma"/>
              </a:rPr>
              <a:t>tutti i fascicoli compilati e quelli non utilizzati (compresi quelli degli studenti con disabilità visive e   prove personalizzate per studenti stranieri). Le prove degli studenti con disabilità intellettive devono essere trattenute persso le scuole e consegnate solo in caso di espressa richiesta da parte dell’INValSI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45472"/>
                </a:solidFill>
                <a:latin typeface="Tahoma"/>
              </a:rPr>
              <a:t>la relazione del coordinatore della scuola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it-IT" sz="1600" spc="-1" strike="noStrike">
                <a:solidFill>
                  <a:srgbClr val="545472"/>
                </a:solidFill>
                <a:latin typeface="Tahoma"/>
              </a:rPr>
              <a:t>Si ricorda di conservare una copia di tutti gli Elenchi, Moduli e Relazioni compilati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it-IT" sz="1600" spc="-1" strike="noStrike">
                <a:solidFill>
                  <a:srgbClr val="545472"/>
                </a:solidFill>
                <a:latin typeface="Tahoma"/>
              </a:rPr>
              <a:t>Il coordinatore dovrà applicare sul pacco l’etichetta adesiva con l’indirizzo di ritorno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304560" y="2282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660066"/>
                </a:solidFill>
                <a:uFillTx/>
                <a:latin typeface="Tahoma"/>
              </a:rPr>
              <a:t>Restituzione dei materiali: cosa fa il coordinator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660066"/>
                </a:solidFill>
                <a:uFillTx/>
                <a:latin typeface="Tahoma"/>
              </a:rPr>
              <a:t>Riferimen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5472"/>
                </a:solidFill>
                <a:latin typeface="Tahoma"/>
              </a:rPr>
              <a:t>Per qualsiasi problema riguardante i contenuti delle prove e le modalità d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5472"/>
                </a:solidFill>
                <a:latin typeface="Tahoma"/>
              </a:rPr>
              <a:t>somministrazione si prega di contattare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45472"/>
                </a:solidFill>
                <a:latin typeface="Tahoma"/>
              </a:rPr>
              <a:t>INValSI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45472"/>
                </a:solidFill>
                <a:latin typeface="Tahoma"/>
              </a:rPr>
              <a:t>- tel 06-94185235 / 273 / 274 / 275 / 276 / 277 / 278 / 301 / 302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45472"/>
                </a:solidFill>
                <a:latin typeface="Tahoma"/>
              </a:rPr>
              <a:t>- fax: 06-94185202 / 94017083 / 94298252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45472"/>
                </a:solidFill>
                <a:latin typeface="Tahoma"/>
              </a:rPr>
              <a:t>- e-mail: snv2004@invalsi.i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545472"/>
                </a:solidFill>
                <a:latin typeface="Tahoma"/>
              </a:rPr>
              <a:t>Copia del Manuale del Somministratore e del Coordinatore è disponibile sul sito dell’INValSI: </a:t>
            </a:r>
            <a:r>
              <a:rPr b="0" lang="it-IT" sz="2000" spc="-1" strike="noStrike" u="sng">
                <a:solidFill>
                  <a:srgbClr val="9595ff"/>
                </a:solidFill>
                <a:uFillTx/>
                <a:latin typeface="Tahoma"/>
                <a:hlinkClick r:id="rId2"/>
              </a:rPr>
              <a:t>www.invalsi.</a:t>
            </a:r>
            <a:r>
              <a:rPr b="0" lang="it-IT" sz="2000" spc="-1" strike="noStrike" u="sng">
                <a:solidFill>
                  <a:srgbClr val="9595ff"/>
                </a:solidFill>
                <a:uFillTx/>
                <a:latin typeface="Tahoma"/>
                <a:hlinkClick r:id="rId3"/>
              </a:rPr>
              <a:t>i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545472"/>
                </a:solidFill>
                <a:latin typeface="Tahoma"/>
              </a:rPr>
              <a:t>Copia di questa presentazione è reperibile sul sito:</a:t>
            </a:r>
            <a:r>
              <a:rPr b="0" lang="it-IT" sz="2000" spc="-1" strike="noStrike" u="sng">
                <a:solidFill>
                  <a:srgbClr val="9595ff"/>
                </a:solidFill>
                <a:uFillTx/>
                <a:latin typeface="Tahoma"/>
                <a:hlinkClick r:id="rId4"/>
              </a:rPr>
              <a:t>www.scuola.</a:t>
            </a:r>
            <a:r>
              <a:rPr b="0" lang="it-IT" sz="2000" spc="-1" strike="noStrike" u="sng">
                <a:solidFill>
                  <a:srgbClr val="9595ff"/>
                </a:solidFill>
                <a:uFillTx/>
                <a:latin typeface="Tahoma"/>
                <a:hlinkClick r:id="rId5"/>
              </a:rPr>
              <a:t>fvg</a:t>
            </a:r>
            <a:r>
              <a:rPr b="0" lang="it-IT" sz="2000" spc="-1" strike="noStrike" u="sng">
                <a:solidFill>
                  <a:srgbClr val="9595ff"/>
                </a:solidFill>
                <a:uFillTx/>
                <a:latin typeface="Tahoma"/>
                <a:hlinkClick r:id="rId6"/>
              </a:rPr>
              <a:t>.</a:t>
            </a:r>
            <a:r>
              <a:rPr b="0" lang="it-IT" sz="2000" spc="-1" strike="noStrike" u="sng">
                <a:solidFill>
                  <a:srgbClr val="9595ff"/>
                </a:solidFill>
                <a:uFillTx/>
                <a:latin typeface="Tahoma"/>
                <a:hlinkClick r:id="rId7"/>
              </a:rPr>
              <a:t>it</a:t>
            </a:r>
            <a:r>
              <a:rPr b="0" lang="it-IT" sz="2000" spc="-1" strike="noStrike" u="sng">
                <a:solidFill>
                  <a:srgbClr val="9595ff"/>
                </a:solidFill>
                <a:uFillTx/>
                <a:latin typeface="Tahoma"/>
                <a:hlinkClick r:id="rId8"/>
              </a:rPr>
              <a:t> </a:t>
            </a:r>
            <a:r>
              <a:rPr b="0" i="1" lang="it-IT" sz="2000" spc="-1" strike="noStrike">
                <a:solidFill>
                  <a:srgbClr val="545472"/>
                </a:solidFill>
                <a:latin typeface="Tahoma"/>
              </a:rPr>
              <a:t>alla voce ”Valutazione-Sistema Nazionale di Valutazione”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elenco%20studenti" descr=""/>
          <p:cNvPicPr/>
          <p:nvPr/>
        </p:nvPicPr>
        <p:blipFill>
          <a:blip r:embed="rId2"/>
          <a:stretch/>
        </p:blipFill>
        <p:spPr>
          <a:xfrm>
            <a:off x="2057400" y="152280"/>
            <a:ext cx="4871880" cy="6477120"/>
          </a:xfrm>
          <a:prstGeom prst="rect">
            <a:avLst/>
          </a:prstGeom>
          <a:ln w="0">
            <a:noFill/>
          </a:ln>
        </p:spPr>
      </p:pic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7620120" y="5486400"/>
            <a:ext cx="990360" cy="533520"/>
          </a:xfrm>
          <a:prstGeom prst="leftArrow">
            <a:avLst>
              <a:gd name="adj1" fmla="val 50000"/>
              <a:gd name="adj2" fmla="val 46407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elenco%20classi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7620120" cy="570240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rId3" action="ppaction://hlinksldjump"/>
          </p:cNvPr>
          <p:cNvSpPr/>
          <p:nvPr/>
        </p:nvSpPr>
        <p:spPr>
          <a:xfrm>
            <a:off x="7620120" y="5486400"/>
            <a:ext cx="990360" cy="533520"/>
          </a:xfrm>
          <a:prstGeom prst="leftArrow">
            <a:avLst>
              <a:gd name="adj1" fmla="val 50000"/>
              <a:gd name="adj2" fmla="val 46407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modulo%20prove%20personalizzate" descr=""/>
          <p:cNvPicPr/>
          <p:nvPr/>
        </p:nvPicPr>
        <p:blipFill>
          <a:blip r:embed="rId2"/>
          <a:stretch/>
        </p:blipFill>
        <p:spPr>
          <a:xfrm>
            <a:off x="1905120" y="228600"/>
            <a:ext cx="4863960" cy="624852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7620120" y="5486400"/>
            <a:ext cx="990360" cy="533520"/>
          </a:xfrm>
          <a:prstGeom prst="leftArrow">
            <a:avLst>
              <a:gd name="adj1" fmla="val 50000"/>
              <a:gd name="adj2" fmla="val 46407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660066"/>
                </a:solidFill>
                <a:uFillTx/>
                <a:latin typeface="Tahoma"/>
              </a:rPr>
              <a:t>Indicazioni gener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presentazione della rilevazione degli apprendimenti per l’anno scolastico 2004-2005 come parte della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rilevazione annuale nazionale del sistema educativo di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istruzione condotta dal SNV e dei suoi obiettivi;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sensibilizzazione ad una partecipazione consapevole degli studenti (riservatezza e non anonimato);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garanzia delle stesse condizioni di misura: necessità di leggere le istruzioni ed utilizzare lo stesso linguaggio;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conservazione delle prove in un luogo sicuro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660066"/>
                </a:solidFill>
                <a:uFillTx/>
                <a:latin typeface="Tahoma"/>
              </a:rPr>
              <a:t>Il coordinato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Assicura la corretta distribuzione, compilazione e raccolta degli elenchi e delle prov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20202"/>
                </a:solidFill>
                <a:latin typeface="Times New Roman"/>
              </a:rPr>
              <a:t>È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 responsabile dell’organizzazione della somministrazion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In collaborazione con il Dirigente scolastico individua i somministrator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Illustra le procedure di somministrazione descritte nel 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Manuale del coordinatore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 e nel 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Manuale del somministrator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660066"/>
                </a:solidFill>
                <a:uFillTx/>
                <a:latin typeface="Tahoma"/>
              </a:rPr>
              <a:t>Cosa fa il coordinator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095120"/>
            <a:ext cx="8497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controlla i materiali ricevuti: 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</a:rPr>
              <a:t>n. de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i fascicoli delle prove; 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</a:rPr>
              <a:t>n. degli 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Elenc</a:t>
            </a:r>
            <a:r>
              <a:rPr b="0" i="1" lang="hr-HR" sz="2600" spc="-1" strike="noStrike">
                <a:solidFill>
                  <a:srgbClr val="020202"/>
                </a:solidFill>
                <a:latin typeface="Times New Roman"/>
              </a:rPr>
              <a:t>hi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 delle classi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e 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</a:rPr>
              <a:t>de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gli 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Elenchi degli studenti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</a:rPr>
              <a:t>,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</a:rPr>
              <a:t>n. di 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Manual</a:t>
            </a:r>
            <a:r>
              <a:rPr b="0" i="1" lang="hr-HR" sz="2600" spc="-1" strike="noStrike">
                <a:solidFill>
                  <a:srgbClr val="020202"/>
                </a:solidFill>
                <a:latin typeface="Times New Roman"/>
              </a:rPr>
              <a:t>i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 del somministratore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</a:rPr>
              <a:t> (1 per classe)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assicura che i materiali siano conservati in un luogo sicuro 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provvede ad applicare e/o far applicare, qualche giorno prima della somministrazione, le etichette</a:t>
            </a:r>
            <a:r>
              <a:rPr b="0" lang="hr-HR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autoadesive con i codici identificativ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controlla l’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Elenco delle classi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e/o fa compilare l’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Elenco degli student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organizza la somministrazione delle prove agli student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660066"/>
                </a:solidFill>
                <a:uFillTx/>
                <a:latin typeface="Tahoma"/>
              </a:rPr>
              <a:t>Cosa fa il coordinatore?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56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si accorda per quanto riguarda le somministrazioni personalizzat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organizza la somministrazione del 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Questionario sull’Indagine nazionale per il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funzionamento e le prestazioni delle istituzioni scolastich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conserva una copia di tutti gli elenchi compilat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riconsegna secondo le modalità indicate, i fascicoli utilizzati e non, l’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Elenco delle classi, 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l’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Elenco degli studenti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, i </a:t>
            </a:r>
            <a:r>
              <a:rPr b="0" i="1" lang="it-IT" sz="2600" spc="-1" strike="noStrike">
                <a:solidFill>
                  <a:srgbClr val="020202"/>
                </a:solidFill>
                <a:latin typeface="Times New Roman"/>
              </a:rPr>
              <a:t>Moduli di somministrazione</a:t>
            </a: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, una breve relazion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20202"/>
                </a:solidFill>
                <a:latin typeface="Times New Roman"/>
              </a:rPr>
              <a:t>si collega periodicamente al sito dell’INValSI per consultare aspetti organizzativi e gestionali del Servizio Nazionale di Valutazione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072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660066"/>
                </a:solidFill>
                <a:uFillTx/>
                <a:latin typeface="Tahoma"/>
              </a:rPr>
              <a:t>Come s</a:t>
            </a:r>
            <a:r>
              <a:rPr b="0" lang="hr-HR" sz="4400" spc="-1" strike="noStrike" u="sng">
                <a:solidFill>
                  <a:srgbClr val="660066"/>
                </a:solidFill>
                <a:uFillTx/>
                <a:latin typeface="Tahoma"/>
              </a:rPr>
              <a:t>cegliere i somministrato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1374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La somministrazione dovrà essere affidata agli insegnanti che avrebbero fatto lezione nel giorno e nell’ora stabilita per lo svolgimento delle prove (anche se l’insegnante è un supplente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È IMPORTANTE CHE IL SOMMINISTRATORE</a:t>
            </a:r>
            <a:r>
              <a:rPr b="0" lang="it-IT" sz="28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NON SIA</a:t>
            </a:r>
            <a:r>
              <a:rPr b="0" lang="it-IT" sz="28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L’INSEGNANTE DELLA CLASSE DOVE</a:t>
            </a:r>
            <a:r>
              <a:rPr b="0" lang="it-IT" sz="28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SOMMINISTRA LE PROV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660066"/>
                </a:solidFill>
                <a:uFillTx/>
                <a:latin typeface="Tahoma"/>
              </a:rPr>
              <a:t>Come s</a:t>
            </a:r>
            <a:r>
              <a:rPr b="0" lang="hr-HR" sz="4400" spc="-1" strike="noStrike" u="sng">
                <a:solidFill>
                  <a:srgbClr val="660066"/>
                </a:solidFill>
                <a:uFillTx/>
                <a:latin typeface="Tahoma"/>
              </a:rPr>
              <a:t>cegliere i somministratori</a:t>
            </a:r>
            <a:r>
              <a:rPr b="0" lang="it-IT" sz="4400" spc="-1" strike="noStrike" u="sng">
                <a:solidFill>
                  <a:srgbClr val="660066"/>
                </a:solidFill>
                <a:uFillTx/>
                <a:latin typeface="Tahoma"/>
              </a:rPr>
              <a:t>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Il coordinatore è tenuto a sensibilizzare i somministratori sull’importanza dell’indagine e a consegnare loro,</a:t>
            </a:r>
            <a:r>
              <a:rPr b="0" lang="it-IT" sz="28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qualche giorno prima della somministrazione, il </a:t>
            </a:r>
            <a:r>
              <a:rPr b="0" i="1" lang="it-IT" sz="28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Manuale del</a:t>
            </a:r>
            <a:r>
              <a:rPr b="0" i="1" lang="it-IT" sz="28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somministrato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Gli insegnanti in servizio nel giorno della</a:t>
            </a:r>
            <a:r>
              <a:rPr b="0" lang="it-IT" sz="28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20202"/>
                </a:solidFill>
                <a:latin typeface="Times New Roman"/>
                <a:ea typeface="Times New Roman"/>
              </a:rPr>
              <a:t>somministrazione non possono rifiutarsi di somministrare: la somministrazione fa parte dei normali compiti di insegnament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9:21:00Z</dcterms:created>
  <dc:creator>Pietro Sbisa</dc:creator>
  <dc:description/>
  <dc:language>en-US</dc:language>
  <cp:lastModifiedBy>bullo</cp:lastModifiedBy>
  <dcterms:modified xsi:type="dcterms:W3CDTF">2005-03-16T13:15:05Z</dcterms:modified>
  <cp:revision>31</cp:revision>
  <dc:subject/>
  <dc:title>Procedure e modalità della somministrazione cartacea</dc:title>
</cp:coreProperties>
</file>