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734-DFEF-4882-9F95-82F32971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82F3-90E1-4F13-A980-684BCB46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14DC-C1EF-42CE-9E2A-B29B07F6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2CFE-C755-4DD5-B4C3-7CEB7BF9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46A3-8058-411D-83C5-F9B932F9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2FA9-6341-45D0-8340-2A682267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D04B-088B-42A0-9DE5-37B4721F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D1C7-962C-479F-908C-49AF8C9F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0623-920C-4E43-AE7F-4DC72E29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44DF-4070-434A-B4B4-B7CF253A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75B5-C1C3-4A79-921C-6BD9A731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36D6-495F-4F95-B461-2628BA80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958B-3B88-4EA7-9F83-74525606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758F-AD1F-48CB-A245-AA6E629B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C26A-7FC8-4772-873B-32E40A41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34BD-3AF6-4E5C-A65B-894DF138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EDAA-8A8D-4F0E-9E2B-52039B52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D9C2-C92C-4298-9F4E-97B55502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790E-AF3D-45CB-B48D-4FDE575A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CAC4-6B48-4CD9-8D7A-AD99EC92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915B-DEDE-432E-ADA6-9FB407DB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385D-14FF-4846-9250-0D65C888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34EA-4106-4F18-A6DC-5C3FB419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390E-802C-4D82-984F-DA9E5470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F792-685A-445F-913B-91F094A4D8A0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E48B-036D-48A5-B678-4CFC727CD0E2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Le prove INVal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440" y="5029200"/>
            <a:ext cx="75438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797b7"/>
                </a:solidFill>
                <a:latin typeface="Tahoma"/>
              </a:rPr>
              <a:t>A cura della Dott.ssa Daniela Calligaris</a:t>
            </a:r>
            <a:r>
              <a:rPr b="1" lang="it-IT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8888ae"/>
                </a:solidFill>
                <a:latin typeface="Tahoma"/>
              </a:rPr>
              <a:t>- gruppo  regionale per il sistema di valutazione USR FVG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888ae"/>
                </a:solidFill>
                <a:latin typeface="Tahoma"/>
              </a:rPr>
              <a:t>Servizio Nazionale di Valutazione 2004 - 2005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9. Prove di Italiano: caratteristiche della prov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N° delle prove:1 testo in II el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                         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2 testi in IV el.I media,I sup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                         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3 testi in III sup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N° quesiti: da 10 a 15/20 per ciacsun testo secondo il livello scolar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4 item ( 3 distrattori e una risposta esatta) per IV, I, I sup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3 item per la II elem. 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                            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0. Prove di Italiano: tipologia di testi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12952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Livello scolar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Tipologia testual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I primaria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Letterario: narrativo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V primaria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Letterario: narrativo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unzionale: espositivo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 sec. di I°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Letterario: narrativo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unzionale: espositivo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 sec. di II°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Letterario. Narrativo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unzionale: Espos./ argom.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II sec. di II°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Letterario: poetico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unzionale: espos/argom.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1. Prove di Italiano: operazioni logiche sottese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apacità di individuazione. Comprende tutta l’area del riconoscimento di elementi linguistici e testuali          SAPER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apacità di analisi: comprende l’area della ricerca di elementi in contesto, di relazioni interne al testo, dell’organizzazione testuale.                         SAPER FAR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ono basi conoscitive essenziali per effettuare operazioni più complesse ( dedurre, correlare etc.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12. Prove di Italiano: ambiti sottoposti a valutazion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45472"/>
                </a:solidFill>
                <a:latin typeface="Tahoma"/>
              </a:rPr>
              <a:t>Abilità grafiche (e di scrittura )di base: ortogr., uso dei tempi e dei modi.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45472"/>
                </a:solidFill>
                <a:latin typeface="Tahoma"/>
              </a:rPr>
              <a:t>Morfologia e sintassi: categorie grammaticali,funzione delle parole,caratteristiche morfologiche, subordinazione…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45472"/>
                </a:solidFill>
                <a:latin typeface="Tahoma"/>
              </a:rPr>
              <a:t>Lessico. Significato dei termini in contesto, rapporti tra parole ( sinonimia, antinomia,campi semantici…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45472"/>
                </a:solidFill>
                <a:latin typeface="Tahoma"/>
              </a:rPr>
              <a:t>Sintassi della frase: funzioni fondamentali di sogg. e ogg.sintattico, funzione predicativa e attributiva, fenomeni di reggenza…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45472"/>
                </a:solidFill>
                <a:latin typeface="Tahoma"/>
              </a:rPr>
              <a:t>Organizzazione logica entro e oltre la frase: dimensione logica del significato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45472"/>
                </a:solidFill>
                <a:latin typeface="Tahoma"/>
              </a:rPr>
              <a:t>Aspetti retorici e formali: similitudini, metafore… tipi di verso e di rima, struttura compositiva, varietà di registro….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45472"/>
                </a:solidFill>
                <a:latin typeface="Tahoma"/>
              </a:rPr>
              <a:t>Comprensione locale e globale del testo: unità tematiche, gerarchia dei temi, tema di fondo, informazioni implicite, funzioni cognitive del testo ( narrare, descrivere, argomentare…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3. Prove di Matematica:tipologia di prove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09480" y="914400"/>
          <a:ext cx="8229600" cy="5246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Livello scolar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° quesiti e tempo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uclei di conoscenza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I primaria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6 quesiti in 25 minuti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umero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eometria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V primaria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8 quesiti in 45 minuti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umero- geometria- misura- introduzione al pensiero razional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 sec di I°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8 quesiti in 45 minuti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umero- geometria- misura- introduzione al pensiero razional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 sec. di II°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0 quesiti in 60 minuti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umero e algebra-geometria- relazioni e funzioni- dati, previsioni logica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II sec. di II°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( 2 forme della stessa prova, una di alfabet. ed una specialistica)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0 quesiti in 60 minuti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umero e algebra- geometria- relazioni e funzioni- dati, previsioni, logica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0066"/>
                </a:solidFill>
                <a:latin typeface="Tahoma"/>
              </a:rPr>
              <a:t>14. Prove di Matem. di II elem: conoscenze e abilità sottoposte a valutazione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62120" y="1295280"/>
          <a:ext cx="7772040" cy="4114440"/>
        </p:xfrm>
        <a:graphic>
          <a:graphicData uri="http://schemas.openxmlformats.org/drawingml/2006/table">
            <a:tbl>
              <a:tblPr/>
              <a:tblGrid>
                <a:gridCol w="3885840"/>
                <a:gridCol w="3886200"/>
              </a:tblGrid>
              <a:tr h="205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umero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( 60% dei quesiti)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Lettura e scrittura dei numeri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Riconoscimento di regol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Risolvere un problema scegliendo le operazioni opportun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eometri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(40% dei quesiti)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Riconoscere e denominare figure geometrich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dividuare punti in una quadrettatura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5:In IV primari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33520" y="914400"/>
          <a:ext cx="8229600" cy="5051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umero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( 50% dei quesiti)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onoscere i numeri naturali e decimali e saper operare con essi; scrittura posizionale dei numeri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ttuare approssimazioni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onoscere e saper applicare le proprietà delle operazioni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ozione di frazione e suo utilizzo come operatore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4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eometri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(30% dei quesiti)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Riconoscere, denominare, descrivere figure geometriche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onoscere le proprietà delle figure geometriche piane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dividuare simmetrie in oggetti e figure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alcolare per conteggio aree e perimetri data l’unità di misura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Misur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( 10% dei quesiti)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onoscere il sist. Metrico decim. E saper fare conversioni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timare la misura di oggetti comuni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cegliere l’unità di mis. Più adatta per misurare oggetti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troduzione al pensiero razional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(10% dei quesiti)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omprendere termini del linguaggio specifico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Utilizzare correttam. I termini matem.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lassificare figure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Risolvere un problema identificando dati e percorso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16: In I sec. di I°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3520" y="914400"/>
          <a:ext cx="8229600" cy="5243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umero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(50% dei quesiti)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onoscere i num. natur. e decimali, operare con essi e attuare approssimazioni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onoscere e applicare le proprietà delle operazioni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onoscere i num. razionali, la frazione, confronto e ordinam. tra numeri naturali 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onoscere decimali e frazioni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eometri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(30% dei quesiti)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Riconoscere, denominare e descrivere figure geom.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onoscere le proprietà delle fig. geom. piane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dividuare simmetrie in ogg. e figure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alcolare aree e perimetri in fig. geom.conosciute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Misura(10% dei quesiti)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onoscere il sist. metr.decim. ed effettuare conversioni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cegliere l’unità di mis. più adatta ad oggetti da misurare 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Dati e previsioni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(5% dei quesiti)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apacità di rappresentare e leggere grafici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Di fare previsioni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aper calcolare la misura di probabilità in  semplici contesti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trod. al pensiero razionale(5% dei quesiti)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Utilizzare in modo corretto i termini matematici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lassificare figure, oggetti, numeri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1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dividuare le informazioni necessarie e organizzare un percorso adeguato per risolvere un problema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7: in sec. di II°cl. prime e terze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066680"/>
          <a:ext cx="8229600" cy="4651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umero e Algebr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(30% dei quesiti)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onoscenze fondam. di numeri naturali, interi, razionali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alcolo numerico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imbolizzazione e manipolazione dei simboli algebrici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ormalizzazione di situazioni in contesti concreti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eometri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(30% dei quesiti)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onoscenze fondamentali di figure piane e di spazio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Trasformazioni geometriche: riconoscimento di proprietà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Operare formalizzazioni in contesto geometrico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Riconoscere e usare le proprietà geometriche delle figure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Relazioni e funzioni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(20% dei quesiti)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onoscenze fondam. della nozione e prime proprietà delle funzioni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Lettura di grafici e tabelle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ormalizzazione di relazioni e funzioni in contesti diversi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4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Dati e previsioni, logic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( 20% dei quesiti)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onoscenze fondam. di probabilità e semplici valutazioni probabilistiche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Lettura e interpretazione di rappresentazioni grafiche di dati di varia natura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apacità di formare in contesti probabilistici vari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0000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Uso del linguaggio verb. e simbol. e intrepret. di testi linguistici o formalizzati in situazioni incerte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8:Prove di SCIENZE: tipologia di prove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33520" y="914400"/>
          <a:ext cx="8229600" cy="5280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Livello scolar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° quesiti e tempo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uclei di conoscenza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I primaria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0 quesiti in 30’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Elementi di metodo sperimental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Viventi e non viventi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Uomo/ambient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4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V primaria e I sec. di I°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5/ 28 quesiti in 45 ‘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Elementi di metodo sperim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Viventi e non viventi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Uomo/ ambient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trasformazioni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205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 e III sec. di II°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5/ 28 quesiti in 45’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Elementi di metodo sperim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Biologia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himica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isica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cienze della terra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cienze dell’ambient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.PROVE INVALSI: finalità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n prove valutative dei singoli alunni o classi (standard di prestazione degli apprendimenti degli allievi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n strumento valutativo di singoli docenti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Valutazione esterna con valore statistico: misurano il prodotto del sistema di formazione scolastico e promuovono la valutazione interna dei processi di apprendiment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9: prove di Scienze: abilità II primari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62120" y="1143000"/>
          <a:ext cx="7772040" cy="4114440"/>
        </p:xfrm>
        <a:graphic>
          <a:graphicData uri="http://schemas.openxmlformats.org/drawingml/2006/table">
            <a:tbl>
              <a:tblPr/>
              <a:tblGrid>
                <a:gridCol w="3885840"/>
                <a:gridCol w="3886200"/>
              </a:tblGrid>
              <a:tr h="205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Osservar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Esplorare attraverso i sensi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Discriminare tra viventi e non viventi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Ordinar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lassificar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tabilire relazioni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0066"/>
                </a:solidFill>
                <a:latin typeface="Tahoma"/>
              </a:rPr>
              <a:t>20 prove di scienze: abilità IV prim. e I sec I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33520" y="990720"/>
          <a:ext cx="8229600" cy="4805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Osservar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Descriver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Raccogliere dati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Riflettere su indizi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Riconoscere caratteristiche specifiche di un fenomeno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Ordinar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 sequenze temporali e/o logich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lassificar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tabilire relazioni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 base a caratteristiche specifich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onfrontare in termini qualitativi e/o quantitativi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Linguaggi specifici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Leggere e comprendere un testo scientifico usando termini del lessico specifico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Leggere il linguaggio grafico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21: prove di scienze: abilità cl.I sec. II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33520" y="914400"/>
          <a:ext cx="8229600" cy="5159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Osservar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Riconoscere fenomeni di natura diversa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lassificar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Ordinare in sequenze temporali e logiche, in termini quantitativi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tabilire relazioni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Riconoscere caratteristiche specifich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9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Linguaggi specifici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Utilizzare il linguaggio matematico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alcolare, quantificare, confrontar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Leggere tabelle, grafici, disegni in scala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terpretare dati empirici e sperimentali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Risolvere situazioni problematiche mediante concetti disciplinari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Leggere e comprendere un testo scientifico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22 prove di scienze: abilità III sec II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33520" y="1066680"/>
          <a:ext cx="8229600" cy="4908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lassificar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Ordinare in sequenze temporali e/o logich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Riconoscere caratteristiche specifich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9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Linguaggi specifici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Utilizzare il linguaggio matematico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alcolare, quantificare( unità di misura, strumenti di misura, confrontare)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Leggere tabelle, grafici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terpretare dati sperimentali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Risolvere situazioni problematiche in termini qualitativi utilizzando concetti di diverse discipline e quantitativi utilizzando modellizzazioni matematich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Leggere e comprendere un testo scientifico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0066"/>
                </a:solidFill>
                <a:latin typeface="Tahoma"/>
              </a:rPr>
              <a:t>2. Sono uno strumento per riflerttere su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ndamentali abilità e conoscenze acquisit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Validità di scelte didattiche effettuat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mpiezza, profondità e coerenza del curriculum disciplinar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3. Intendono essere stimolo e indicazione per migliorar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 costruzione del sapere, non appiattito su un addestramento meccanic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o sviluppo dei processi cognitivi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o sviluppo delle competenze ritenute fondamentali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4.POSSIBILI RICADUTE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all’analisi degli esiti possono esser ricavate modificazioni al curricol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e informazioni ricavate evidenziano gli effetti delle scelte didattiche fatt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ffrono una guida per migliorare l’insegnament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anno la possibilità di curare la crescita del retroterra cognitivo e culturale di cui si testa l’esistenz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5.Costruzione delle prove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ruppo di lavoro costituito da esperti disciplinari provenienti dal mondo accademico, dalla scuola, da ricercatori INValSI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ruppo originario è stato integrato da esperti provenienti dalla Scuol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Ha operato in continuità con i PP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6. Criteri per la costruzione delle prove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Calibrati gli item PP3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Individuate le abilità ritenute irrinunciabili tenendo conto delle indicazioni naz.li, degli OSA (I ciclo) e dei programmi generalmente sviluppati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Ricorsività di alcune conoscenze ed abilità graduate in più livelli ed esplorazione con complessità crescent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7. Criteri per la costruzione delle prove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Struttura dei quesiti per riflettere, non per rispondere meccanicament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Uniformità della struttura ( quesiti a scelta multipla per lettura ottica e restituzione esiti in tempi brevi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Durata della prova non superiore ad 1 ora (30’ per la II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Taratura dei quesiti nel pretesting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8. Criteri per la costruzione delle prove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I ciclo: una prova per disciplina e per livell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Sec. di II°- cl. I : nessuna differenziazion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Sec. di II° - cl. 3: diverso comportamento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- Italiano: nessuna differenziaz.( saggiate conoscenze ed abilità di base che TUTTI gli stud. devono avere dopo 10 anni di scolarità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- Mat. e Scienze: 2 forme della stessa prova:una di alfabetizzazione mat e scient.per tutti ed una specialistica( Ist. Tecnici, liceo scient.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12:10:46Z</dcterms:created>
  <dc:creator>daniela calligaris</dc:creator>
  <dc:description/>
  <dc:language>en-US</dc:language>
  <cp:lastModifiedBy>bullo</cp:lastModifiedBy>
  <dcterms:modified xsi:type="dcterms:W3CDTF">2005-03-16T13:30:11Z</dcterms:modified>
  <cp:revision>17</cp:revision>
  <dc:subject/>
  <dc:title>Prove INVALSI</dc:title>
</cp:coreProperties>
</file>