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media/image1.wmf" ContentType="image/x-wmf"/>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60A9B3-5204-40B5-B6CC-E57CF2AD42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71F7BC-BEE7-444B-A78E-B81CB0A896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9D793D-FE65-4EE7-A01C-1DD293BAA4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27E6D8-7A4B-4880-96C5-66CC9EF73D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A2E7D2-A6FD-4014-91A1-6300C3CB5E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FCA3C3-5BD0-4F6D-AC4F-7CD01C23B4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A5082E-E79B-4C22-A264-8BF51F6979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B8755E-51F0-4DB4-929E-E82DA55F5C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0A5DE8-F166-40B6-9239-DF27C63CF0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92CBA9-957C-4294-B56D-8337782641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2B7066-5210-4473-B964-AC92F5B25B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965ECA-8E93-489C-B27B-21409DD39B7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26E213-9B3F-4930-8014-CBC11EE19AE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hyperlink" Target="http://www.istruzione.it/prehome/comunicati/2005/1002bis.shtml" TargetMode="External"/><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file:///F:/VP%20webliografia/VP%20materiali%20web/VP%20materiale%20vario%20web/VP%20TIMSS%202003%20conferenza%20stampa.pdf" TargetMode="External"/><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hyperlink" Target="http://www.pisa.oecd.org/" TargetMode="External"/><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04920" y="990360"/>
            <a:ext cx="8610480" cy="327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INVALSI:</a:t>
            </a:r>
            <a:br>
              <a:rPr sz="5400"/>
            </a:br>
            <a:r>
              <a:rPr b="0" lang="en-US" sz="5400" spc="-1" strike="noStrike">
                <a:solidFill>
                  <a:srgbClr val="000000"/>
                </a:solidFill>
                <a:latin typeface="Times New Roman"/>
              </a:rPr>
              <a:t>IL SISTEMA NAZIONALE DI VALUTAZIONE</a:t>
            </a:r>
            <a:br>
              <a:rPr sz="5400"/>
            </a:br>
            <a:r>
              <a:rPr b="0" lang="en-US" sz="5400" spc="-1" strike="noStrike">
                <a:solidFill>
                  <a:srgbClr val="000000"/>
                </a:solidFill>
                <a:latin typeface="Times New Roman"/>
              </a:rPr>
              <a:t>E I SUOI PARENTI</a:t>
            </a:r>
            <a:endParaRPr b="0" lang="en-US" sz="5400" spc="-1" strike="noStrike">
              <a:solidFill>
                <a:srgbClr val="000000"/>
              </a:solidFill>
              <a:latin typeface="Times New Roman"/>
            </a:endParaRPr>
          </a:p>
        </p:txBody>
      </p:sp>
      <p:sp>
        <p:nvSpPr>
          <p:cNvPr id="42" name="PlaceHolder 2"/>
          <p:cNvSpPr>
            <a:spLocks noGrp="1"/>
          </p:cNvSpPr>
          <p:nvPr>
            <p:ph type="subTitle"/>
          </p:nvPr>
        </p:nvSpPr>
        <p:spPr>
          <a:xfrm>
            <a:off x="533160" y="4952520"/>
            <a:ext cx="7924680" cy="121932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contri provinciali in Friuli Venezia Giulia</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rzo 2005</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152280" y="0"/>
            <a:ext cx="8839440" cy="380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empusSansITC"/>
              </a:rPr>
              <a:t>Profile of Student Performance in Mathematics 3 - 4</a:t>
            </a:r>
            <a:endParaRPr b="0" lang="en-US" sz="3200" spc="-1" strike="noStrike">
              <a:solidFill>
                <a:srgbClr val="000000"/>
              </a:solidFill>
              <a:latin typeface="Times New Roman"/>
            </a:endParaRPr>
          </a:p>
        </p:txBody>
      </p:sp>
      <p:sp>
        <p:nvSpPr>
          <p:cNvPr id="58" name="PlaceHolder 2"/>
          <p:cNvSpPr>
            <a:spLocks noGrp="1"/>
          </p:cNvSpPr>
          <p:nvPr>
            <p:ph type="subTitle"/>
          </p:nvPr>
        </p:nvSpPr>
        <p:spPr>
          <a:xfrm>
            <a:off x="152280" y="533160"/>
            <a:ext cx="8763120" cy="6019560"/>
          </a:xfrm>
          <a:prstGeom prst="rect">
            <a:avLst/>
          </a:prstGeom>
          <a:noFill/>
          <a:ln w="0">
            <a:noFill/>
          </a:ln>
        </p:spPr>
        <p:txBody>
          <a:bodyPr lIns="90000" rIns="90000" tIns="46800" bIns="46800" anchor="t">
            <a:noAutofit/>
          </a:bodyPr>
          <a:p>
            <a:pPr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Perpetua"/>
              </a:rPr>
              <a:t>At Level 3, students can execute clearly described procedures, including those that require sequential decisions. They can select and apply simple problem-solving strategies. Students at this level can interpret and use representations based on different information sources and reason directly from them. They can develop short communications reporting their interpretations, results and reasoning.</a:t>
            </a:r>
            <a:endParaRPr b="0" lang="en-US" sz="2600" spc="-1" strike="noStrike">
              <a:solidFill>
                <a:srgbClr val="000000"/>
              </a:solidFill>
              <a:latin typeface="Times New Roman"/>
            </a:endParaRPr>
          </a:p>
          <a:p>
            <a:pPr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Perpetua"/>
              </a:rPr>
              <a:t>At Level 4, students can work effectively with explicit models for complex concrete situations that may involve constraints or call for making assumptions. They can select and integrate different representations, including symbolic ones, linking them directly to aspects of realworld situations. Students at this level can utilise well-developed skills and reason .exibly, with some insight, in these contexts. They can construct and communicate explanations and</a:t>
            </a:r>
            <a:endParaRPr b="0" lang="en-US" sz="2600" spc="-1" strike="noStrike">
              <a:solidFill>
                <a:srgbClr val="000000"/>
              </a:solidFill>
              <a:latin typeface="Times New Roman"/>
            </a:endParaRPr>
          </a:p>
          <a:p>
            <a:pPr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Perpetua"/>
              </a:rPr>
              <a:t>arguments based on their interpretations, arguments and actions.</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360" y="0"/>
            <a:ext cx="8839080" cy="380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empusSansITC"/>
              </a:rPr>
              <a:t>Profile of Student Performance in Mathematics 5 - 6</a:t>
            </a:r>
            <a:endParaRPr b="0" lang="en-US" sz="3200" spc="-1" strike="noStrike">
              <a:solidFill>
                <a:srgbClr val="000000"/>
              </a:solidFill>
              <a:latin typeface="Times New Roman"/>
            </a:endParaRPr>
          </a:p>
        </p:txBody>
      </p:sp>
      <p:sp>
        <p:nvSpPr>
          <p:cNvPr id="60" name="PlaceHolder 2"/>
          <p:cNvSpPr>
            <a:spLocks noGrp="1"/>
          </p:cNvSpPr>
          <p:nvPr>
            <p:ph type="subTitle"/>
          </p:nvPr>
        </p:nvSpPr>
        <p:spPr>
          <a:xfrm>
            <a:off x="-360" y="456840"/>
            <a:ext cx="8991720" cy="6172200"/>
          </a:xfrm>
          <a:prstGeom prst="rect">
            <a:avLst/>
          </a:prstGeom>
          <a:noFill/>
          <a:ln w="0">
            <a:noFill/>
          </a:ln>
        </p:spPr>
        <p:txBody>
          <a:bodyPr lIns="90000" rIns="90000" tIns="46800" bIns="46800" anchor="t">
            <a:noAutofit/>
          </a:bodyPr>
          <a:p>
            <a:pPr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Perpetua"/>
              </a:rPr>
              <a:t>At Level 5, students can develop and work with models for complex situations, identifying constraints and specifying assumptions. They can select, compare, and evaluate appropriate problem-solving strategies for dealing with complex problems related to these models. students at this level can work strategically using broad, well-developed thinking and reasoning skills, appropriately linked representations, symbolic and formal characterisations, and insight pertaining to these situations. They can re.ect on their actions and can formulate and communicate their interpretations and reasoning.</a:t>
            </a:r>
            <a:endParaRPr b="0" lang="en-US" sz="2200" spc="-1" strike="noStrike">
              <a:solidFill>
                <a:srgbClr val="000000"/>
              </a:solidFill>
              <a:latin typeface="Times New Roman"/>
            </a:endParaRPr>
          </a:p>
          <a:p>
            <a:pPr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Perpetua"/>
              </a:rPr>
              <a:t>At Level 6, students can conceptualise, generalise, and utilise information based on their investigations and modelling of complex problem situations. They can link different information sources and representations and flexibly translate among them. Students at this level are capable of advanced mathematical thinking and reasoning. These students can apply this insight and understanding, along with a mastery of symbolic and formal mathematical operations and relationships, to develop new approaches and strategies for attacking novel situations. Students at this level can formulate and precisely communicate their actions and reflections regarding their findings, interpretations, arguments, and the appropriateness of these to the original situations. </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I.S.A.: SAR</a:t>
            </a:r>
            <a:r>
              <a:rPr b="0" lang="en-US" sz="3600" spc="-1" strike="noStrike">
                <a:solidFill>
                  <a:srgbClr val="000000"/>
                </a:solidFill>
                <a:latin typeface="Times New Roman"/>
                <a:ea typeface="Times New Roman"/>
              </a:rPr>
              <a:t>À</a:t>
            </a:r>
            <a:r>
              <a:rPr b="0" lang="en-US" sz="3600" spc="-1" strike="noStrike">
                <a:solidFill>
                  <a:srgbClr val="000000"/>
                </a:solidFill>
                <a:latin typeface="Times New Roman"/>
              </a:rPr>
              <a:t> VERO PER NOI?</a:t>
            </a:r>
            <a:endParaRPr b="0" lang="en-US" sz="3600" spc="-1" strike="noStrike">
              <a:solidFill>
                <a:srgbClr val="000000"/>
              </a:solidFill>
              <a:latin typeface="Times New Roman"/>
            </a:endParaRPr>
          </a:p>
        </p:txBody>
      </p:sp>
      <p:sp>
        <p:nvSpPr>
          <p:cNvPr id="62" name="PlaceHolder 2"/>
          <p:cNvSpPr>
            <a:spLocks noGrp="1"/>
          </p:cNvSpPr>
          <p:nvPr>
            <p:ph/>
          </p:nvPr>
        </p:nvSpPr>
        <p:spPr>
          <a:xfrm>
            <a:off x="228600" y="837720"/>
            <a:ext cx="8686800" cy="5257800"/>
          </a:xfrm>
          <a:prstGeom prst="rect">
            <a:avLst/>
          </a:prstGeom>
          <a:noFill/>
          <a:ln w="0">
            <a:noFill/>
          </a:ln>
        </p:spPr>
        <p:txBody>
          <a:bodyPr lIns="90000" rIns="90000" tIns="46800" bIns="46800" anchor="t">
            <a:normAutofit fontScale="99000"/>
          </a:bodyPr>
          <a:p>
            <a:pPr marL="339480" indent="-3394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 risultati di P.I.S.A. pongono il nostro paese di fronte a conflitti cognitivi significativi e l’interrogativo del titolo è ovvio, la stampa, però, ci informa che …</a:t>
            </a:r>
            <a:r>
              <a:rPr b="0" i="1" lang="en-US" sz="1600" spc="-1" strike="noStrike">
                <a:solidFill>
                  <a:srgbClr val="000000"/>
                </a:solidFill>
                <a:latin typeface="Times New Roman"/>
              </a:rPr>
              <a:t>Dal Corriere della Sera, venerdì 4 marzo 2005 (I pagina) </a:t>
            </a:r>
            <a:endParaRPr b="0" lang="en-US" sz="1600" spc="-1" strike="noStrike">
              <a:solidFill>
                <a:srgbClr val="000000"/>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nno accademico 2004 / 2005</a:t>
            </a:r>
            <a:endParaRPr b="0" lang="en-US" sz="24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14.289 iscritti in scienza delle comunicazioni</a:t>
            </a:r>
            <a:endParaRPr b="0" lang="en-US" sz="24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eno di 4.000 in fisica e matematica</a:t>
            </a:r>
            <a:endParaRPr b="0" lang="en-US" sz="24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2.347 in chimica</a:t>
            </a:r>
            <a:endParaRPr b="0" lang="en-US" sz="24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E a Bari su 9.000 iscritti:</a:t>
            </a:r>
            <a:endParaRPr b="0" lang="en-US" sz="2400" spc="-1" strike="noStrike">
              <a:solidFill>
                <a:srgbClr val="000000"/>
              </a:solidFill>
              <a:latin typeface="Times New Roman"/>
            </a:endParaRPr>
          </a:p>
          <a:p>
            <a:pPr lvl="2" marL="1131480" indent="-22608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2.000 hanno scelto giurisprudenza</a:t>
            </a:r>
            <a:endParaRPr b="0" lang="en-US" sz="2400" spc="-1" strike="noStrike">
              <a:solidFill>
                <a:srgbClr val="000000"/>
              </a:solidFill>
              <a:latin typeface="Times New Roman"/>
            </a:endParaRPr>
          </a:p>
          <a:p>
            <a:pPr lvl="2" marL="1131480" indent="-22608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62 chimica</a:t>
            </a:r>
            <a:endParaRPr b="0" lang="en-US" sz="2400" spc="-1" strike="noStrike">
              <a:solidFill>
                <a:srgbClr val="000000"/>
              </a:solidFill>
              <a:latin typeface="Times New Roman"/>
            </a:endParaRPr>
          </a:p>
          <a:p>
            <a:pPr lvl="2" marL="1131480" indent="-22608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50 matematica </a:t>
            </a:r>
            <a:endParaRPr b="0" lang="en-US" sz="24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E al Politecnico di Milano i più vogliono diventare ingegneri gestionali</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A cura isp. Luigi Torchio</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36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I.S.A.: TRATTI ESSENZIALI</a:t>
            </a:r>
            <a:endParaRPr b="0" lang="en-US" sz="3600" spc="-1" strike="noStrike">
              <a:solidFill>
                <a:srgbClr val="000000"/>
              </a:solidFill>
              <a:latin typeface="Times New Roman"/>
            </a:endParaRPr>
          </a:p>
        </p:txBody>
      </p:sp>
      <p:sp>
        <p:nvSpPr>
          <p:cNvPr id="64" name="PlaceHolder 2"/>
          <p:cNvSpPr>
            <a:spLocks noGrp="1"/>
          </p:cNvSpPr>
          <p:nvPr>
            <p:ph/>
          </p:nvPr>
        </p:nvSpPr>
        <p:spPr>
          <a:xfrm>
            <a:off x="152280" y="914040"/>
            <a:ext cx="8686800" cy="51814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imes New Roman"/>
              </a:rPr>
              <a:t>L’esame di tre aree: linguistica, matematica, scientifica, quindi con una chiara scelta di campo</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imes New Roman"/>
              </a:rPr>
              <a:t>L’inter- multi- trans- disciplinarità come approccio teso ad assicurare la massima integrazione</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imes New Roman"/>
              </a:rPr>
              <a:t>L’analisi del retroterra socioculturale e degli stili di studio, lavoro e apprendimento è parte integrante degli interventi posti in essere</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imes New Roman"/>
              </a:rPr>
              <a:t>Vi è la volontà di dare risposte utili al sistema ed alle politiche educative</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A cura isp. Luigi Torchio</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762120" y="1519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LTRI &lt;&lt;PARENTI&gt;&gt;</a:t>
            </a:r>
            <a:endParaRPr b="0" lang="en-US" sz="4400" spc="-1" strike="noStrike">
              <a:solidFill>
                <a:srgbClr val="000000"/>
              </a:solidFill>
              <a:latin typeface="Times New Roman"/>
            </a:endParaRPr>
          </a:p>
        </p:txBody>
      </p:sp>
      <p:sp>
        <p:nvSpPr>
          <p:cNvPr id="66" name="PlaceHolder 2"/>
          <p:cNvSpPr>
            <a:spLocks noGrp="1"/>
          </p:cNvSpPr>
          <p:nvPr>
            <p:ph/>
          </p:nvPr>
        </p:nvSpPr>
        <p:spPr>
          <a:xfrm>
            <a:off x="152280" y="914040"/>
            <a:ext cx="8763120" cy="518148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P.I.S.A. rappresenta uno sforzo grandioso e di estrema importanza scientifica presenta il limite di svolgersi su campioni e con ritmi quasi decennali per il completamento di un intero ciclo valutativo e qui soccorrono</a:t>
            </a:r>
            <a:endParaRPr b="0" lang="en-US" sz="20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Il SNV, Sistema Nazionale di Valutazione</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Il progetto Pro.Va.Re. dell’Ufficio Scolastico Regionale</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Il progetto Risorse dell’Irre</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Le iniziative sul Portfolio, regionali e locali</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Il progetto QIS</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Il progetto Qualità</a:t>
            </a:r>
            <a:endParaRPr b="0" lang="en-US" sz="18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Tutte le iniziative sopra ricordate rispondono, in modi e su segmenti diversi, ad esigenze più o meno approfondite di conoscenza e valutazione delle istituzioni scolastiche</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Molto importanti si ritingono il piano di azione diramato in concomitanza della conferenza nazionale su P.I.S.A., esso è reperibile al seguente indirizzo:  </a:t>
            </a:r>
            <a:r>
              <a:rPr b="0" lang="it-IT" sz="2000" spc="-1" strike="noStrike" u="sng">
                <a:solidFill>
                  <a:srgbClr val="ccccff"/>
                </a:solidFill>
                <a:uFillTx/>
                <a:latin typeface="Times New Roman"/>
                <a:hlinkClick r:id="rId1"/>
              </a:rPr>
              <a:t>http://www.istruzione.it/prehome/comunicati/2005/1002bis.shtml</a:t>
            </a:r>
            <a:r>
              <a:rPr b="0" lang="it-IT" sz="2000" spc="-1" strike="noStrike">
                <a:solidFill>
                  <a:srgbClr val="000000"/>
                </a:solidFill>
                <a:latin typeface="Times New Roman"/>
              </a:rPr>
              <a:t>    Il Ministro Moratti: "Ecco il nostro piano d'azione per migliorare le conoscenze dei nostri ragazzi in Lettura, Matematica, Scienze"</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A cura isp. Luigi Torchio</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228600"/>
            <a:ext cx="86868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N ULTIMO ASPETTO: L’UTILIZZO DEI DATI</a:t>
            </a:r>
            <a:endParaRPr b="0" lang="en-US" sz="3200" spc="-1" strike="noStrike">
              <a:solidFill>
                <a:srgbClr val="000000"/>
              </a:solidFill>
              <a:latin typeface="Times New Roman"/>
            </a:endParaRPr>
          </a:p>
        </p:txBody>
      </p:sp>
      <p:sp>
        <p:nvSpPr>
          <p:cNvPr id="68" name="PlaceHolder 2"/>
          <p:cNvSpPr>
            <a:spLocks noGrp="1"/>
          </p:cNvSpPr>
          <p:nvPr>
            <p:ph/>
          </p:nvPr>
        </p:nvSpPr>
        <p:spPr>
          <a:xfrm>
            <a:off x="304920" y="1219320"/>
            <a:ext cx="8534160" cy="4876560"/>
          </a:xfrm>
          <a:prstGeom prst="rect">
            <a:avLst/>
          </a:prstGeom>
          <a:noFill/>
          <a:ln w="0">
            <a:noFill/>
          </a:ln>
        </p:spPr>
        <p:txBody>
          <a:bodyPr lIns="90000" rIns="90000" tIns="46800" bIns="46800" anchor="t">
            <a:normAutofit/>
          </a:bodyPr>
          <a:p>
            <a:pPr marL="343080" indent="-343080">
              <a:lnSpc>
                <a:spcPct val="90000"/>
              </a:lnSpc>
              <a:spcBef>
                <a:spcPts val="8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rPr>
              <a:t>I dati:</a:t>
            </a:r>
            <a:endParaRPr b="0" lang="en-US" sz="3400" spc="-1" strike="noStrike">
              <a:solidFill>
                <a:srgbClr val="000000"/>
              </a:solidFill>
              <a:latin typeface="Times New Roman"/>
            </a:endParaRPr>
          </a:p>
          <a:p>
            <a:pPr lvl="1" marL="743040" indent="-285840">
              <a:lnSpc>
                <a:spcPct val="9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Anzitutto non riporli in un cassetto</a:t>
            </a:r>
            <a:endParaRPr b="0" lang="en-US" sz="3000" spc="-1" strike="noStrike">
              <a:solidFill>
                <a:srgbClr val="000000"/>
              </a:solidFill>
              <a:latin typeface="Times New Roman"/>
            </a:endParaRPr>
          </a:p>
          <a:p>
            <a:pPr lvl="1" marL="743040" indent="-285840">
              <a:lnSpc>
                <a:spcPct val="9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Curare le competenze per poterli leggere (e di nuovo sono necessarie competenze … matematico scientifiche ….)</a:t>
            </a:r>
            <a:endParaRPr b="0" lang="en-US" sz="3000" spc="-1" strike="noStrike">
              <a:solidFill>
                <a:srgbClr val="000000"/>
              </a:solidFill>
              <a:latin typeface="Times New Roman"/>
            </a:endParaRPr>
          </a:p>
          <a:p>
            <a:pPr lvl="1" marL="743040" indent="-285840">
              <a:lnSpc>
                <a:spcPct val="9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Favorire il confronto tra professionisti che vogliono migliorare</a:t>
            </a:r>
            <a:endParaRPr b="0" lang="en-US" sz="3000" spc="-1" strike="noStrike">
              <a:solidFill>
                <a:srgbClr val="000000"/>
              </a:solidFill>
              <a:latin typeface="Times New Roman"/>
            </a:endParaRPr>
          </a:p>
          <a:p>
            <a:pPr lvl="1" marL="743040" indent="-285840">
              <a:lnSpc>
                <a:spcPct val="9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Abituarsi a renderli pubblici nella massima misura possibile coinvolgendo genitori, studenti ed altri soggetti a livello locale</a:t>
            </a:r>
            <a:endParaRPr b="0" lang="en-US" sz="3000" spc="-1" strike="noStrike">
              <a:solidFill>
                <a:srgbClr val="000000"/>
              </a:solidFill>
              <a:latin typeface="Times New Roman"/>
            </a:endParaRPr>
          </a:p>
        </p:txBody>
      </p:sp>
      <p:sp>
        <p:nvSpPr>
          <p:cNvPr id="4" name="PlaceHolder 3"/>
          <p:cNvSpPr>
            <a:spLocks noGrp="1"/>
          </p:cNvSpPr>
          <p:nvPr>
            <p:ph type="ftr" idx="2"/>
          </p:nvPr>
        </p:nvSpPr>
        <p:spPr/>
        <p:txBody>
          <a:bodyPr/>
          <a:p>
            <a:r>
              <a:t>A cura isp. Luigi Torchio</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33520" y="1522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VALUTAZIONE: L’ITALIA DEL WEB</a:t>
            </a:r>
            <a:endParaRPr b="0" lang="en-US" sz="3600" spc="-1" strike="noStrike">
              <a:solidFill>
                <a:srgbClr val="000000"/>
              </a:solidFill>
              <a:latin typeface="Times New Roman"/>
            </a:endParaRPr>
          </a:p>
        </p:txBody>
      </p:sp>
      <p:sp>
        <p:nvSpPr>
          <p:cNvPr id="44" name="PlaceHolder 2"/>
          <p:cNvSpPr>
            <a:spLocks noGrp="1"/>
          </p:cNvSpPr>
          <p:nvPr>
            <p:ph type="subTitle"/>
          </p:nvPr>
        </p:nvSpPr>
        <p:spPr>
          <a:xfrm>
            <a:off x="228600" y="761760"/>
            <a:ext cx="8686800" cy="5638680"/>
          </a:xfrm>
          <a:prstGeom prst="rect">
            <a:avLst/>
          </a:prstGeom>
          <a:noFill/>
          <a:ln w="0">
            <a:noFill/>
          </a:ln>
        </p:spPr>
        <p:txBody>
          <a:bodyPr lIns="90000" rIns="90000" tIns="46800" bIns="46800" anchor="t">
            <a:no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Le notizie ci informano quotidianamente di “valutazioni” riferibili agli ambiti più disparati; eccone una dell’Ansa</a:t>
            </a:r>
            <a:endParaRPr b="0" lang="en-US" sz="2800" spc="-1" strike="noStrike">
              <a:solidFill>
                <a:srgbClr val="000000"/>
              </a:solidFill>
              <a:latin typeface="Times New Roman"/>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0000"/>
                </a:solidFill>
                <a:latin typeface="Times New Roman"/>
              </a:rPr>
              <a:t>&lt;&lt;Giù di 17 posti, era 28/a l'anno scorso (ANSA) - GINEVRA, 9 MAR – Precipita l'Italia del Web: nella classifica del World Economic Forum, l'Italia, 28/a l'anno scorso, perde 17 posizioni ed è 45/a su 104. E' preceduta da tutti i grandi Paesi industrializzati ed è scavalcata da paesi in via di sviluppo come Tunisia o Sudafrica. Sul punteggio del Belpaese pesano i laccioli della burocrazia e la mancanza di investimenti in ricerca. In vetta alla graduatoria sulle capacità di sviluppo e utilizzo delle nuove tecnologie dell'Ict è Singapore, che scalza gli Usa.&gt;&gt;</a:t>
            </a:r>
            <a:endParaRPr b="0" lang="en-US" sz="2000" spc="-1" strike="noStrike">
              <a:solidFill>
                <a:srgbClr val="000000"/>
              </a:solidFill>
              <a:latin typeface="Times New Roman"/>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Non stupisca la notizia riportata: la valutazione è ormai onnipervasiva e continua essa riguarda oggetti esistenti, positivi o problematici, ma anche, forse un po’ paradossalmente, addirittura oggetti non esistenti, ad esempio, percorsi curricolari ritenuti necessari, ma omessi.</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ERCH</a:t>
            </a:r>
            <a:r>
              <a:rPr b="0" lang="en-US" sz="3200" spc="-1" strike="noStrike">
                <a:solidFill>
                  <a:srgbClr val="000000"/>
                </a:solidFill>
                <a:latin typeface="Times New Roman"/>
                <a:ea typeface="Times New Roman"/>
              </a:rPr>
              <a:t>É I “PARENTI” DEL TITOLO INIZIALE?</a:t>
            </a:r>
            <a:endParaRPr b="0" lang="en-US" sz="3200" spc="-1" strike="noStrike">
              <a:solidFill>
                <a:srgbClr val="000000"/>
              </a:solidFill>
              <a:latin typeface="Times New Roman"/>
            </a:endParaRPr>
          </a:p>
        </p:txBody>
      </p:sp>
      <p:sp>
        <p:nvSpPr>
          <p:cNvPr id="46" name="PlaceHolder 2"/>
          <p:cNvSpPr>
            <a:spLocks noGrp="1"/>
          </p:cNvSpPr>
          <p:nvPr>
            <p:ph/>
          </p:nvPr>
        </p:nvSpPr>
        <p:spPr>
          <a:xfrm>
            <a:off x="228600" y="914040"/>
            <a:ext cx="8610480" cy="51814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imes New Roman"/>
              </a:rPr>
              <a:t>Perché la globalizzazione lascia, molto meno di ieri, indenne la scuola dai suoi processi; siano richiamati due soli binomi: certificazioni di lingua straniera e possibilità di accesso a università più o meno prestigiose all’estero oppure mobilità lavorativa e qualificazioni</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imes New Roman"/>
              </a:rPr>
              <a:t>I ”parenti” sono necessari per creare economie di scala nella gestione, condivisione e distribuzione della conoscenza sono poi fondamentali perché le pluralità generano ricchezze di approcci, di aperture, di visioni, di soluzioni</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A cura isp. Luigi Torchio</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QUALI PARENTI?</a:t>
            </a:r>
            <a:endParaRPr b="0" lang="en-US" sz="3600" spc="-1" strike="noStrike">
              <a:solidFill>
                <a:srgbClr val="000000"/>
              </a:solidFill>
              <a:latin typeface="Times New Roman"/>
            </a:endParaRPr>
          </a:p>
        </p:txBody>
      </p:sp>
      <p:sp>
        <p:nvSpPr>
          <p:cNvPr id="48" name="PlaceHolder 2"/>
          <p:cNvSpPr>
            <a:spLocks noGrp="1"/>
          </p:cNvSpPr>
          <p:nvPr>
            <p:ph/>
          </p:nvPr>
        </p:nvSpPr>
        <p:spPr>
          <a:xfrm>
            <a:off x="380520" y="990360"/>
            <a:ext cx="8458200" cy="51051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 </a:t>
            </a:r>
            <a:r>
              <a:rPr b="0" lang="it-IT" sz="2800" spc="-1" strike="noStrike">
                <a:solidFill>
                  <a:srgbClr val="000000"/>
                </a:solidFill>
                <a:latin typeface="Times New Roman"/>
              </a:rPr>
              <a:t>ovviamente i migliori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P.I.S.A.</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I.E.A.</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u="sng">
                <a:solidFill>
                  <a:srgbClr val="ccccff"/>
                </a:solidFill>
                <a:uFillTx/>
                <a:latin typeface="Times New Roman"/>
                <a:hlinkClick r:id="rId1"/>
              </a:rPr>
              <a:t>T.I.M.M.S.</a:t>
            </a:r>
            <a:r>
              <a:rPr b="0" lang="it-IT" sz="2800" spc="-1" strike="noStrike">
                <a:solidFill>
                  <a:srgbClr val="000000"/>
                </a:solidFill>
                <a:latin typeface="Times New Roman"/>
              </a:rPr>
              <a:t> (http://www.invalsi.it/ricerche-internazionali/iea-timss/2003/pdf/TIMSS_2003_conferenza_stampa.pdf)</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 </a:t>
            </a:r>
            <a:r>
              <a:rPr b="0" lang="it-IT" sz="2800" spc="-1" strike="noStrike">
                <a:solidFill>
                  <a:srgbClr val="000000"/>
                </a:solidFill>
                <a:latin typeface="Times New Roman"/>
              </a:rPr>
              <a:t>ed altri: francesi, tedeschi, spagnoli e così di seguito. Il web mette molti materiali a disposizione, in qualche caso eccellenti: è sufficiente cercarli.</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Uno dei meriti dell’Invalsi è senza dubbio quello di aver sul proprio sito numerosi riferimenti al proposito</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A cura isp. Luigi Torchio</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762120" y="151920"/>
            <a:ext cx="7772400" cy="419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I.S.A.</a:t>
            </a:r>
            <a:endParaRPr b="0" lang="en-US" sz="3600" spc="-1" strike="noStrike">
              <a:solidFill>
                <a:srgbClr val="000000"/>
              </a:solidFill>
              <a:latin typeface="Times New Roman"/>
            </a:endParaRPr>
          </a:p>
        </p:txBody>
      </p:sp>
      <p:sp>
        <p:nvSpPr>
          <p:cNvPr id="50" name="PlaceHolder 2"/>
          <p:cNvSpPr>
            <a:spLocks noGrp="1"/>
          </p:cNvSpPr>
          <p:nvPr>
            <p:ph/>
          </p:nvPr>
        </p:nvSpPr>
        <p:spPr>
          <a:xfrm>
            <a:off x="228600" y="762120"/>
            <a:ext cx="8763120" cy="533376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imes New Roman"/>
              </a:rPr>
              <a:t>Sul sito dedicato alle attività del progetto P.I.S.A. sono reperibili numerosissimi materiali di grande utilità per la formazione: </a:t>
            </a:r>
            <a:r>
              <a:rPr b="0" lang="it-IT" sz="3200" spc="-1" strike="noStrike" u="sng">
                <a:solidFill>
                  <a:srgbClr val="ccccff"/>
                </a:solidFill>
                <a:uFillTx/>
                <a:latin typeface="Times New Roman"/>
                <a:hlinkClick r:id="rId1"/>
              </a:rPr>
              <a:t>www.pisa.oecd.org</a:t>
            </a:r>
            <a:r>
              <a:rPr b="0" lang="it-IT"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imes New Roman"/>
                <a:ea typeface="Times New Roman"/>
              </a:rPr>
              <a:t>Si possono reperire esempi </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ea typeface="Times New Roman"/>
              </a:rPr>
              <a:t>sulle competenze matematich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ea typeface="Times New Roman"/>
              </a:rPr>
              <a:t>su quelle testuali</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ea typeface="Times New Roman"/>
              </a:rPr>
              <a:t>scale valutativ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ea typeface="Times New Roman"/>
              </a:rPr>
              <a:t>esemplificazioni di problem solving e posing</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ea typeface="Times New Roman"/>
              </a:rPr>
              <a:t>nonché tutta una serie, molto articolata e precisa di graduatorie</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A cura isp. Luigi Torchio</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609480"/>
            <a:ext cx="8381880" cy="518184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Times New Roman"/>
              </a:rPr>
              <a:t>La diapositiva successiva – tratta dal sito dedicato a P.I.S.A. a cui si rinvia - ben evidenzia quanto articolato e complesso sia l’approccio rispetto alle competenze nel settore della matematica, non solo anche i quesiti posti sono tutt’altro che meccanici sotto un qualsiasi profilo.</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A cura isp. Luigi Torchio</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2" name=""/>
          <p:cNvGraphicFramePr/>
          <p:nvPr/>
        </p:nvGraphicFramePr>
        <p:xfrm>
          <a:off x="228600" y="304920"/>
          <a:ext cx="8686800" cy="5867280"/>
        </p:xfrm>
        <a:graphic>
          <a:graphicData uri="http://schemas.openxmlformats.org/presentationml/2006/ole">
            <p:oleObj progId="Excel.Sheet.12" r:id="rId1" spid="">
              <p:embed/>
              <p:pic>
                <p:nvPicPr>
                  <p:cNvPr id="53" name="" descr=""/>
                  <p:cNvPicPr/>
                  <p:nvPr/>
                </p:nvPicPr>
                <p:blipFill>
                  <a:blip r:embed="rId2"/>
                  <a:stretch/>
                </p:blipFill>
                <p:spPr>
                  <a:xfrm>
                    <a:off x="228600" y="304920"/>
                    <a:ext cx="8686800" cy="5867280"/>
                  </a:xfrm>
                  <a:prstGeom prst="rect">
                    <a:avLst/>
                  </a:prstGeom>
                  <a:ln w="0">
                    <a:noFill/>
                  </a:ln>
                </p:spPr>
              </p:pic>
            </p:oleObj>
          </a:graphicData>
        </a:graphic>
      </p:graphicFrame>
      <p:sp>
        <p:nvSpPr>
          <p:cNvPr id="2" name="PlaceHolder 1"/>
          <p:cNvSpPr>
            <a:spLocks noGrp="1"/>
          </p:cNvSpPr>
          <p:nvPr>
            <p:ph type="ftr" idx="2"/>
          </p:nvPr>
        </p:nvSpPr>
        <p:spPr/>
        <p:txBody>
          <a:bodyPr/>
          <a:p>
            <a:r>
              <a:t>A cura isp. Luigi Torchio</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304920" y="304920"/>
            <a:ext cx="8610480" cy="5867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rPr>
              <a:t>Le tre diapositive successive riportano come, a livello internazionale, siano descritte le competenze nel settore matematico; si notano, tra l’altro, forti analogie con le descrizioni delle competenze nel settore lingue straniere del Consiglio d’Europa.</a:t>
            </a:r>
            <a:br>
              <a:rPr sz="3400"/>
            </a:br>
            <a:r>
              <a:rPr b="0" lang="en-US" sz="3400" spc="-1" strike="noStrike">
                <a:solidFill>
                  <a:srgbClr val="000000"/>
                </a:solidFill>
                <a:latin typeface="Times New Roman"/>
              </a:rPr>
              <a:t>Sia osservato come tutte le competenze presentate , almeno a nostro giudizio, riguardino da subito tutti gli ordini scolastici e livelli, cambia solo l’interpretazione ed il livello di approfondimento.</a:t>
            </a:r>
            <a:endParaRPr b="0" lang="en-US" sz="3400" spc="-1" strike="noStrike">
              <a:solidFill>
                <a:srgbClr val="000000"/>
              </a:solidFill>
              <a:latin typeface="Times New Roman"/>
            </a:endParaRPr>
          </a:p>
        </p:txBody>
      </p:sp>
      <p:sp>
        <p:nvSpPr>
          <p:cNvPr id="3" name="PlaceHolder 2"/>
          <p:cNvSpPr>
            <a:spLocks noGrp="1"/>
          </p:cNvSpPr>
          <p:nvPr>
            <p:ph type="ftr" idx="2"/>
          </p:nvPr>
        </p:nvSpPr>
        <p:spPr/>
        <p:txBody>
          <a:bodyPr/>
          <a:p>
            <a:r>
              <a:t>A cura isp. Luigi Torchio</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228600" y="0"/>
            <a:ext cx="8763120" cy="380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empusSansITC"/>
              </a:rPr>
              <a:t>Profile of Student Performance in Mathematics 1 - 2</a:t>
            </a:r>
            <a:endParaRPr b="0" lang="en-US" sz="3200" spc="-1" strike="noStrike">
              <a:solidFill>
                <a:srgbClr val="000000"/>
              </a:solidFill>
              <a:latin typeface="Times New Roman"/>
            </a:endParaRPr>
          </a:p>
        </p:txBody>
      </p:sp>
      <p:sp>
        <p:nvSpPr>
          <p:cNvPr id="56" name="PlaceHolder 2"/>
          <p:cNvSpPr>
            <a:spLocks noGrp="1"/>
          </p:cNvSpPr>
          <p:nvPr>
            <p:ph type="subTitle"/>
          </p:nvPr>
        </p:nvSpPr>
        <p:spPr>
          <a:xfrm>
            <a:off x="228600" y="533160"/>
            <a:ext cx="8763120" cy="6095880"/>
          </a:xfrm>
          <a:prstGeom prst="rect">
            <a:avLst/>
          </a:prstGeom>
          <a:noFill/>
          <a:ln w="0">
            <a:noFill/>
          </a:ln>
        </p:spPr>
        <p:txBody>
          <a:bodyPr lIns="90000" rIns="90000" tIns="46800" bIns="46800" anchor="t">
            <a:no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Perpetua"/>
              </a:rPr>
              <a:t>At Level 1, students can answer questions involving familiar contexts where all relevant information is present and the questions are clearly defined. They are able to identify information and to carry out routine procedures according to direct instructions in explicit situations. They can perform actions that are obvious and follow immediately from the given stimuli.</a:t>
            </a:r>
            <a:endParaRPr b="0" lang="en-US" sz="2800" spc="-1" strike="noStrike">
              <a:solidFill>
                <a:srgbClr val="000000"/>
              </a:solidFill>
              <a:latin typeface="Times New Roman"/>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Perpetua"/>
              </a:rPr>
              <a:t>At Level 2, students can interpret and recognise situations in contexts that require no more than direct inference. They can extract relevant information from a single source and make use of a single representational mode. Students at this level can employ basic algorithms, formulae, procedures or conventions. They are capable of direct reasoning and making literal interpretations of the result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14T17:47:54Z</dcterms:created>
  <dc:creator>Isp. Luigi Torchio</dc:creator>
  <dc:description/>
  <dc:language>en-US</dc:language>
  <cp:lastModifiedBy>Ispettore Luigi Torchio</cp:lastModifiedBy>
  <dcterms:modified xsi:type="dcterms:W3CDTF">2005-03-16T11:17:46Z</dcterms:modified>
  <cp:revision>35</cp:revision>
  <dc:subject/>
  <dc:title>INVALSI: IL SISTEMA NAZIONALE DI VALUTAZIONE E I SUOI PARENTI</dc:title>
</cp:coreProperties>
</file>