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VOLO.WAV" ContentType="audio/x-wav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4CBB-2424-4D85-A630-D4E76F5D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F3D-F558-4843-99E3-26AA2DC1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6C3F-337F-42CD-B83C-423F34CC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9104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1470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9104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1470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A898-075E-4BB5-A113-AE04289A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7A11-84E9-41D0-A28F-0E80EB87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55D2-F18E-4D54-9DA2-3A378BA4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A205-6330-4649-ACDF-46EC2B81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51F1-A455-4E1B-96C4-82930DBD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1DBA-05D2-4D40-AF0F-7FB055E7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36720" y="1425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E980-0AFC-4306-BA06-32A89CB4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6560-11A6-4487-8E1B-66BF0D49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5BC-AD12-4FB7-8B1E-25F22270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C975-475E-4CCC-A86F-8F6C13C3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7258-655F-4486-90A5-5DADDCC3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08F1-A8E1-44C4-A4FA-A8CD8127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5A19-BE0F-4689-952F-4402BA85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104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1470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59104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1470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C0AB-D78E-48EE-8ACA-1D9DE5B2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DC29-B608-4A34-BF45-3E7AF9BA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F3C0-CA7D-4F02-9143-3C960885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0A6-6241-4EC5-BE88-0508B860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36720" y="1425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CA88-4E5F-42C6-BA13-EACFF602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0C70-46A0-4D9D-8FC0-D8AC1D7D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F252-ADB0-42B7-BAFA-7CCB0EF3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49CB-A065-4ABC-ABFE-E11978CE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r>
              <a:rPr b="0" lang="it-IT" sz="1400" spc="-1" strike="noStrike">
                <a:solidFill>
                  <a:srgbClr val="0033cc"/>
                </a:solidFill>
                <a:latin typeface="Arial"/>
              </a:rPr>
              <a:t>10/03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36520" y="6316560"/>
            <a:ext cx="2895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r>
              <a:rPr b="0" lang="it-IT" sz="1400" spc="-1" strike="noStrike">
                <a:solidFill>
                  <a:srgbClr val="0033cc"/>
                </a:solidFill>
                <a:latin typeface="Arial"/>
              </a:rPr>
              <a:t>a cura di Leda ZOCC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F1F7-1A1F-41E4-8BEC-2770146A566A}" type="slidenum">
              <a:rPr b="1" lang="it-IT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3840" y="228600"/>
            <a:ext cx="9050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1C4E-79B7-4FA8-B612-8DAD3E2AA805}" type="slidenum">
              <a:rPr b="1" lang="it-IT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C:/WINDOWS/Desktop/OBIETTIVI%20PROGETTAZIONE%20SAM.rtf" TargetMode="External"/><Relationship Id="rId2" Type="http://schemas.openxmlformats.org/officeDocument/2006/relationships/hyperlink" Target="file:///C:/WINDOWS/Desktop/obiettivi%20documentazione%20SAM.rtf" TargetMode="External"/><Relationship Id="rId3" Type="http://schemas.openxmlformats.org/officeDocument/2006/relationships/hyperlink" Target="file:///C:/WINDOWS/Desktop/obiettivi%20documentazione%20SAM.rtf" TargetMode="External"/><Relationship Id="rId4" Type="http://schemas.openxmlformats.org/officeDocument/2006/relationships/hyperlink" Target="file:///C:/WINDOWS/Desktop/obiettivi%20documentazione%20SAM.rtf" TargetMode="External"/><Relationship Id="rId5" Type="http://schemas.openxmlformats.org/officeDocument/2006/relationships/hyperlink" Target="file:///C:/WINDOWS/Desktop/OBIETTIVI%20ALUNNI%20%20SAM.rtf" TargetMode="External"/><Relationship Id="rId6" Type="http://schemas.openxmlformats.org/officeDocument/2006/relationships/hyperlink" Target="file:///C:/WINDOWS/Desktop/conv%20interculturalmente/PROVARE%20SAM.ppt" TargetMode="External"/><Relationship Id="rId7" Type="http://schemas.openxmlformats.org/officeDocument/2006/relationships/hyperlink" Target="file:///C:/WINDOWS/Desktop/conv%20interculturalmente/PROVARE%20SAM.ppt" TargetMode="External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cuola.fvg.it/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VOLO.WAV"/><Relationship Id="rId2" Type="http://schemas.openxmlformats.org/officeDocument/2006/relationships/audio" Target="../media/VOLO.WAV"/><Relationship Id="rId3" Type="http://schemas.openxmlformats.org/officeDocument/2006/relationships/audio" Target="../media/VOLO.WAV"/><Relationship Id="rId4" Type="http://schemas.openxmlformats.org/officeDocument/2006/relationships/audio" Target="../media/VOLO.WAV"/><Relationship Id="rId5" Type="http://schemas.openxmlformats.org/officeDocument/2006/relationships/audio" Target="../media/VOLO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IL PROGETTO S.A.M. nella regione FVG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2400"/>
            </a:br>
            <a:r>
              <a:rPr b="1" lang="it-IT" sz="1600" spc="-1" strike="noStrike">
                <a:solidFill>
                  <a:srgbClr val="0000cc"/>
                </a:solidFill>
                <a:latin typeface="Lucida Sans"/>
              </a:rPr>
              <a:t>14 febbraio 2005 – IC Giacich MONFALCONE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0000cc"/>
                </a:solidFill>
                <a:latin typeface="Lucida Sans"/>
              </a:rPr>
              <a:t>15 febbraio 2005 – SMS via Petrarca UDINE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0000cc"/>
                </a:solidFill>
                <a:latin typeface="Lucida Sans"/>
              </a:rPr>
              <a:t>21 febbraio 2005 – 1° Circolo did di PORDENONE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0000cc"/>
                </a:solidFill>
                <a:latin typeface="Lucida Sans"/>
              </a:rPr>
              <a:t>22 febbraio 2005 – 2° Circolo did di TRIESTE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360" y="56383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Lucida Sans"/>
              </a:rPr>
              <a:t>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cc"/>
                </a:solidFill>
                <a:latin typeface="Lucida Sans"/>
              </a:rPr>
              <a:t>Dott.ssa Daniela CELLI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26668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14400" y="7621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FORMAZIONE NELLA RETE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600200"/>
            <a:ext cx="77724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imes New Roman"/>
              </a:rPr>
              <a:t>Corsi per l’insegnamento dell’italiano L2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imes New Roman"/>
              </a:rPr>
              <a:t>in collaborazione con l’Università  Ca’ Foscari di Venezia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imes New Roman"/>
              </a:rPr>
              <a:t>1° livello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Times New Roman"/>
              </a:rPr>
              <a:t>1 modulo di 45 ore + 5 ore di autoformazione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imes New Roman"/>
              </a:rPr>
              <a:t>Certificazione CEDILS (volontaria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imes New Roman"/>
              </a:rPr>
              <a:t>2° livello 5 laboratori di 20 ore ciascuno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380880"/>
            <a:ext cx="7391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ATTIVITA’ DI DOCUMENTAZIONE E INFORMAZIONE</a:t>
            </a:r>
            <a:r>
              <a:rPr b="1" lang="it-IT" sz="36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7524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Materiale plurilingue per procedure di iscrizione e accoglienza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Materiale plurilingue per informazione su offerta formativa, regolamenti  e sistemi scolastici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Percorsi di studio per gli alunni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Siti web delle singole istituzioni scolastiche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Sito web della rete per lo scambio ed il confronto dei materiali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Raccolta su CD e video di percorsi didattici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Iniziative pubbliche svolte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8915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Arial"/>
              </a:rPr>
              <a:t>Il percorso di valutazione del progetto S.A.M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Assume particolare importanza per: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Il carattere </a:t>
            </a: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sperimentale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 del progetto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la necessità di ricercare  </a:t>
            </a: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nuovi modelli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 e parametri per la </a:t>
            </a: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distribuzione 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e l’</a:t>
            </a: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 ottimizzazione 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delle risorse</a:t>
            </a: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Esigenza di individuare </a:t>
            </a: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aspetti di forza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 e  aspetti di </a:t>
            </a: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criticità 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per la</a:t>
            </a: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                                       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e per l’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2895480"/>
            <a:ext cx="4876920" cy="1371600"/>
          </a:xfrm>
          <a:prstGeom prst="ellipse">
            <a:avLst/>
          </a:prstGeom>
          <a:solidFill>
            <a:srgbClr val="67f4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33526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3200400"/>
            <a:ext cx="426744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Ottica di miglioramento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del servizio scolastico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3352680"/>
            <a:ext cx="914400" cy="685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7f4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3352680"/>
            <a:ext cx="914400" cy="762120"/>
          </a:xfrm>
          <a:custGeom>
            <a:avLst/>
            <a:gdLst>
              <a:gd name="textAreaLeft" fmla="*/ 122400 w 914400"/>
              <a:gd name="textAreaRight" fmla="*/ 792000 w 91440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7f4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43434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7f4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5181480"/>
            <a:ext cx="2743200" cy="1219320"/>
          </a:xfrm>
          <a:prstGeom prst="roundRect">
            <a:avLst>
              <a:gd name="adj" fmla="val 16667"/>
            </a:avLst>
          </a:prstGeom>
          <a:solidFill>
            <a:srgbClr val="67f4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5181480"/>
            <a:ext cx="2819520" cy="1219320"/>
          </a:xfrm>
          <a:prstGeom prst="roundRect">
            <a:avLst>
              <a:gd name="adj" fmla="val 16667"/>
            </a:avLst>
          </a:prstGeom>
          <a:solidFill>
            <a:srgbClr val="67f4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548640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Tahoma"/>
              </a:rPr>
              <a:t>riprogettazione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548640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Tahoma"/>
              </a:rPr>
              <a:t>implementazione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cc"/>
                </a:solidFill>
                <a:latin typeface="Arial"/>
              </a:rPr>
              <a:t>Valutazione come…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Wingdings 2"/>
                <a:ea typeface="Wingdings 2"/>
              </a:rPr>
              <a:t>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arte costitutiva di tutta la sequenza progettuale 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290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formativa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290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imensione progettuale                dimensione valutativa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290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Wingdings 2"/>
                <a:ea typeface="Wingdings 2"/>
              </a:rPr>
              <a:t>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atica dialogant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290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ndagine aperta che si costituisce dentro il corso d’azione  con tutti i soggetti coinvolti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290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Wingdings 2"/>
                <a:ea typeface="Wingdings 2"/>
              </a:rPr>
              <a:t>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trumento di apprendimento e cambiamento in un’ottica di miglioramento del servizio scolastico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2905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290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             </a:t>
            </a:r>
            <a:r>
              <a:rPr b="0" lang="it-IT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2057400"/>
            <a:ext cx="990720" cy="380880"/>
          </a:xfrm>
          <a:prstGeom prst="leftRightArrow">
            <a:avLst>
              <a:gd name="adj1" fmla="val 50000"/>
              <a:gd name="adj2" fmla="val 51782"/>
            </a:avLst>
          </a:prstGeom>
          <a:solidFill>
            <a:srgbClr val="67f4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4800600"/>
            <a:ext cx="7543800" cy="1468800"/>
          </a:xfrm>
          <a:prstGeom prst="rect">
            <a:avLst/>
          </a:prstGeom>
          <a:noFill/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ttenzione ai risultati 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me esito e parte integrante di corsi d’azione,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cui ricostruzione descrizione e interpretazione,  aiuta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 comprendere sia i 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rocessi</a:t>
            </a:r>
            <a:r>
              <a:rPr b="0" i="1" lang="it-IT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sia i </a:t>
            </a:r>
            <a:r>
              <a:rPr b="1" i="1" lang="it-IT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isultati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5410080"/>
            <a:ext cx="990720" cy="533520"/>
          </a:xfrm>
          <a:custGeom>
            <a:avLst/>
            <a:gdLst>
              <a:gd name="textAreaLeft" fmla="*/ 154800 w 990720"/>
              <a:gd name="textAreaRight" fmla="*/ 866880 w 990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7f4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Arial"/>
              </a:rPr>
              <a:t>Il percorso di valutazione nella  rete interistituzionale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1523880"/>
            <a:ext cx="86104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1219320"/>
            <a:ext cx="1981080" cy="1557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imes New Roman"/>
              </a:rPr>
              <a:t>Direzione Generale Regionale FVG - MIUR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53080" y="1447920"/>
            <a:ext cx="2210040" cy="11912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imes New Roman"/>
              </a:rPr>
              <a:t>Struttura Stabile  Immig Regione FVG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1752480"/>
            <a:ext cx="4267080" cy="609840"/>
          </a:xfrm>
          <a:prstGeom prst="leftRightArrow">
            <a:avLst>
              <a:gd name="adj1" fmla="val 50000"/>
              <a:gd name="adj2" fmla="val 139293"/>
            </a:avLst>
          </a:prstGeom>
          <a:solidFill>
            <a:srgbClr val="80008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protocollo d’intesa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5181480"/>
            <a:ext cx="34290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5715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Times New Roman"/>
              </a:rPr>
              <a:t>Accordo di rete SAM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38880" y="5638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Associazioni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773840" y="228600"/>
            <a:ext cx="979560" cy="990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990720" y="2819520"/>
            <a:ext cx="3962160" cy="18288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29200" y="2743200"/>
            <a:ext cx="3276720" cy="1523880"/>
          </a:xfrm>
          <a:prstGeom prst="ellipse">
            <a:avLst/>
          </a:prstGeom>
          <a:solidFill>
            <a:srgbClr val="85f86e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200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304812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Times New Roman"/>
              </a:rPr>
              <a:t>GRUPPO TECNICO DI COORDINAMENTO:</a:t>
            </a:r>
            <a:r>
              <a:rPr b="0" lang="it-IT" sz="2000" spc="-1" strike="noStrike">
                <a:solidFill>
                  <a:srgbClr val="0033cc"/>
                </a:solidFill>
                <a:latin typeface="Times New Roman"/>
              </a:rPr>
              <a:t>2 ref. Dir.Reg.+2 ref. Strut Stab+12 ref. (1 per Ist.Scol. Rete)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1480" y="2819520"/>
            <a:ext cx="3124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Times New Roman"/>
              </a:rPr>
              <a:t>COMITATO DI VALUTAZION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Times New Roman"/>
              </a:rPr>
              <a:t>2 ref. Strut Stab+ 2 ref. Dir.Reg.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504960" y="2209680"/>
            <a:ext cx="685800" cy="6858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2286000"/>
            <a:ext cx="914400" cy="6858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5029200"/>
            <a:ext cx="4191120" cy="13716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5181480"/>
            <a:ext cx="41148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Wingdings 2"/>
                <a:ea typeface="Wingdings 2"/>
              </a:rPr>
              <a:t></a:t>
            </a:r>
            <a:r>
              <a:rPr b="0" lang="it-IT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33cc"/>
                </a:solidFill>
                <a:latin typeface="Times New Roman"/>
              </a:rPr>
              <a:t>Presidente della rete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Wingdings 2"/>
                <a:ea typeface="Wingdings 2"/>
              </a:rPr>
              <a:t></a:t>
            </a:r>
            <a:r>
              <a:rPr b="0" lang="it-IT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33cc"/>
                </a:solidFill>
                <a:latin typeface="Times New Roman"/>
              </a:rPr>
              <a:t>Organo collegiale di controllo: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Times New Roman"/>
              </a:rPr>
              <a:t>2 D.S.+2 ref. Dir. Reg. + 2 ref. Strutt Stab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4419720"/>
            <a:ext cx="1447920" cy="7099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Times New Roman"/>
              </a:rPr>
              <a:t>Presieduto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Times New Roman"/>
              </a:rPr>
              <a:t>da Dir.Gen.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0120" y="4114800"/>
            <a:ext cx="137160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Times New Roman"/>
              </a:rPr>
              <a:t>Presieduto da Dir Struttura Stabil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85800" y="4038120"/>
            <a:ext cx="380880" cy="3812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29600" y="3809880"/>
            <a:ext cx="304920" cy="3049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5867280"/>
            <a:ext cx="83844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2819520"/>
            <a:ext cx="152640" cy="3808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4495680"/>
            <a:ext cx="380880" cy="6858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Arial"/>
              </a:rPr>
              <a:t>Compiti e funzioni dei soggetti istituzionali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Arial"/>
              </a:rPr>
              <a:t>DIREZIONE REGIONALE FVG MIUR: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Convoca e presiede il Gruppo tecnico di coordinamento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Coordina la gestione amministrativa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Stipula accordi con le istituzioni scolastich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Partecipa attivamente al monitoraggio del progetto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Arial"/>
              </a:rPr>
              <a:t>SAI - FVG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Convoca e presiede il Comitato di valutazion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Attua la supervisione del progetto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Predispone strumenti, procedure e risorse per l’estensione del 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progetto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Arial"/>
              </a:rPr>
              <a:t>RETE SAM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Attraverso l’organo collegiale di controllo presieduto dal suo Presidente: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delibera in merito alla gestione amministrativa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coordina le azioni di progettazione, realizzazione e valutazione 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delle 10 istituzioni scolastiche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documenta i percorsi svolti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cc"/>
                </a:solidFill>
                <a:latin typeface="Arial"/>
              </a:rPr>
              <a:t>Aree di analisi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cc"/>
                </a:solidFill>
                <a:latin typeface="Arial"/>
              </a:rPr>
              <a:t>Indicatori: 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integrazione - trasmissibilit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1295280"/>
            <a:ext cx="2819520" cy="2362320"/>
          </a:xfrm>
          <a:prstGeom prst="cube">
            <a:avLst>
              <a:gd name="adj" fmla="val 25000"/>
            </a:avLst>
          </a:prstGeom>
          <a:solidFill>
            <a:srgbClr val="67f4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1295280"/>
            <a:ext cx="2743200" cy="2210040"/>
          </a:xfrm>
          <a:prstGeom prst="cube">
            <a:avLst>
              <a:gd name="adj" fmla="val 25000"/>
            </a:avLst>
          </a:prstGeom>
          <a:solidFill>
            <a:srgbClr val="67f4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71800" y="1219320"/>
            <a:ext cx="2971800" cy="2361960"/>
          </a:xfrm>
          <a:prstGeom prst="cube">
            <a:avLst>
              <a:gd name="adj" fmla="val 25000"/>
            </a:avLst>
          </a:prstGeom>
          <a:solidFill>
            <a:srgbClr val="67f4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2209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PROGETTAZION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95480" y="2209680"/>
            <a:ext cx="26672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666699"/>
                </a:solidFill>
                <a:uFillTx/>
                <a:latin typeface="Times New Roman"/>
                <a:hlinkClick r:id="rId2"/>
              </a:rPr>
              <a:t>DOCUMENTAZION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666699"/>
                </a:solidFill>
                <a:uFillTx/>
                <a:latin typeface="Times New Roman"/>
                <a:hlinkClick r:id="rId3"/>
              </a:rPr>
              <a:t>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666699"/>
                </a:solidFill>
                <a:uFillTx/>
                <a:latin typeface="Times New Roman"/>
                <a:hlinkClick r:id="rId4"/>
              </a:rPr>
              <a:t>COMUNICAZION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24703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Times New Roman"/>
              </a:rPr>
              <a:t>           </a:t>
            </a:r>
            <a:r>
              <a:rPr b="0" lang="it-IT" sz="2000" spc="-1" strike="noStrike" u="sng">
                <a:solidFill>
                  <a:srgbClr val="666699"/>
                </a:solidFill>
                <a:uFillTx/>
                <a:latin typeface="Times New Roman"/>
                <a:hlinkClick r:id="rId5"/>
              </a:rPr>
              <a:t>ESITI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56840" y="2819520"/>
            <a:ext cx="304920" cy="10666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886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962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Times New Roman"/>
              </a:rPr>
              <a:t>progetti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2895480"/>
            <a:ext cx="304920" cy="11430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Times New Roman"/>
              </a:rPr>
              <a:t>P.O.F.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5029200"/>
            <a:ext cx="1371600" cy="3808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7f4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4876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Times New Roman"/>
              </a:rPr>
              <a:t>Raccordo con il </a:t>
            </a:r>
            <a:r>
              <a:rPr b="0" lang="it-IT" sz="2400" spc="-1" strike="noStrike" u="sng">
                <a:solidFill>
                  <a:srgbClr val="666699"/>
                </a:solidFill>
                <a:uFillTx/>
                <a:latin typeface="Times New Roman"/>
                <a:hlinkClick r:id="rId6"/>
              </a:rPr>
              <a:t>progetto </a:t>
            </a:r>
            <a:r>
              <a:rPr b="0" lang="it-IT" sz="2400" spc="-1" strike="noStrike" u="sng">
                <a:solidFill>
                  <a:srgbClr val="666699"/>
                </a:solidFill>
                <a:uFillTx/>
                <a:latin typeface="Times New Roman"/>
                <a:hlinkClick r:id="rId7"/>
              </a:rPr>
              <a:t>PRO.VA.RE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171840" y="2895480"/>
            <a:ext cx="762120" cy="1295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34320" y="396252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Times New Roman"/>
              </a:rPr>
              <a:t>risultati di apprendimento degli alunni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2895480"/>
            <a:ext cx="609480" cy="10670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24280" y="41911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Times New Roman"/>
              </a:rPr>
              <a:t>risultati dei progetti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123720" y="3505320"/>
            <a:ext cx="381240" cy="3808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90920" y="3962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Times New Roman"/>
              </a:rPr>
              <a:t>materiali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3429000"/>
            <a:ext cx="304920" cy="304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3657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Times New Roman"/>
              </a:rPr>
              <a:t>azioni di diffusion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505320"/>
            <a:ext cx="76320" cy="8380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4419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Times New Roman"/>
              </a:rPr>
              <a:t>attività della ret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37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cc"/>
                </a:solidFill>
                <a:latin typeface="Arial"/>
              </a:rPr>
              <a:t>Ulteriori informazioni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33cc"/>
                </a:solidFill>
                <a:latin typeface="Arial"/>
              </a:rPr>
              <a:t>sul sito web della Direzione Generale Regionale del Friuli Venezia Giulia:</a:t>
            </a:r>
            <a:br>
              <a:rPr sz="3600"/>
            </a:br>
            <a:br>
              <a:rPr sz="3600"/>
            </a:br>
            <a:r>
              <a:rPr b="1" lang="it-IT" sz="3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scuola.fvg.it</a:t>
            </a:r>
            <a:br>
              <a:rPr sz="3600"/>
            </a:b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cc"/>
                </a:solidFill>
                <a:latin typeface="Arial"/>
              </a:rPr>
              <a:t>  </a:t>
            </a:r>
            <a:br>
              <a:rPr sz="3600"/>
            </a:b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cc"/>
                </a:solidFill>
                <a:latin typeface="Arial"/>
              </a:rPr>
              <a:t>La rete interistituzionale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523880"/>
            <a:ext cx="86104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447920"/>
            <a:ext cx="1905120" cy="11912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Times New Roman"/>
              </a:rPr>
              <a:t>Direzione Generale Regionale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1447920"/>
            <a:ext cx="2514600" cy="16311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Times New Roman"/>
              </a:rPr>
              <a:t>Struttura Stabile per l’IMMIGRAZION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Times New Roman"/>
              </a:rPr>
              <a:t>Regione FVG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1600200"/>
            <a:ext cx="3276360" cy="990720"/>
          </a:xfrm>
          <a:prstGeom prst="leftRightArrow">
            <a:avLst>
              <a:gd name="adj1" fmla="val 50000"/>
              <a:gd name="adj2" fmla="val 65835"/>
            </a:avLst>
          </a:prstGeom>
          <a:solidFill>
            <a:srgbClr val="99cc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onvenzione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2819520"/>
            <a:ext cx="2971800" cy="1371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3276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Times New Roman"/>
              </a:rPr>
              <a:t>Accordo di rete SAM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4419720"/>
            <a:ext cx="3352680" cy="2133360"/>
          </a:xfrm>
          <a:prstGeom prst="roundRect">
            <a:avLst>
              <a:gd name="adj" fmla="val 16667"/>
            </a:avLst>
          </a:prstGeom>
          <a:solidFill>
            <a:srgbClr val="67f4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5029200"/>
            <a:ext cx="403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Istituzioni scolastiche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cc33"/>
                </a:solidFill>
                <a:latin typeface="Times New Roman"/>
              </a:rPr>
              <a:t>della Regione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124080"/>
            <a:ext cx="1447920" cy="1143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724280"/>
            <a:ext cx="1447920" cy="12193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3048120"/>
            <a:ext cx="144792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472428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Times New Roman"/>
              </a:rPr>
              <a:t>Comuni con L.285/97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048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Times New Roman"/>
              </a:rPr>
              <a:t>Provincia di Udine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32004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Times New Roman"/>
              </a:rPr>
              <a:t>Fondo Sociale Europeo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34320" y="5181480"/>
            <a:ext cx="2209680" cy="144792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5638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Times New Roman"/>
              </a:rPr>
              <a:t>Associazioni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3733920"/>
            <a:ext cx="1066680" cy="990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905120" y="3580920"/>
            <a:ext cx="1295280" cy="1295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5181480"/>
            <a:ext cx="1066680" cy="2286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2362320"/>
            <a:ext cx="685800" cy="6858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2666880"/>
            <a:ext cx="609480" cy="18288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438280"/>
            <a:ext cx="0" cy="3812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790960" y="2362320"/>
            <a:ext cx="609480" cy="6094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2743200"/>
            <a:ext cx="457200" cy="17524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8077320" y="4572000"/>
            <a:ext cx="0" cy="9144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171840" y="3580920"/>
            <a:ext cx="1143000" cy="2286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477120" y="4114800"/>
            <a:ext cx="838080" cy="7621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it-IT" sz="2800" spc="-1" strike="noStrike">
                <a:solidFill>
                  <a:srgbClr val="0000cc"/>
                </a:solidFill>
                <a:latin typeface="Arial"/>
              </a:rPr>
              <a:t>La rete S.A.M. nel Friuli Venezia Giulia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609480"/>
            <a:ext cx="8915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743200"/>
            <a:ext cx="2133360" cy="2133720"/>
          </a:xfrm>
          <a:prstGeom prst="ellipse">
            <a:avLst/>
          </a:prstGeom>
          <a:solidFill>
            <a:srgbClr val="67f4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4876920"/>
            <a:ext cx="2590920" cy="1828800"/>
          </a:xfrm>
          <a:prstGeom prst="ellipse">
            <a:avLst/>
          </a:prstGeom>
          <a:solidFill>
            <a:srgbClr val="67f4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5562720"/>
            <a:ext cx="1905120" cy="1066680"/>
          </a:xfrm>
          <a:prstGeom prst="ellipse">
            <a:avLst/>
          </a:prstGeom>
          <a:solidFill>
            <a:srgbClr val="67f4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29400" y="2514600"/>
            <a:ext cx="2286000" cy="2133720"/>
          </a:xfrm>
          <a:prstGeom prst="ellipse">
            <a:avLst/>
          </a:prstGeom>
          <a:solidFill>
            <a:srgbClr val="67f4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971800"/>
            <a:ext cx="19047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cc"/>
                </a:solidFill>
                <a:latin typeface="Times New Roman"/>
              </a:rPr>
              <a:t>Trieste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cc"/>
                </a:solidFill>
                <a:latin typeface="Times New Roman"/>
              </a:rPr>
              <a:t>2° Circolo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33cc"/>
                </a:solidFill>
                <a:latin typeface="Times New Roman"/>
              </a:rPr>
              <a:t>IC Roiano Gretta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514600"/>
            <a:ext cx="1218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2590920"/>
            <a:ext cx="190512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cc"/>
                </a:solidFill>
                <a:latin typeface="Times New Roman"/>
              </a:rPr>
              <a:t>Udine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cc"/>
                </a:solidFill>
                <a:latin typeface="Times New Roman"/>
              </a:rPr>
              <a:t>4° Circolo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cc"/>
                </a:solidFill>
                <a:latin typeface="Times New Roman"/>
              </a:rPr>
              <a:t>IC Tricesimo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cc"/>
                </a:solidFill>
                <a:latin typeface="Times New Roman"/>
              </a:rPr>
              <a:t>SMS via Petrarca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cc"/>
                </a:solidFill>
                <a:latin typeface="Times New Roman"/>
              </a:rPr>
              <a:t>SMS Pasian di Prato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5562720"/>
            <a:ext cx="175248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cc"/>
                </a:solidFill>
                <a:latin typeface="Times New Roman"/>
              </a:rPr>
              <a:t>Gorizia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cc"/>
                </a:solidFill>
                <a:latin typeface="Times New Roman"/>
              </a:rPr>
              <a:t>IC Giacich</a:t>
            </a:r>
            <a:r>
              <a:rPr b="0" lang="it-IT" sz="1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5029200"/>
            <a:ext cx="243828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cc"/>
                </a:solidFill>
                <a:latin typeface="Times New Roman"/>
              </a:rPr>
              <a:t>Pordenone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cc"/>
                </a:solidFill>
                <a:latin typeface="Times New Roman"/>
              </a:rPr>
              <a:t>1° Circolo -   </a:t>
            </a:r>
            <a:r>
              <a:rPr b="0" lang="it-IT" sz="1600" spc="-1" strike="noStrike">
                <a:solidFill>
                  <a:srgbClr val="0033cc"/>
                </a:solidFill>
                <a:latin typeface="Times New Roman"/>
              </a:rPr>
              <a:t>2° Circolo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cc"/>
                </a:solidFill>
                <a:latin typeface="Times New Roman"/>
              </a:rPr>
              <a:t>Circ.Did – SMS – ISIS Spilimbergo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2971800"/>
            <a:ext cx="3809880" cy="2514600"/>
          </a:xfrm>
          <a:prstGeom prst="irregularSeal2">
            <a:avLst/>
          </a:prstGeom>
          <a:solidFill>
            <a:srgbClr val="ccc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28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00ff"/>
                </a:solidFill>
                <a:latin typeface="Times New Roman"/>
              </a:rPr>
              <a:t>Sito Direzione Gen. Regionale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00ff"/>
                </a:solidFill>
                <a:latin typeface="Times New Roman"/>
              </a:rPr>
              <a:t>Friuli Venezia Giulia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81280" y="6172200"/>
            <a:ext cx="2362320" cy="76320"/>
          </a:xfrm>
          <a:prstGeom prst="line">
            <a:avLst/>
          </a:prstGeom>
          <a:ln w="93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876920"/>
            <a:ext cx="381240" cy="685800"/>
          </a:xfrm>
          <a:prstGeom prst="line">
            <a:avLst/>
          </a:prstGeom>
          <a:ln w="93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620120" y="4648320"/>
            <a:ext cx="228600" cy="304560"/>
          </a:xfrm>
          <a:prstGeom prst="line">
            <a:avLst/>
          </a:prstGeom>
          <a:ln w="93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905120" y="2666880"/>
            <a:ext cx="1447560" cy="152640"/>
          </a:xfrm>
          <a:prstGeom prst="line">
            <a:avLst/>
          </a:prstGeom>
          <a:ln w="93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2666880"/>
            <a:ext cx="1218960" cy="76320"/>
          </a:xfrm>
          <a:prstGeom prst="line">
            <a:avLst/>
          </a:prstGeom>
          <a:ln w="93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81280" y="5486400"/>
            <a:ext cx="2210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formazione</a:t>
            </a:r>
            <a:endParaRPr b="1" lang="en-US" sz="20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124080" y="3048120"/>
            <a:ext cx="3200400" cy="1285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cumentazione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600200"/>
            <a:ext cx="3581280" cy="685800"/>
          </a:xfrm>
          <a:prstGeom prst="rect">
            <a:avLst/>
          </a:prstGeom>
          <a:solidFill>
            <a:srgbClr val="67f4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752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Times New Roman"/>
              </a:rPr>
              <a:t>Gruppo tecnico di Coordinamento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1600200"/>
            <a:ext cx="3581280" cy="685800"/>
          </a:xfrm>
          <a:prstGeom prst="rect">
            <a:avLst/>
          </a:prstGeom>
          <a:solidFill>
            <a:srgbClr val="67f4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99072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17524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Times New Roman"/>
              </a:rPr>
              <a:t>Comitato di valutazione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33520"/>
            <a:ext cx="6858000" cy="533160"/>
          </a:xfrm>
          <a:prstGeom prst="rect">
            <a:avLst/>
          </a:prstGeom>
          <a:solidFill>
            <a:srgbClr val="67f4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6094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Times New Roman"/>
              </a:rPr>
              <a:t>Direzione G. MIUR – Servizio A.Immigrazione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276720" y="1066680"/>
            <a:ext cx="380880" cy="5335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1066680"/>
            <a:ext cx="533520" cy="5335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1905120"/>
            <a:ext cx="7772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Istituzioni scolastiche collocate in zone a forte flusso migratorio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Istituzioni scolastiche che avessero già collaborato con il Servizio Autonomo per l’Immigrazion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  <a:ea typeface="Arial"/>
              </a:rPr>
              <a:t>Coinvolgimento dell’intera istituzione scolastica con inserimento nel POF di progettualità specifiche sull’intercultura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  <a:ea typeface="Arial"/>
              </a:rPr>
              <a:t>Coinvolgimento del territorio,  degli immigrati e delle loro Associazioni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  <a:ea typeface="Arial"/>
              </a:rPr>
              <a:t>nelle attività delle istituzioni scolastiche.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8380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  <a:ea typeface="Arial"/>
              </a:rPr>
              <a:t>Il Progetto S.A.M. - individuazione delle scuole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cc"/>
                </a:solidFill>
                <a:latin typeface="Arial"/>
              </a:rPr>
              <a:t>Organizzazione interna della rete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914400"/>
            <a:ext cx="83818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33cc"/>
              </a:buClr>
              <a:buFont typeface="Times New Roman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Times New Roman"/>
              </a:rPr>
              <a:t>scuole polo: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imes New Roman"/>
              </a:rPr>
              <a:t>DOCUMENTAZIONE - CONSULENZA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Times New Roman"/>
              </a:rPr>
              <a:t>I.C.GIACICH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Times New Roman"/>
              </a:rPr>
              <a:t>2° CIRCOLO DID di TRIESTE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Times New Roman"/>
              </a:rPr>
              <a:t>4° CIRCOLO DID di UDINE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Times New Roman"/>
              </a:rPr>
              <a:t>1° CIRCOLO DID di PORDENONE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imes New Roman"/>
              </a:rPr>
              <a:t>FORMAZIONE – </a:t>
            </a:r>
            <a:r>
              <a:rPr b="0" lang="it-IT" sz="2400" spc="-1" strike="noStrike">
                <a:solidFill>
                  <a:srgbClr val="0033cc"/>
                </a:solidFill>
                <a:latin typeface="Times New Roman"/>
              </a:rPr>
              <a:t>2 moduli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Times New Roman"/>
              </a:rPr>
              <a:t>4° Circolo didattico di UDINE – 1° livello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Times New Roman"/>
              </a:rPr>
              <a:t>I.C. GIACICH Monfalcone – 2° livello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457200"/>
            <a:ext cx="7162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33cc"/>
                </a:solidFill>
                <a:latin typeface="Arial"/>
                <a:ea typeface="Arial"/>
              </a:rPr>
              <a:t>Il progetto S.A.M. - le premesse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1295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Times New Roman"/>
              </a:rPr>
              <a:t>SCUOLA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19810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Times New Roman"/>
              </a:rPr>
              <a:t>ruolo di mediazione attiva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429000"/>
            <a:ext cx="1219320" cy="0"/>
          </a:xfrm>
          <a:prstGeom prst="line">
            <a:avLst/>
          </a:prstGeom>
          <a:ln w="76320">
            <a:solidFill>
              <a:srgbClr val="0033c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27432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imes New Roman"/>
              </a:rPr>
              <a:t>cultura di provenienza del minore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259092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Times New Roman"/>
              </a:rPr>
              <a:t>cultura rappresentata dalla scuola stessa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46360" y="5257800"/>
            <a:ext cx="66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L’obiettivo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: sviluppare l’identità di ciascuno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45720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FINALITÀ DEL PROGETTO S.A.M.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1828800"/>
            <a:ext cx="87631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just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Creare opportune condizioni per favorire il successo scolastico degli alunni immigrati e la loro integrazione sociale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240120" indent="-240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240120" indent="-240120" algn="just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Arginare il precoce abbandono scolastico da parte degli alunni immigrati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240120" indent="-240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240120" indent="-240120" algn="just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Prevenire situazioni di disagio sociale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240120" indent="-240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240120" indent="-240120" algn="just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Favorire la loro integrazione  nel mondo del lavoro e nel tessuto sociale del territorio promuovendo principi di cittadinanza attiva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240120" indent="-240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240120" indent="-240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OBIETTIVI DEL PROGETTO S.A.M.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447920"/>
            <a:ext cx="87631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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Sperimentare modalità di collaborazione tra  Struttura Stabile per l’Immigrazione  Regione FVG e Direzione Regionale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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 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Promuovere rapporti di scambio e collaborazione tra scuole della regione (costituzione e funzionamento di rete di scuole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  <a:ea typeface="Times New Roman"/>
              </a:rPr>
              <a:t>Per: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spcBef>
                <a:spcPts val="451"/>
              </a:spcBef>
              <a:buClr>
                <a:srgbClr val="0033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Sviluppare la progettualità</a:t>
            </a:r>
            <a:r>
              <a:rPr b="0" lang="it-IT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 delle scuole in ambito interculturale, in un’ottica di integrazione e ottimizzazione delle risorse professionali e finanziarie disponibili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spcBef>
                <a:spcPts val="451"/>
              </a:spcBef>
              <a:buClr>
                <a:srgbClr val="0033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Migliorare i raccordi  scuola e territorio</a:t>
            </a:r>
            <a:r>
              <a:rPr b="0" lang="it-IT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 per l’inserimento e l’integrazione dell’alunno immigrato nella società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spcBef>
                <a:spcPts val="451"/>
              </a:spcBef>
              <a:buClr>
                <a:srgbClr val="0033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Supportare lo sviluppo di percorsi e la </a:t>
            </a:r>
            <a:r>
              <a:rPr b="1" lang="it-IT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costruzione di curricoli interculturali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spcBef>
                <a:spcPts val="451"/>
              </a:spcBef>
              <a:buClr>
                <a:srgbClr val="0033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Incrementare  i progressi negli apprendimenti degli alunni immigrati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spcBef>
                <a:spcPts val="451"/>
              </a:spcBef>
              <a:buClr>
                <a:srgbClr val="0033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Evidenziare le “buone prassi”</a:t>
            </a:r>
            <a:r>
              <a:rPr b="0" lang="it-IT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 esistenti in regione nell’ambito dell’educazione interculturale individuandone i caratteri di trasmissibilità e ripetitibilità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4920" y="914400"/>
            <a:ext cx="86104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APPRENDIMENTO ITALIANO L2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: attenzione agli </a:t>
            </a:r>
            <a:r>
              <a:rPr b="1" lang="it-IT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aspetti comunicativi della lingua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/delle lingue come prevenzione al disagio: sviluppo delle competenze in italiano lingua 2 ma anche in inglese e ancora nei linguaggi poetici e non verbali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     </a:t>
            </a:r>
            <a:r>
              <a:rPr b="1" lang="it-IT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RAPPORTI CON IL TERRITORIO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per creare reti di relazioni tra scuola ed extrascuola e per facilitare l’integrazione e lo scambio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     </a:t>
            </a:r>
            <a:r>
              <a:rPr b="1" lang="it-IT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SVILUPPO DI UN CURRICOLO INTERCULTURALE: l’intercultura come sfondo integratore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 delle attività  e del piano dell’offerta formativa, con conseguente rivisitazione dei contenuti disciplinari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380880"/>
            <a:ext cx="56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cc"/>
                </a:solidFill>
                <a:latin typeface="Arial"/>
                <a:ea typeface="Times New Roman"/>
              </a:rPr>
              <a:t>3 PERCORSI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5:06:17Z</dcterms:created>
  <dc:creator>Ufficio Scolastico Regionale</dc:creator>
  <dc:description/>
  <dc:language>en-US</dc:language>
  <cp:lastModifiedBy>User name placeholder</cp:lastModifiedBy>
  <dcterms:modified xsi:type="dcterms:W3CDTF">2005-02-14T15:14:04Z</dcterms:modified>
  <cp:revision>45</cp:revision>
  <dc:subject/>
  <dc:title>L’educazione interculturale in Friuli Venezia Giulia</dc:title>
</cp:coreProperties>
</file>