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F52E-C04C-4953-9D0D-34D7FF09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8AF1-6571-44C7-BA18-E74DE171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BB9B-AF2E-478B-80C8-E8D3108A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3A7B-DBE0-429A-8807-61CCA3DBA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D953-66A3-4B33-B296-70682EF0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57DC-5B06-4902-984C-7312E66B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38D1-7766-42A0-A6BB-4073CBEF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D084-F12C-4A97-BA0A-ABB14185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684E-D04B-465E-ADFF-BCF017E4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508D-911E-4B96-8DA2-54CD8335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023C-30C4-4C42-A173-E5195A3B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162D-EFCF-4321-AFB9-7D6DE838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65FF-1268-4754-929C-374DDE27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5F83-B433-4087-BC88-ECFAD72C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7E39-9E77-483A-B67A-FBA13C7B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2C56-271D-4C7E-A6E1-392E5C321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AD3F-D9E2-47A4-B61D-582188478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0DBD-72F5-496E-BD82-913C2E3B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7D09-B703-495B-8FAB-CE10126B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BFAC-7C8D-4EEB-95A1-CE011CDC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DEA3-77AC-4D97-8451-A26680F7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5A9D-4C9E-407A-B1FD-70C2338E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72AD-BBBD-4957-A7BF-75D54A58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F2EF-03CC-4D9A-98A2-239908CB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9084-7AF9-4812-9F22-B2C5ECB3FEBE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990360" cy="91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6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FF58-06F2-4CE5-9FA5-041E00A6656F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876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00"/>
                </a:solidFill>
                <a:latin typeface="Arial"/>
              </a:rPr>
              <a:t>Un sito per il progetto SAM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00200" y="57909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Febbraio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895480" y="1447920"/>
            <a:ext cx="3353040" cy="3112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371600" y="4572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ff"/>
                </a:solidFill>
                <a:latin typeface="Arial"/>
              </a:rPr>
              <a:t>www.fruts.it/s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52480" y="304920"/>
            <a:ext cx="6324840" cy="590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fruts.it/sa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52480" y="304920"/>
            <a:ext cx="6324840" cy="3082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52480" y="3429000"/>
            <a:ext cx="6324840" cy="1625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752480" y="5105520"/>
            <a:ext cx="6324840" cy="914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752480" y="9144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33cc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52480" y="3429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33cc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51055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33cc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fruts.it/sa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6248520" cy="581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fruts.it/sa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6305400" cy="361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fruts.it/sa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6324480" cy="371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fruts.it/sa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52480" y="304920"/>
            <a:ext cx="6324840" cy="489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fruts.it/sa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8769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00"/>
                </a:solidFill>
                <a:latin typeface="Arial"/>
              </a:rPr>
              <a:t>Un sito per il progetto SAM</a:t>
            </a:r>
            <a:endParaRPr b="1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600200" y="57909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Febbraio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895480" y="1447920"/>
            <a:ext cx="3353040" cy="3112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371600" y="4572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ff"/>
                </a:solidFill>
                <a:latin typeface="Arial"/>
              </a:rPr>
              <a:t>www.fruts.it/s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66"/>
                </a:solidFill>
                <a:latin typeface="Arial"/>
              </a:rPr>
              <a:t>Scopi del sito</a:t>
            </a: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ndivisione delle esperien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Diffusione dei materiali prodot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nella prospettiva che questo compito passi al sito regionale della scuo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E poi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municazione e interazione nel gruppo di lavo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Diffusione di informazioni (news) relative ai contenuti del proget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fruts.it/sa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66"/>
                </a:solidFill>
                <a:latin typeface="Arial"/>
              </a:rPr>
              <a:t>Richieste</a:t>
            </a: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Tempi brevi per la realizzazi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Semplicità di utilizzo sia per i visitatori che per i redattori delle informazio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atalogazione dei materiali secondo uno schema definito (progetto della scuola, strumenti di lavoro, percorsi attuati, valutazio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fruts.it/sa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66"/>
                </a:solidFill>
                <a:latin typeface="Arial"/>
              </a:rPr>
              <a:t>Realizzazione</a:t>
            </a: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ttivazione del sito su server Insiel, nell’ambito dello spazio della rete Fruts (11/0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reazione della comunità online, con passw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Pubblicazione scheda con le informazioni sulle scuole coinvolte nel progetto ed i riferimenti per i contat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ttivazione del diario di bordo (blo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ttivazione della pubblicazione delle n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ttivazione di una c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fruts.it/sa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66"/>
                </a:solidFill>
                <a:latin typeface="Arial"/>
              </a:rPr>
              <a:t>Punti di forza</a:t>
            </a: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ndivisione e diffusione facilitata di informazioni, materiali, strumenti di lavo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ccorciamento delle distanze, economia di tempo e di costi della comunicazi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Ruolo attivo dei referen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ccessibilità e semplicità d’u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Tempi brevi per la “messa a regime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fruts.it/sa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66"/>
                </a:solidFill>
                <a:latin typeface="Arial"/>
              </a:rPr>
              <a:t>Punti critici</a:t>
            </a: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sponibilità e abilità ad operare in re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inguaggi diver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ormati software proprieta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Ruoli e responsabilità rispetto al sito (e in generale alla pubblicazione dei materiali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privacy nel trattamento dei dati del sito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privacy relativa ai contenuti pubblicati e alle immagini riprese nel contesto scolastic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opyrigh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validazione dei material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certezza per il futu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fruts.it/sa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66"/>
                </a:solidFill>
                <a:latin typeface="Arial"/>
              </a:rPr>
              <a:t>Iniziative a breve</a:t>
            </a: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Supporto formativo per i referenti per l’utilizzo della piattafor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ttivazione di un primo database dei materiali, che cataloghi progetti, strumenti, percorsi, fornendo gli estremi per il reperimento degli stes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formazione alle scuole sulla disponibilità del si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fruts.it/sa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66"/>
                </a:solidFill>
                <a:latin typeface="Arial"/>
              </a:rPr>
              <a:t>Esigenze per il futuro</a:t>
            </a:r>
            <a:endParaRPr b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Presenza continuativa nella comunità online (diario di bordo, news, databa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llaborazione attiva nel test della piattaforma e nel fornire idee, proposte, soluzioni, e poi materi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ffettiva reperibilità dei materiali inseriti nel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Progettazione del futuro del sito (in relazione al futuro del progett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fruts.it/sa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6315120" cy="586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fruts.it/sa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0:19:37Z</dcterms:created>
  <dc:creator>DDUD4</dc:creator>
  <dc:description/>
  <dc:language>en-US</dc:language>
  <cp:lastModifiedBy>Francesco</cp:lastModifiedBy>
  <dcterms:modified xsi:type="dcterms:W3CDTF">2005-02-12T10:17:33Z</dcterms:modified>
  <cp:revision>26</cp:revision>
  <dc:subject/>
  <dc:title>Un sito  per il progetto SAM</dc:title>
</cp:coreProperties>
</file>