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5D73-D5A3-4DFB-9A47-F9830293298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iculum icebe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B403-6E6C-4C2E-9140-FD573412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BA2D-7A47-448F-A38B-CA354B63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A036-78FD-400A-9C8D-368336199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E433-8790-4465-8E12-5C10F0A4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98D5-5174-4A2F-8D5C-C2B4E82C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5C24-F963-4581-ADAC-12E60FD5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3370-E371-477A-A3E9-72B2F757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BF3A-60DC-4528-8615-6FF8D1CB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4E33-7C21-4EFD-95F6-BF3CF0F7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7807-E9BB-4C25-B088-1607D5B8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2457-438F-4659-8451-E7AD94EE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9B3C-C5FE-4837-8A82-EA6AD406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1634-A638-449F-82EC-F630A8F64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TACOGNIZION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mbiente di apprendimento:integrante ed integ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ntesti d’uso numero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mpiezza di applicazioni 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TAS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sercizio sistema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rilena Nalesso                 Scuola Primaria e Sec.I g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28.10  Trieste     11.11.2008 Ud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015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66"/>
                </a:solidFill>
                <a:latin typeface="Times New Roman"/>
              </a:rPr>
              <a:t>Metacognizione e modalità strategiche in clas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735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Scaffolding (impalcatura)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al sostegno temporaneo-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ontrollat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- all’autonomia-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rimozion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del cont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Ottica di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problem-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voro cooper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66"/>
                </a:solidFill>
                <a:latin typeface="Times New Roman"/>
              </a:rPr>
              <a:t>Metacognizione e affettivit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Strateg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g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metacog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ffet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Strategie metacognitive e percorso CL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e di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ianificazi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po e risultati atte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requis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oltà e ostaco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orse e strum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e di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secuzi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viduazione e coordinamento oper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Strategie metacognitive e percorso CL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ase di 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control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onitoraggio aspetti linguistici e contesto disciplin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sservazione e rifle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ase di 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valutazione/autovalutazi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aggiungimento/non raggiungimento obiet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escrizione difficoltà, confronto strategie,revi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54440" y="2593800"/>
            <a:ext cx="3292200" cy="265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4794120" cy="1971720"/>
          </a:xfrm>
          <a:prstGeom prst="cloudCallout">
            <a:avLst>
              <a:gd name="adj1" fmla="val 28643"/>
              <a:gd name="adj2" fmla="val 13502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he cos’è la metacognizi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43400" y="428760"/>
            <a:ext cx="3514680" cy="2193840"/>
          </a:xfrm>
          <a:prstGeom prst="cloudCallout">
            <a:avLst>
              <a:gd name="adj1" fmla="val -47379"/>
              <a:gd name="adj2" fmla="val 793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hé è importan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664160"/>
            <a:ext cx="3252960" cy="2193840"/>
          </a:xfrm>
          <a:prstGeom prst="cloudCallout">
            <a:avLst>
              <a:gd name="adj1" fmla="val 38532"/>
              <a:gd name="adj2" fmla="val -1035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 che cosa tratt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46600" y="4664160"/>
            <a:ext cx="3497400" cy="2193840"/>
          </a:xfrm>
          <a:prstGeom prst="cloudCallout">
            <a:avLst>
              <a:gd name="adj1" fmla="val -38560"/>
              <a:gd name="adj2" fmla="val -1091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e può essere sviluppat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55800" y="387360"/>
            <a:ext cx="7353000" cy="61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4400" spc="-1" strike="noStrike">
                <a:solidFill>
                  <a:srgbClr val="000000"/>
                </a:solidFill>
                <a:latin typeface="Comic Sans MS"/>
              </a:rPr>
              <a:t>Metacogni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Strategie metacognitive: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</a:rPr>
              <a:t> consapevolezza di come progettare-monitorare-valutare il proprio apprendimento; linea d’azione organizzata, finalizzata e controllata che un individuo sceglie per risolvere un problema=</a:t>
            </a:r>
            <a:r>
              <a:rPr b="1" i="1" lang="it-IT" sz="2800" spc="-1" strike="noStrike">
                <a:solidFill>
                  <a:srgbClr val="000000"/>
                </a:solidFill>
                <a:latin typeface="Comic Sans MS"/>
              </a:rPr>
              <a:t>proc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Abilità di studio (study skills) :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</a:rPr>
              <a:t>capacità di esecuzione di un compito=</a:t>
            </a:r>
            <a:r>
              <a:rPr b="1" i="1" lang="it-IT" sz="2800" spc="-1" strike="noStrike">
                <a:solidFill>
                  <a:srgbClr val="000000"/>
                </a:solidFill>
                <a:latin typeface="Comic Sans MS"/>
              </a:rPr>
              <a:t>prodo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Stili di apprendimento: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</a:rPr>
              <a:t>preferenze individuali di approccio all’apprendimento, di tipo cognitivo e sensoriale (VA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55640" y="2133720"/>
            <a:ext cx="67816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56000" y="981000"/>
            <a:ext cx="2971800" cy="43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cetti chi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anifi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front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itor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lut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flett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1843200" cy="1852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657600" y="5335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omic Sans MS"/>
              </a:rPr>
              <a:t>learning to lear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25909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omic Sans MS"/>
              </a:rPr>
              <a:t>an automatic process …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4800600"/>
            <a:ext cx="36576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it-IT" sz="3600" spc="-1" strike="noStrike">
                <a:solidFill>
                  <a:srgbClr val="000000"/>
                </a:solidFill>
                <a:latin typeface="Comic Sans MS"/>
              </a:rPr>
              <a:t>or a conscious activit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uciano Mari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105520" y="4419720"/>
            <a:ext cx="2895480" cy="2062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257800" y="2057400"/>
            <a:ext cx="18637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oscenza s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i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so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66"/>
                </a:solidFill>
                <a:latin typeface="Times New Roman"/>
              </a:rPr>
              <a:t>Conoscenza Metacogniti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66"/>
                </a:solidFill>
                <a:latin typeface="Times New Roman"/>
              </a:rPr>
              <a:t>Metacognizione  e studente autono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pprendimento centrato sul disc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pprendimento strategico: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scelta di strategie appropriate ed efficaci a seconda del comp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pprendimento consapevole: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uso di strategie metacog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tteggiamento positivo verso l’apprendimento di una lin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60958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lena Nalesso IRRE FV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66"/>
                </a:solidFill>
                <a:latin typeface="Times New Roman"/>
              </a:rPr>
              <a:t>Metacognizione e strategie comunic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2205000"/>
            <a:ext cx="7772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terazione e apprendimento signific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trategie comunicative e principi metacogni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inquadrare il messaggio-pianificare le mosse-prendere e dare la parola-cooperare con l’altro-far fronte all’imprevisto-chiedere aiuto-controllare l’esecuzione-riparare le incomprens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ntenuti autentici e 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66"/>
                </a:solidFill>
                <a:latin typeface="Times New Roman"/>
              </a:rPr>
              <a:t>Metacognizione e modalità strategiche in clas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514600"/>
            <a:ext cx="7772400" cy="4114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lessibilità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funzione del compito: consapevolezza di modi e stili diversi, scelta consapevole di strategie diversif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opert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sollecitare curiosità ed interesse: scoprire la chi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9:29:22Z</dcterms:created>
  <dc:creator>nalesso</dc:creator>
  <dc:description/>
  <dc:language>en-US</dc:language>
  <cp:lastModifiedBy>marilena</cp:lastModifiedBy>
  <dcterms:modified xsi:type="dcterms:W3CDTF">2008-10-22T09:38:11Z</dcterms:modified>
  <cp:revision>26</cp:revision>
  <dc:subject/>
  <dc:title>Metacognizione  e studente autonomo</dc:title>
</cp:coreProperties>
</file>