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65F-01A0-4A73-BBA6-EB53628E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B47-DB11-41E4-BEDD-F782DB1F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802-C80C-461B-A188-0D0708D4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4F6-823C-4DDA-85B7-75FEE368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3BA8-FB81-407C-8AF4-BBCB2E2B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8DE0-EA3D-4F7D-AD26-8273D758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1040-6E98-4635-89FA-910C0D62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06CA-25EB-462D-91B3-056C1ADE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7B3D-17DD-46EB-A62F-A258293C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6972-464C-4009-A022-CAB31AA6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A963-0BF8-43B3-B3DD-989C82BE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188-8337-4EE5-9745-54E2B8C4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0CF1-2A8F-4CEF-8966-2028A2BA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CAA8-06E8-4D1C-9F7A-7C5AB543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35F7-3212-4885-BF1F-511A77C5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04B9-0ECB-4170-9213-14A67272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3615-D1D1-45B3-98C9-7E869892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DD1-2B63-45BF-B707-505051A3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DA5-41EA-4C82-9054-39991C60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67D-4103-4506-9F09-E1B920DB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CF6-0DD5-4221-8564-053B22E7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B8A-6CAB-40B2-9E38-0CF4659F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B74-4893-4335-9411-DD6F2E24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8A6-5967-44DA-8771-6397CA5F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113C-0D4C-47D8-83B9-E260A80085CD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F744-7252-4731-ABBC-06C0BF08C784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3399"/>
                </a:solidFill>
                <a:latin typeface="Arial"/>
              </a:rPr>
              <a:t>CLI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Bookman Old Style"/>
              </a:rPr>
              <a:t>Sfida o possibilit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3399"/>
                </a:solidFill>
                <a:latin typeface="Bookman Old Style"/>
              </a:rPr>
              <a:t>Federica Ricci Garo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Bookman Old Style"/>
              </a:rPr>
              <a:t>Università Trento (Ital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3083-5C61-4FAD-A57D-4BA0ED8893E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532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500" spc="-1" strike="noStrike">
                <a:solidFill>
                  <a:srgbClr val="000000"/>
                </a:solidFill>
                <a:latin typeface="Arial"/>
              </a:rPr>
              <a:t>COSA è IL TASK? Che differenza c‘è con l‘esercizio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7620120" cy="404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990000"/>
                </a:solidFill>
                <a:latin typeface="Arial"/>
              </a:rPr>
              <a:t>Esercizio = rito. Componente behavioristica o addest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990000"/>
                </a:solidFill>
                <a:latin typeface="Arial"/>
              </a:rPr>
              <a:t>Task = attività, compito. Componente di ragionamento autonomo, procedur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"people do in everyday life, at work, at play and in between" (Long, 1985:89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E8C-B4A9-45A3-B7C7-21A7324BDD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pertorio di tecnich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iste di parole – gruppi di parole – fumetti – cloze – ambiti di parole – puzzle di testo – sequanza di immagini – ricerca degli errori – cartelloni – mappa mentale – rete concettuale – diagrammi – modelli di frase – modelli di domande – storia illustrata – indovinelli – grafico – diagramma di flusso – riordinamenti – cesta delle tesi –dialogo – archivio . Etichette – domino – memory – dado dei concetti – cartoncini – quiz – telefono senza fili – dialogo muto – carte – negoziazione – discussione – talk show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25E-1187-410F-8DEE-DC8512B64E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54704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de-DE" sz="3500" spc="-1" strike="noStrike">
                <a:solidFill>
                  <a:srgbClr val="330066"/>
                </a:solidFill>
                <a:latin typeface="Arial"/>
              </a:rPr>
              <a:t>Quarta domanda:</a:t>
            </a:r>
            <a:br>
              <a:rPr sz="3500"/>
            </a:br>
            <a:r>
              <a:rPr b="1" lang="de-DE" sz="3500" spc="-1" strike="noStrike">
                <a:solidFill>
                  <a:srgbClr val="330066"/>
                </a:solidFill>
                <a:latin typeface="Arial"/>
              </a:rPr>
              <a:t>chi è l‘insegnante CLIL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7756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200" spc="-1" strike="noStrike">
                <a:solidFill>
                  <a:srgbClr val="000000"/>
                </a:solidFill>
                <a:latin typeface="Arial"/>
              </a:rPr>
              <a:t>Sapere disciplin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200" spc="-1" strike="noStrike">
                <a:solidFill>
                  <a:srgbClr val="000000"/>
                </a:solidFill>
                <a:latin typeface="Arial"/>
              </a:rPr>
              <a:t>Sapere linguistico-comunic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200" spc="-1" strike="noStrike">
                <a:solidFill>
                  <a:srgbClr val="000000"/>
                </a:solidFill>
                <a:latin typeface="Arial"/>
              </a:rPr>
              <a:t>Sapere metodologico-didat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200" spc="-1" strike="noStrike">
                <a:solidFill>
                  <a:srgbClr val="000000"/>
                </a:solidFill>
                <a:latin typeface="Arial"/>
              </a:rPr>
              <a:t>4° Plusvalore CLIL: varietà soluzioni organizz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449-5A30-4C56-A58B-A62DE5BEA8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754380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de-DE" sz="3500" spc="-1" strike="noStrike">
                <a:solidFill>
                  <a:srgbClr val="330066"/>
                </a:solidFill>
                <a:latin typeface="Arial"/>
              </a:rPr>
              <a:t>Quinta domanda:</a:t>
            </a:r>
            <a:br>
              <a:rPr sz="3500"/>
            </a:br>
            <a:r>
              <a:rPr b="1" lang="de-DE" sz="3500" spc="-1" strike="noStrike">
                <a:solidFill>
                  <a:srgbClr val="330066"/>
                </a:solidFill>
                <a:latin typeface="Arial"/>
              </a:rPr>
              <a:t>Priorità dell‘insegnante</a:t>
            </a:r>
            <a:r>
              <a:rPr b="1" lang="de-DE" sz="3500" spc="-1" strike="noStrike">
                <a:solidFill>
                  <a:srgbClr val="ae6f22"/>
                </a:solidFill>
                <a:latin typeface="Arial"/>
              </a:rPr>
              <a:t> CLIL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37816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cc00"/>
                </a:solidFill>
                <a:latin typeface="Arial"/>
              </a:rPr>
              <a:t>Autono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cc00"/>
                </a:solidFill>
                <a:latin typeface="Arial"/>
              </a:rPr>
              <a:t>Inter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cc00"/>
                </a:solidFill>
                <a:latin typeface="Arial"/>
              </a:rPr>
              <a:t>Metacogni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cc00"/>
                </a:solidFill>
                <a:latin typeface="Arial"/>
              </a:rPr>
              <a:t>5° Plusvalore CLIL: centralità del disc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E3A-EC6F-4070-AA5C-3EC9A860C9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LIL: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a lezione disciplinare sensibil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preoccupa della competenza linguistica entro le tematiche disciplina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 che lingua e contenuto sono inscindibi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 che ogni apprendimento reale è sempre apprendimento linguis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o che questa volta la lingua è la 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230-63EE-470D-95CC-114C14DD77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nti di interesse scientif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sare e parlare si trovano in diverse regioni del cervello e funzionano a diverse veloc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bisogno di verbalizzare e la difficoltà di parola è inevitabile in caso di una attività cognitiva int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 essere rispettata la priorità del pensiero rispetto alla pa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 offerto un aiuto attraverso espressioni non ver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aggiare pazientemente la produzione ver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rire diverse alternative di formu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B67-94D3-49F2-9274-0E5AF03822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l lavoro verbale nella lezione disciplinar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È fondamentale per non lasciare lo studente privo di strum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 essere sempre “mostrato” anche con strumenti non verb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 riguardare la tematica specifica che non appartiene alla lingua quotidi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B30-F157-46B7-BF73-306BD87B48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de-DE" sz="3500" spc="-1" strike="noStrike">
                <a:solidFill>
                  <a:srgbClr val="330066"/>
                </a:solidFill>
                <a:latin typeface="Arial"/>
              </a:rPr>
              <a:t>il testo scritto è centrale sempre e comunque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064720" cy="4032360"/>
          </a:xfrm>
          <a:prstGeom prst="rect">
            <a:avLst/>
          </a:prstGeom>
          <a:solidFill>
            <a:srgbClr val="ccecff"/>
          </a:solidFill>
          <a:ln w="9360">
            <a:solidFill>
              <a:srgbClr val="66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90720" indent="-6462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immagini, sia quelle già predisposte dall'insegnante, ma anche (e soprattutto) quelle disegnate dal dis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iagramma di strut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tab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azione dir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'esp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gola o legge (nel caso di chimica o biolog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fil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iagramma di flu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mappa m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6BC-4262-48DA-B780-CA4F727CD4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ituazioni verbali e disciplinari standar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sprimere (o fare esprimere) una ipotesi, una idea, una solu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orre domande di conten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piegare parti del conten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Risolvere e verbalizzare un problema disciplin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eggere un testo disciplin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odurre un tetso disciplin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rgomentare sul contenuto disciplin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521D-3AA1-406B-91E2-8FA812CB1C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3900" spc="-1" strike="noStrike">
                <a:solidFill>
                  <a:srgbClr val="330066"/>
                </a:solidFill>
                <a:latin typeface="Arial"/>
              </a:rPr>
              <a:t>Occorre una soglia minima per il CLIL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3000" spc="-1" strike="noStrike">
                <a:solidFill>
                  <a:srgbClr val="000000"/>
                </a:solidFill>
                <a:latin typeface="Arial"/>
              </a:rPr>
              <a:t>- Obiettivi di competen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l contenuto è determinato dalle strutture linguistiche e non vicever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e sì, allora bisogna prima superarla affinchè il CLIL abbia davvero succes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261-E166-4D91-BF12-4BD3A3AD6F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3900" spc="-1" strike="noStrike">
                <a:solidFill>
                  <a:srgbClr val="330066"/>
                </a:solidFill>
                <a:latin typeface="Arial"/>
              </a:rPr>
              <a:t>Dove nasce e perché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3000" spc="-1" strike="noStrike">
                <a:solidFill>
                  <a:srgbClr val="000000"/>
                </a:solidFill>
                <a:latin typeface="Arial"/>
              </a:rPr>
              <a:t>Finlandia Canada Svizzera Catalog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3000" spc="-1" strike="noStrike">
                <a:solidFill>
                  <a:srgbClr val="000000"/>
                </a:solidFill>
                <a:latin typeface="Arial"/>
              </a:rPr>
              <a:t>Modelli politico-linguist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3000" spc="-1" strike="noStrike">
                <a:solidFill>
                  <a:srgbClr val="000000"/>
                </a:solidFill>
                <a:latin typeface="Arial"/>
              </a:rPr>
              <a:t>L2, L1, 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3000" spc="-1" strike="noStrike">
                <a:solidFill>
                  <a:srgbClr val="000000"/>
                </a:solidFill>
                <a:latin typeface="Arial"/>
              </a:rPr>
              <a:t>Finalità: bilinguismo poli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1D5-650F-4BEC-944C-DDA5CA9E0D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e iniziar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sercitarsi ad utilizzare diverse forme di rappresent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ominciare con semplici sturmenti linguistici e un vasto repertorio di meto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Operare sempre collegial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Utilizzare sempre il 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egli studenti se si nota che gli aiuti portano al succes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259-92A4-4A9B-8DAC-3FE9A6546E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l modello straniero delle soglie minim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enziamento linguistico nei primi an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mporaneità dei percorsi L1-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PRE, per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l CLIL non può essere il recupero di ciò che non c’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7F2-2DD8-4956-B583-1D9218D33E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67816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de-DE" sz="4800" spc="-1" strike="noStrike">
                <a:solidFill>
                  <a:srgbClr val="330066"/>
                </a:solidFill>
                <a:latin typeface="Arial"/>
              </a:rPr>
              <a:t>Conclusioni</a:t>
            </a:r>
            <a:br>
              <a:rPr sz="4800"/>
            </a:br>
            <a:r>
              <a:rPr b="1" lang="de-DE" sz="4800" spc="-1" strike="noStrike">
                <a:solidFill>
                  <a:srgbClr val="330066"/>
                </a:solidFill>
                <a:latin typeface="Arial"/>
              </a:rPr>
              <a:t>(provvisorie)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62120" y="2924280"/>
            <a:ext cx="76262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lusva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I saperi del CL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La concezione della propria discip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La strutturazione della le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L‘utilizzo dei mater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L‘insegnante plurili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E97E-01FD-4F89-96DD-1F8B3743A5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3900" spc="-1" strike="noStrike">
                <a:solidFill>
                  <a:srgbClr val="330066"/>
                </a:solidFill>
                <a:latin typeface="Arial"/>
              </a:rPr>
              <a:t>Tipologie originar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3000" spc="-1" strike="noStrike">
                <a:solidFill>
                  <a:srgbClr val="000000"/>
                </a:solidFill>
                <a:latin typeface="Arial"/>
              </a:rPr>
              <a:t>Immersione tot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3000" spc="-1" strike="noStrike">
                <a:solidFill>
                  <a:srgbClr val="000000"/>
                </a:solidFill>
                <a:latin typeface="Arial"/>
              </a:rPr>
              <a:t>Immersione parzi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3000" spc="-1" strike="noStrike">
                <a:solidFill>
                  <a:srgbClr val="000000"/>
                </a:solidFill>
                <a:latin typeface="Arial"/>
              </a:rPr>
              <a:t>Scuole bilingu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3000" spc="-1" strike="noStrike">
                <a:solidFill>
                  <a:srgbClr val="000000"/>
                </a:solidFill>
                <a:latin typeface="Arial"/>
              </a:rPr>
              <a:t>One language - one per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5E4-6B4A-4C83-986D-064E68BC2D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pologie “importate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segnamento veicol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LIL curricol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LIL modu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empo di esposi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oinvolgimento cognitivo - affet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7C4-0886-4363-BBE2-CF638BC8C1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9360">
            <a:solidFill>
              <a:srgbClr val="7e9ce8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ma domanda: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L e la lingu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evo insegnare la lingu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Arial"/>
              </a:rPr>
              <a:t>No! Il focus dell’insegnamento è la discipl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1° Plusvalore del CLIL = lingua nel suo contesto autentico; lingua nella sua funzione autentica</a:t>
            </a: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436572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4365720"/>
            <a:ext cx="88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64200" y="553716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BF0-3BA4-4F35-8379-249561CDB1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conda domanda: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L e la discipli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evo semplificare il contenu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Arial"/>
              </a:rPr>
              <a:t>No! Vanno scelti gli stessi obiettivi che si sceglierebbero in L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2° Plusvalore CLIL:</a:t>
            </a:r>
            <a:r>
              <a:rPr b="0" i="1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ono costretto a concentrarmi nella programmazione; evito la programmazione-compil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3000" spc="-1" strike="noStrike">
                <a:solidFill>
                  <a:srgbClr val="000000"/>
                </a:solidFill>
                <a:latin typeface="Arial"/>
              </a:rPr>
              <a:t>Il problema dei tempi di apprend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BCF-DD02-4458-880C-01DE78A42A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rza domanda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L e il meto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3000" spc="-1" strike="noStrike">
                <a:solidFill>
                  <a:srgbClr val="000000"/>
                </a:solidFill>
                <a:latin typeface="Arial"/>
              </a:rPr>
              <a:t>CLIL è un meto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3000" spc="-1" strike="noStrike">
                <a:solidFill>
                  <a:srgbClr val="000000"/>
                </a:solidFill>
                <a:latin typeface="Arial"/>
              </a:rPr>
              <a:t>No. E’ un progetto; dunque va pensato in tutta la sua dimensione ope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3000" spc="-1" strike="noStrike">
                <a:solidFill>
                  <a:srgbClr val="000000"/>
                </a:solidFill>
                <a:latin typeface="Arial"/>
              </a:rPr>
              <a:t>Tuttavia 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task-based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3000" spc="-1" strike="noStrike">
                <a:solidFill>
                  <a:srgbClr val="000000"/>
                </a:solidFill>
                <a:latin typeface="Arial"/>
              </a:rPr>
              <a:t>3° Plusvalore CLIL: sapere procedur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E9A-0785-453B-9C85-40DFE81321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e di lavor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76720" y="2168640"/>
            <a:ext cx="2306520" cy="11030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216864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226200" y="1887480"/>
            <a:ext cx="2233440" cy="1500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4000" y="453960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ezione frontal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lavoro a gruppi                sessione ple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358-9D99-4D5E-9B2B-28EBF9A26B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zione e tipologie di tas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alk show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sperime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equenze logico-cronologi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chematizza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eduzioni da immagi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intetizzazioni dei concet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Ricostruzioni temporali-causali-mod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55280" y="1557000"/>
            <a:ext cx="7931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700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71640" y="1557360"/>
          <a:ext cx="3313080" cy="431964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43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CH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for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CH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cont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CH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zion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CH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CH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involgimento cognitivo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CH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ere procedura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ci Garotti 0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D1E-6E50-4804-A1AF-B81D170877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4:04:32Z</dcterms:created>
  <dc:creator>riccigarotti</dc:creator>
  <dc:description/>
  <dc:language>en-US</dc:language>
  <cp:lastModifiedBy>liceo copernico</cp:lastModifiedBy>
  <dcterms:modified xsi:type="dcterms:W3CDTF">2008-03-26T17:18:48Z</dcterms:modified>
  <cp:revision>105</cp:revision>
  <dc:subject/>
  <dc:title>5 CLIL research questions </dc:title>
</cp:coreProperties>
</file>