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876-B22E-45DA-BB71-43648C22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30A-9F56-4ABA-8805-EB27F56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E63-C880-4637-8C9D-61C02C06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828-2BC3-4024-8A4A-6A4BDB95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E8B-9371-4AD3-B773-54D257C9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F26A-994E-4529-9C37-8E864547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08B6-3BEC-40B2-A398-295E0A9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26F0-3EA0-4598-A9AC-9F39994B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399-7A12-4757-8142-29857817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7D82-531E-480D-8BB4-D1DC22B0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359-87FF-464F-8077-701C93E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B6D-BB24-4AE1-9255-9D7FBA75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DC6-A351-47C8-8FDE-0793812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5FE-A41A-4C47-8BB4-3557549D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B228-5BC3-4521-A55B-87E067E8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863-1450-4CCB-A3A7-11C98192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AA66-86FB-4030-91E9-06E11A00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5EB90-D55A-4ECA-BA5B-D5A4C5DB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84F1A-CD3D-44FD-8395-D5A6D912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5D6E6-D3F4-432B-B40C-710763A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6CF0C-FC7C-4B51-9D4C-B3B86EE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44BDC-68BD-451E-9E83-2DD1D18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B3B-AEEB-4017-90DB-ABF586FD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75A09-16E5-4C60-AD8F-074EF30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EB186-BBF6-4F97-8D4C-4DD99D1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D0282-FB1D-4CDE-B433-9BED10E2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42BE7-7704-43E0-9023-FDC6249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864DA-F755-49B5-84E2-A745447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0ACFD-DBB9-4740-97EA-7538A0C0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7D303-8A00-466C-945B-35BCD26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347C-39B8-499A-A477-5241D566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FCDF-C4AE-4D7E-B348-09C8141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57CE-AFFC-42E7-866B-19DB4082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37B-1940-4158-BF4D-7147DD3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2E35-A26E-4884-9EF2-CBC52D8C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E3E6-0B1A-4178-9F19-8C04880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58F5-A40D-4B7D-BB82-DC79DDA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CDB9-8EEC-42EA-B661-5619C2A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0BCC-02F9-4E29-87E1-524BF61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227C-1864-4067-B5E7-D336F4E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E166-517E-43D3-B588-B14182C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92B3-7FF0-4A1E-B55C-1654FE84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001AC-F721-4D84-80BF-6F35EF3A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2D5BB-E382-44C8-B6D7-EC0B61A1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180-0ACF-45C0-9CFF-83C44086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3DD77-D36A-4439-88F9-5B6651D3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E0C03-B915-46B1-A9D8-CEB8FAA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1B8D7-0C0C-4CE2-AAF3-B9AC0BB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A0688-4999-4364-BA28-ECB3BFC8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5D5F7-877D-4818-A480-633989E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55644-566F-47DE-BB98-956A136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C60FA-241E-44BD-8B7F-2AB6785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D178A-1CAE-4A34-BCD9-ED48BF7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8B4B7-8450-4EE2-8B3F-DE9A4D1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96651-B7F1-48EF-BBDB-F1145235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10F-1F35-457F-8BAF-F68F03B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CCB31-D31F-44F8-8C75-A411A433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665C0-0AB2-4FF2-AE31-8FC6DEBA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70AB7-B584-4E6B-8D37-4BCD462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DD869-0D87-42C1-827A-B4A9E63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C88E4-7D0F-4EC3-B909-72DCB063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6677F-8594-4C7E-A96D-8A6EAFF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EDE44-6065-43AC-8BD4-E8C6178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4C2DA-8DD6-486F-AFF0-BFA4AE4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1C977-CA7A-4E20-8021-1AB3528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D62B1-911B-41F2-ABFE-09C5CDF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A5B-8557-4675-A842-9C6FBAE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99FB9-EA7B-4D79-A62F-F324FBA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4A34A-A1E6-4760-BFC2-D82DD8F6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E48E5-3A6E-4E2E-ADB7-087946AD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EB771-4540-4982-8FD0-0ADFBE0E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B0521-A25B-4AB5-932E-B185971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6B0BD-E959-47CB-93E1-7527E84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0AA9C-45DD-43C2-98B7-FE173D8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EFBF7-099E-457B-97D4-A9692FB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C5CF8-D770-458A-B494-5643845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AF25C-B812-454F-AA93-B77CA91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51D-5F51-4F0A-BEDF-F44AFA8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E40AD-E583-48A7-A336-FDB55D3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97FB1-9A19-4CCE-BDFC-EC31E3A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689E2-4B2E-44F7-B9DC-A6641A2A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D3762-54A7-472C-B561-5A4B3043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8808E-882A-4AF5-99F5-8126083D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9CA-EF00-4E7C-968F-B22732A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9E9-19E5-4D8B-A75C-1D3A3E4DE4B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56A-2B81-47F7-9CDB-9136EBC1203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4B85-2486-4BCA-A584-2456B1B6A5C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55E-7E06-4E1C-AC71-09561289B50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64E-C78A-41C7-8AE7-0AAAE4C057D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82E-2E8C-45B5-92CE-5602D2779F0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E3D-F655-417B-A487-D7A58EA651E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PROGETTARE UN PERCORSO CLI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75f6d"/>
                </a:solidFill>
                <a:latin typeface="Century Schoolbook"/>
              </a:rPr>
              <a:t>Diana Saccard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I DOCENTI: ATTORI CHIA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isponibilit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mpetenza disciplinare e lingui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rogettaz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Gruppo di progetto: chi, con quali ruol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GLI ALUNNI: ATTORI CHIA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e classe e perch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n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Obbligatorio o facolta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mpetenza linguistica nella 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Numero di ore che è possibile dedic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LA PROGETTAZI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Materia o materi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ntera o parti di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istribuzione delle ore compless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nsegnamento separato o team teaching? Sempre o formula mis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ensare ad una dimensione di progettazione vertic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COMPETENZE LINGUISTICH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cuola primaria: A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cuola secondaria di primo grado: A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mpetenze parzial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mpetenze differenzi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SCUOLA INFANZIA E PRIMA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ttività in LS, senza riferimento a contenuti disciplinari mirando a sviluppare gli obiettivi contenuti nelle Indicazioni fino ai primi due anni di scuola prima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SCUOLA PRIMA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al terzo anno in poi: qualche input disciplin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cel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Sviluppo verticale o solo orizzontale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del modello operativ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ROGETTARE UN MODUL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Disciplina o area curricula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Argomen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Obiettivi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di contenuto (conoscenze, competenz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di lingua con relative abilità coinvol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Less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ognitiv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Peso da dare alla 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Durata temporal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Valutazione (processo e prodott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SCELTE METODOLOGICH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e lingua usa il doce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i materiali usa e co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i esercizi e quali attività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e lingua usa l’alunn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DIMENSIONE CULTUR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rospet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INSEGNAMENTO COLLABORATIV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n prese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Non in prese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n chi collaborare quando l’insegnante è unic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75f6d"/>
                </a:solidFill>
                <a:latin typeface="Century Schoolbook"/>
              </a:rPr>
              <a:t>PERCHE’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Motivazioni legate al contesto este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Geografich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Economich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Linguistich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Culturali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Indicazioni ministerial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-----------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Motivazioni legate al contesto inte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Pof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Language policy della scuol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--------------------------------------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OF “è il documento fondamentale costitutivo dell’identità culturale e progettuale delle istituzioni scolastiche ed esplicita la progettazione curriculare, extracurriculare, educativa ed organizzativa che le singole scuole adottano nell’ambito della propria autonomi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Esplicita scelte culturali, organizzative e operativ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Fissa gli obiettivi in coerenza con quelli naziona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Tiene conto delle esigenze culturali, sociali ed economiche della realtà loc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LANGUAGE POLICY DELLA SCUO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 whole-school language policy enables your school to have a shared philosophy on all aspects of language education. This process would normally involve an exercise in problem identification, fact gathering, decision making, implementation and evalu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Policy Language across the Curriculum, Corson 1990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ERCHÈ  UNA LANGUAGE POLICY DELLA SCUO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nsapevolezza sul significato di lingua ed educazione lingui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dentificazione dei bisogni degli apprendenti e degli insegnanti e suggerimenti su come soddisfar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reazione di un clima del “lavorare assiem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ERCHÈ  UNA LANGUAGE POLICY DELLA SCUO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Bisogni, finalità e valori degli stakehol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efinire obiettivi realistici che siano specifici e attuabi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pecificare chi è responsabile per che cosa e quando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Formulare un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CLIL NELLA SCUO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È inserito nella language polic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n quale modo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Qual è il rapporto tra CLIL e piano di studi della scuola?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Aspetto organizzativo della scuol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Aspetto di integrazione nella progettazione…dell’insegnante, del team, del dipartimento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Qual è il rapporto tra CLIL ed educazione linguistica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CLIL = SEPARAZIONE O INTEGRAZIONE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CONTESTO INTER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involgimento organi collegia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stituzione di una re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8:51:20Z</dcterms:created>
  <dc:creator>diana</dc:creator>
  <dc:description/>
  <dc:language>en-US</dc:language>
  <cp:lastModifiedBy>diana</cp:lastModifiedBy>
  <dcterms:modified xsi:type="dcterms:W3CDTF">2008-04-17T20:14:26Z</dcterms:modified>
  <cp:revision>55</cp:revision>
  <dc:subject/>
  <dc:title>PROGETTARE UN PERCORSO CLIL</dc:title>
</cp:coreProperties>
</file>