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dt" idx="7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ftr" idx="7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 type="sldNum" idx="7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35B5E2-3CFD-4E77-A1F7-A271978449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51247A-42A0-4107-AEEE-465A47AF8B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263647-D3C3-44AD-BB3E-47AB4BF86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FC75A0F-FBF8-41DF-8EA2-718A907958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tt.ssa Ornella 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AE30F4-E162-436C-B7C3-C9380AEC6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7F44AE-5E46-49DC-8B77-094D38858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C63027-A0BF-4783-81AD-6D22A1018F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2259B-4F78-42EF-B46D-7E6D6598D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F7359B-4BF4-49AF-A62B-BB32BA19F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2E39F9-511D-4DFD-86C3-FCFEA5A0D1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7CBE04-DDCC-4E14-AD68-A359C5451C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8C0932-BB4C-4F0D-9D35-E596538C5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C7D5C3-450E-41CF-B5C6-6DAAC0504A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F51B7E-80BA-4B7C-89A2-90F2E89AF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DF8826-D056-4E26-B5C7-BFAEACDF0D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6B53BA-3E15-4981-A666-58F9DFD290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E71-B436-4C99-83D6-CAE254C7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707-75B6-4BC4-904E-5D31DC90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4E447-99B2-4AC8-B789-C8604F7D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48FB3-76EF-47D6-B6E9-21AC8FE7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32284-5705-4E79-A8C4-6532B96B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DA79D-5D6E-43AD-8375-02C9000B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51A4A-522C-48D0-B9D6-88E97EB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C303F-42A8-4BD3-B0D2-C216EA80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167EC-57CC-402A-95AF-F8BF73DFF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A3268-F355-49DE-BFF1-5578AE2A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41046-3986-4D5A-8A65-B6D3B28B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9BB84F-3713-4607-BEAB-CA2AA3452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EFAE-E195-44F8-BCAC-1763331B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7C8E1-6D1F-46C5-A245-D9967EF3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4FC0DD-C871-4056-B814-B8B967C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B61311-13F3-4A56-887B-DE7D79F1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49D02-F6F2-497B-9EBF-79CB1D0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73386-2B3C-4E23-B87D-4DA64F70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72411-D9FA-49FC-A9E8-76D6EAA4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F8F75-B6C6-4076-B17A-3973834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04E72-6BE6-4A24-B71A-F9496599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D97B2-72DF-497A-96F5-269FA00B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3BC61-CB7F-491F-B061-9F81730ED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215-AE68-49F0-AAC9-B742B756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58AD2-2CC2-4383-B195-38B560B7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0BC7F-F781-4C56-9B9E-0AC0D868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07185-A2B5-4F49-9DCD-4C9A28C2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F0231-7412-428A-ADA3-61CF2E56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E4870-D5C6-4E32-87A7-2187FC7B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74EE-9FC2-4054-8791-643C380E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200B5-0C1A-45B9-90C3-BA653BD9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7A1F8-C39F-4785-B03D-07125539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2C1C7-0636-44B5-8D12-53EED97E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8807B-D63F-4940-8F0D-BBD2641C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B36D-0282-4954-8C51-4F3F0BF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1B26ED-D3C5-4888-AEF2-75C1C3F2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45755C-58E8-4DAA-8DF3-0DD1F126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E3089-9E87-414C-9A8B-6C73CDF6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47F40-657C-472D-93B9-FB86E924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22FAF-3F41-4B58-AEC3-454EF29E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5792-C59B-40A9-BC50-7834F046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BCC7B-20E9-435D-B79D-3A7BE32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BC6ED-EFE1-4F01-8599-1B200FBF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D824F-2177-40ED-B2A1-3D4B3F73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0FF15D-289C-485D-B51A-B1C946A5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A19F-D113-4654-9D69-E5078961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D1308-2433-4042-9D3B-D33D52A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C9A46-B3E8-4ACC-948E-81C7A632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04856-F37E-4E09-8861-4A1ABC41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192B0-5F48-47B0-8BDE-2B13E7BD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002B2-914C-4CD2-846E-E1D26E90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06BDD5-3E34-44F5-BF4E-BAAD1913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FDBB1C-5502-4F67-94CB-6CEC725C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940DA-617E-4BD8-BDC0-75CADEE2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D7B35-5D99-4557-955B-7982B9D6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456F2D-F39F-4704-AA30-AD4BCF75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4FF6-2E75-41E8-AFA2-BFB2AFC7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A9446E-FB7A-43E7-A2F2-A1846941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742A8-D7FE-42C7-B008-EAA48177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513D2-2704-4616-96B7-99B17D9C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451A44-9E7A-43BD-B2B6-8F0AE03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A4B4B-AC25-401E-BBD2-E39BA98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98D43-D0AA-416D-A2FB-8F9A4B56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9FCA9-279E-45F3-9721-9206D01CD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50546-E1D3-4B2A-AFD8-E6575B30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020647-1143-43C0-B3DF-8C3C7608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2F057-90EE-4D9F-A658-066FC92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2866-8F6A-48BD-AA4A-43B0BFB5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4157-1126-4257-A622-7AA1C336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D4DE3F-64F4-4503-B262-22BCF025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2B123-C92F-4C9B-BF66-31F8A0B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DC44F6-B27F-4E5A-AB4D-C089A25F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AFF31B-AFFF-496B-85B1-3C564172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61E13-A9F4-415F-8F24-035DD6E1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045F7-F15D-4292-A11C-79F9CC09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75807-6DAF-49FB-A3C6-86C8E1CD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C0E45-697A-4AAD-8C07-6D21C5B0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5BEE13-2D50-4E79-94F4-571663D9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D840-9F48-4C87-B684-2C0DA518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968716-7FC1-4465-8CB5-2E415118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4B4BE0-BF81-4948-A2F6-0A063CF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0CD357-1981-4090-B1ED-3E60940C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DD725-B254-4B9C-AE3F-F847F4AE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D943E3-DAC8-459F-91F2-86C377BB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6D7DD-5CD0-42B6-AF07-D6A43A4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7D42A9-1F20-4CA5-98CE-23747525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74281D-5A2E-4F7C-9B14-EF344725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E10CBE-B6B7-475D-A00B-9600AA1E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C09EFB-AE4A-410A-8F69-2510465E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8C51-3AF9-4A17-BA53-086A56D3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84ADC-FA31-4C9D-B1B6-36086678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4B65B7-13C8-404B-B2F5-D1A4A4196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F27ED8-0755-4063-8981-2C81342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77BFA-FFBC-4922-B645-A234D4DF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EADE3B-6DCF-49FC-8F9C-AB37940C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8EC5EB-5694-4CE0-B571-44DE440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B858D6-99DE-4475-8D7B-0629BCAB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C59CC-2F52-4D04-B020-575590C4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249FA-93E5-4F33-9F6C-CC861185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1459B-3DAE-4117-ACF9-2C437DA8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1744-0A16-4E2A-A199-97D2D7E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2EEF3-C548-48E8-BCF0-FE62436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CC7ED-F4E3-4006-985B-CBAE83A6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5D0E5-1245-451B-8DA0-57780E81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886462-B2AA-4A3A-BDB8-CBD3C2CF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242475-A433-4518-8E52-2CBD348F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576BD-B175-4A58-B3D3-A7B88023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696F8-187A-4587-8517-8F1A61CE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FFD01-1B2B-4F27-8061-642E1624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0853A-3A04-48F4-B0B2-168DA96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A1DE62-6D4B-41C3-8618-92BDA81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DEC-4A20-4B82-87FA-DF5468A1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117-4611-4DF6-9103-5E9AD29A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BA330-8EE5-4425-B716-DFB71F46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2EFD80-F1AE-45E5-BBCF-1A33DB9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905B7E-504F-4485-A49B-014819E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45D3C-43CC-436E-9FC1-F5BDE6CD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21840D-A7FA-4501-B211-2523CC36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C1B23D-AD58-4202-8B78-7D3F3BAB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73AB08-7C02-4042-BE6C-FB6B9665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C794E-C6C4-4F74-99C9-28D5C07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D40FC-8D0D-4BDB-A94F-8D464C2B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20B207-BCC1-47A2-ADC2-F3CFCE8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E5D7-FD7D-434A-B94B-65919D48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3D9D6A-C2B8-40B2-9025-B53B8D50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19CAD-836B-453C-BAF5-8187B4AE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1FF46-0C6B-4C65-862D-D058DA41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C49F60-CE8C-42B7-ADBB-5AE6B6FF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637B3E-5A52-4F18-9B55-9B22898D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6CFFE9-FD40-4600-A811-8308B4CF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6FC65-7BC6-4E43-91A3-1A9189CE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025A8-DCEF-4867-A27A-CA9CB86E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0B58B9-3FF7-413D-8C76-C275BAB7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680556-6E5F-4EF6-8216-603B7262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45C6-3AEF-4BD6-8320-DED919E7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B20061-1862-423D-8165-F6D4C603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E9FF9-6E9C-4151-B925-A62B844F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BFABB3-6A84-4883-959E-9C698B2F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C561D-29F9-48D3-BE68-BF5AF57B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D574F-2172-41BE-9A28-08DDC52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8D4A60-F85B-42FD-A264-4D8E1BE2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03C42-9344-4ADB-9EFF-338A85D8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32DCA6-730C-4032-BCC5-CC1AB193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3F69B-95AF-4B67-B9A1-D05FC1983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D5C1DF-3B07-4FF3-9BAE-7317EFA3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EBF8-9F62-4182-86BC-3149BE0E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FEBB35-080A-42CF-B660-B73F1C55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321EF-92FA-4658-98DF-9DCC05AD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2EFD7-B9C2-41F7-8816-24B220D9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27237A-7D29-4352-B5EC-5BD6D59E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87785-2F80-4133-8F39-A187457D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78BAB0-FDD7-406D-A9D0-57A0AA17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50E0C-832E-4895-BD6F-C2748CE8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3FF9E-94E7-47D9-B087-6292873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386987-FF84-4396-9961-3072332F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E98DCC-F07B-4867-A5E7-7C37BC05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1FCB-504F-4187-BA7E-FA34B9B56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FE5752-B2EE-42F3-BEC7-90A11FE8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0D15F-DB85-41F8-9ED3-D9C05431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42C91C-85E3-4963-97FE-A97067A3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AA43FD-DCEB-4AEC-A9CA-D243F379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0B121-C380-473A-BE87-421D66CB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DC262-8783-4F09-971D-D5215BEA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5551F3-DABE-429A-BEAB-7E30DA6A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595753-C745-445E-9AFF-318F631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7DC4D5-BED6-4C38-9953-A7E36FAF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AD6B6-E0FB-4D29-8D9C-F74E9CED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3979-454F-47B0-BF33-A24802A0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69CAF-2DD1-433E-A3A6-3159C05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1F2CB8-13C1-410F-9726-5721334F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22789-B2E4-4FBA-AC04-087E1481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0EAD3B-6011-4A6C-99EE-2308B897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B6EE6F-515A-443F-830E-D51F3F0D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E2649-82BA-498D-B82D-339EDCEF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147F88-AA28-4926-A0CA-9A4ADC17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9A5DBE-7529-4F20-AEB6-8483683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7277AE-5DD9-49E2-A82A-49E69286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360DB9-D955-43A8-BD48-688A948A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DCF48-28F9-47EE-94BC-5CA1C4BF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C394A0-513D-4B39-91F4-12191497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680A2C-EC6B-4A1D-8EA4-2162D7A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FD91E0-4B0A-4EE1-9F3B-F5695EE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3353F4-BB00-4511-AA48-81E1A99A8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CADBF2-EE34-4E3A-86E3-8AEDF621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7C0121-35D0-4D53-A317-7FE2ECB9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FD7F04-90B2-405E-9457-BB232D4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EF58B-1B70-48D7-98B6-EED8A232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D89C94-DCBF-458D-A325-614A5650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2BCBE0-6CE6-492F-B8CC-58371B2D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51701-8BA6-4DA4-A496-E727520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CB6FBC-B3DF-44DC-9030-8EFCAAB5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3EAE9E-0F48-4EE8-8F5A-C944814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578365-089C-47FB-9DF4-3329E4EC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2FED5-B490-4859-81F6-764F81AF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C40661-29B2-4425-B063-4616DCB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27465-2AE4-4447-9CF1-86AD4955C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42368E-8F92-4AE9-B2EA-F9360D019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D3F8D6-48D3-4488-A25F-443CCBF8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309815-120D-4E6A-B8B8-7EEA36A3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823252-B3AF-47E4-9868-E8F09F94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D7DEC-0035-46B0-9028-7FEE8EF9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2010B3-CB2C-4ED3-85CE-02DA9E50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93004F-C7B1-4EDD-B6FE-59A77060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E0921A-1F76-4258-BF05-271BEB6F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D08B54-9800-4A96-B414-8CEC4F1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29454E-45E6-43EE-B9EF-AC9F085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673B18-C71E-4E7A-BAE7-34EECBF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2381B-63E5-4A39-892B-FE0401794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2A536D-2D67-4456-979A-2EC06A19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7527C-1A92-4CE9-9D97-6B9BFB078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38FD88-EA81-49EB-ADF3-52C4B42C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5DD4-3602-493E-980C-BC3E0D9C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376939-072B-4182-80F7-F70F58E6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CE16BA2-D0A4-4181-B8DC-31D3D4C5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50FB66-AE46-4889-9297-BF514F99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39EE2C-EFCD-4FCC-97CC-1E7F3225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E41EE3-526D-4D07-B251-67E9F3E5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D2D07-8BB2-4D6C-80B2-999513FC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DBD65B-6DFF-43EA-85EF-B713D3A9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D2183D-16D2-4369-A951-E6CE9AFD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8C983E-69E1-4EC3-9342-DFA29426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DE2716-1662-47F4-939D-A2131C38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CC5-65B5-415A-A91F-9ABE181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57DB1-F17B-464B-A232-E694077A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DCD8C0-3DEB-4DE5-BA69-F33239BD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C038-B941-4529-BE26-105342A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FB6F-545A-40F3-97E4-39E291EC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D0CE1-3D45-4BAF-9484-66C025D5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8115-41AC-4DBF-A5F8-89684257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DE3B-5B0C-4EF9-A802-96A806AF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BE998-A1C0-44E8-B228-7986D9C0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F6830-5DA7-4068-81C4-DF85247C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EEBA-0FC1-462E-8B08-4DD0A842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F53D9-70A5-4546-9C02-5728C9EF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3FC1-229B-4776-8253-5008CD34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649A3-57E2-4238-91ED-C35844EA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C3C4B-73D4-4D2B-977B-0CA3A20C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6BD07-1C05-4202-A404-74A7DE6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09A25-8CE7-4570-8F29-FFCA37C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9EA43-2761-4D73-9B02-4A05922A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9D36-0B87-4A43-B76C-BF4FD60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114C-C08F-4CB8-A7C4-88BAF41F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5DE8-8CEF-4B65-86C6-03E4EE1A9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36492-00EB-4DB9-A67A-02B569D8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3E22-3A0B-48F4-ADB7-D0935046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B06E-BBE4-4385-8340-6AE67358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19359-DC8E-4274-A0C0-BF475997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22E9A-85B8-46A3-930E-4CE89F774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F1540-55AF-4DBD-8D2F-17F431CE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7581-99EA-402E-A797-F62FEE8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7F7D-BAE1-44EF-8B05-13DBE271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0CCC3-C6D5-437F-873C-30810408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ECFD7-B172-443B-873E-D7FEAB9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22CA-890D-4B77-8526-64A0EC21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09312-B9CF-4087-B486-237FEA74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80C86-1FB6-43B1-A7AD-A86268BF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267-30B0-455E-B800-034E3A41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9BAC8-F57B-44B0-AF95-EB19E5E2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F8FFB-3638-4980-8369-7FCA37E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7B80F-D504-4754-BB05-D30ACB32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0300-49A2-4BA6-B954-0AF5C663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1776-B476-4C9D-B17C-5FC4BA2F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2DD4-B0A7-490C-A3A5-895BE641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17A0E-E990-4638-8FC6-3A7E82F1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A8D43-E080-4549-9AAD-9C435CB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39CDA-0684-4620-B979-4EC7B84F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FF07D-1411-4B0B-AA83-099E7C6A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075-E656-48C4-93D7-24D62159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D0909-7EF5-46F6-81DE-6A6E12BF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BC75-4639-4348-89DF-91902FD7C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31BC0-2255-43A7-A349-87E5C634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9ACBD-13DF-4164-A699-03BA5AEE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230EC-FEF7-4DAC-8430-6DA29825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5B2D-866F-4055-ADBF-4D537F81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46E49-4FD7-4E88-AA2F-7503B370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DF4B-39EA-4E72-9359-28F9A7EE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829E6-FA5B-42B3-8A73-4F07CDE91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6D09C-0192-45A6-95DC-DA2EE8E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E5F-CF49-414A-9F59-E05BFE69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1E05C-0C3C-47EB-BAAD-44F8EC63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5B9EE-E283-4A4F-BFF4-3330824E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96C58-E551-46AB-A2B8-247A67ECF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4479E2-E8E0-4CBE-9BCB-B2814BB5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0E8F0-1F12-4814-81F0-F5CBC9688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19840-08C0-424E-9379-B967E143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333C-352A-45A4-A448-75966AA9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A7F87-16AA-4991-9999-00A99AD0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F0713-4C17-4DE8-99D9-9ED427A3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E87AD-B420-498B-B6E3-CB9B23BF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929-A90F-4319-846C-40049D69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-203040"/>
            <a:ext cx="8228160" cy="97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5F59F-EEE2-4695-9874-67558B2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3A755-C941-45E1-AC92-D42DB2B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062EF-B775-4029-AA24-A967BF7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F9C54-EAD6-4366-8D9E-A0DF34EB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AD853-93F0-42C0-A49D-201D6011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86F72-6661-42C9-AA83-5287B3B0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8DC6-A5A4-405F-9680-BE180AFBF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D7BDA-1FF1-4ED5-B074-AB65925B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7C2FC-500A-440E-98AD-901045E3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C8A2D-20F5-4985-BF6E-3F848238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E1B55E-7396-4E0D-95DA-BBAA068A407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362FB0-A09D-434F-81C4-0B0EF5EC94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887E6E-33B4-4D05-A0B4-AA6B034D040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2A7B6E-AE6F-4F03-858C-2D0B4C911AD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1717A4F-8C1C-4552-B4FE-B675B885640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B07743-E5E1-4F4F-9FC3-B88FA384CA8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3CE2EF-2CCB-4AEA-9747-4450DEB2E84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4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4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A00993-B947-44F8-A495-BA8C69FA24C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4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5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2EC2FD3-1F96-477F-886C-91FAB726BC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5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5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860216-13E6-4E98-B572-762F5575E69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B6A854-8CCC-4A49-8EAA-CE0C6364D1C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prstGeom prst="pie">
              <a:avLst/>
            </a:pr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507C04-E00D-4A5D-9678-5F4DE578666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dt" idx="58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ftr" idx="59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B56857-512E-4B79-AE3E-EA0271D32C2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6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6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CE1270-9708-40C8-9D98-72C8412234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131C0A-9EEE-4B61-BA25-D970E296389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7B2ABD-F672-496B-B7AD-818D29DEB9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7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7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DB4392-B186-4632-B43C-1BE724695A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164412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7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7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2A39C49-11E9-47B4-9E50-151DEA16271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F00C4C-D28A-4DFA-B103-66518AB3366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AEEB7C-280E-413F-8941-964B1F03EF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457D4DE-436B-4370-BC51-D5941CF79C4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CAEA0D9-713E-4D7E-93B0-924056D74A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90210E-B62D-438F-B7D6-27C7EABFF1C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EF61B-2FCA-42E3-9187-986EEA0842F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5210AA1-A802-4E49-B56A-7A9D2A7A6B4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-203040"/>
            <a:ext cx="8228160" cy="21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 FIGURA PROFESSIONALE DE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CENTE DI SOSTEG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3" name="CasellaDiTesto 3"/>
          <p:cNvSpPr/>
          <p:nvPr/>
        </p:nvSpPr>
        <p:spPr>
          <a:xfrm>
            <a:off x="1500120" y="5786280"/>
            <a:ext cx="607212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ORDERLINE  - Il disabile intellettivo borderline e lie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Udine, 6 maggio 2009  - S. Sec. di primo grado “via Petrarca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eec94"/>
                </a:solidFill>
                <a:latin typeface="Arial"/>
              </a:rPr>
              <a:t>Momenti significativi dell’iter finalizzato alla piena integrazione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finizione di una Diagnosi Fun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disposizione di un Profilo Dinamico Fun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mulazione di un Piano Educativo Individualizz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erifica degli interventi e aggiornamento della documen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grazione di tutte le competenze e professiona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iderazione del progetto di vita (muoversi in una prospettiva dinamic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t. 12, L. 104/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AutoShape 1"/>
          <p:cNvSpPr/>
          <p:nvPr/>
        </p:nvSpPr>
        <p:spPr>
          <a:xfrm>
            <a:off x="395280" y="1484280"/>
            <a:ext cx="1368360" cy="50472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AutoShape 2"/>
          <p:cNvSpPr/>
          <p:nvPr/>
        </p:nvSpPr>
        <p:spPr>
          <a:xfrm>
            <a:off x="826920" y="2924280"/>
            <a:ext cx="1513080" cy="50472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Text Box 3"/>
          <p:cNvSpPr/>
          <p:nvPr/>
        </p:nvSpPr>
        <p:spPr>
          <a:xfrm>
            <a:off x="1763640" y="1197000"/>
            <a:ext cx="77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 si tratta di solo inserimento o mera assimilazi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un contesto educativo, ma richiede adattam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 cambiamenti a tutta la scuo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Text Box 4"/>
          <p:cNvSpPr/>
          <p:nvPr/>
        </p:nvSpPr>
        <p:spPr>
          <a:xfrm flipV="1" rot="10800000">
            <a:off x="2484000" y="4075200"/>
            <a:ext cx="593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5"/>
          <p:cNvSpPr/>
          <p:nvPr/>
        </p:nvSpPr>
        <p:spPr>
          <a:xfrm>
            <a:off x="2411280" y="2781360"/>
            <a:ext cx="67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 profilano le competenze dell’insegnante su molteplici versanti (didattica di qualità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6"/>
          <p:cNvSpPr/>
          <p:nvPr/>
        </p:nvSpPr>
        <p:spPr>
          <a:xfrm>
            <a:off x="468360" y="6093000"/>
            <a:ext cx="828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7"/>
          <p:cNvSpPr/>
          <p:nvPr/>
        </p:nvSpPr>
        <p:spPr>
          <a:xfrm>
            <a:off x="1887480" y="4076640"/>
            <a:ext cx="69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 evidenzia la necessità di un’adeguata rete d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unicazione e relazione tra le diverse figure professiona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AutoShape 8"/>
          <p:cNvSpPr/>
          <p:nvPr/>
        </p:nvSpPr>
        <p:spPr>
          <a:xfrm>
            <a:off x="395280" y="4437000"/>
            <a:ext cx="1368360" cy="50472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Text Box 1"/>
          <p:cNvSpPr/>
          <p:nvPr/>
        </p:nvSpPr>
        <p:spPr>
          <a:xfrm>
            <a:off x="179280" y="692280"/>
            <a:ext cx="878544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 DIDATTICA E’ LA NORMALITA’ DELL’OPERARE FINALIZZATO AL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VILUPPO DI CAPACITA’ E COMPETENZE UTILI, NEL CONTESTO D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A RELAZIONE DI AIUTO PROFONDA E SIGNIFICATIVA CON CH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RENDE…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’ ANCHE PUNTARE A UN OBIETTIVO DI CRESCITA, AVERE A CU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O SVILUPPO DELL’ALUNNO, PROGRAMMARE, AGIRE E VALUTA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 PROPRIA AZIONE DIDATTICA E LE AZIONI DI CHI APPREN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”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D. Ianes, 2001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OMPITI DEL DOCENTE DI SOSTEG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eec94"/>
                </a:solidFill>
                <a:latin typeface="Arial"/>
              </a:rPr>
              <a:t>PROFILO DELL’INSEGNANTE DI SOSTEGNO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50560" y="620280"/>
            <a:ext cx="8893080" cy="68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rmazione orientata alla relazione e alla comun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lessibilità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di mediazione e di collabor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di osserv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di elaborare e realizzare percorsi individualizz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di verificare e valut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di autosservazione e autovalut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oscenze generali e specifiche ( patologie, strumenti di osservazione, DF, PDF, PEI, problematiche emotive e comportamentali, disturbi dell’apprendimento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oscenze strategiche (apprendimento cooperativo, organizzazione della situazione di apprendimento, semplificazione del testo, aiuti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pacità metodologiche (gestione dinamiche di classe, tecniche specifiche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teggiamento metacogn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-12852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La flessibilità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] è fondamentale in quanto persino le strategie e i progetti concepiti più attentamente possono non avere successo e richiedere una revisione. Bisogna prevenire possibili false partenze, impegnarsi ad assicurare un continuo processo di problem solving e di cambiamento secondo le necessità. E’ possibile che gli obiettivi iniziali per il coinvolgimento dell’alunno nella classe e il sostegno necessario per raggiungere gli obiettivi individualizzati debbano essere modificati dopo che gli alunni hanno iniziato a partecipare alle attività nelle classi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(Vandercook, York e Forest,198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-23652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6869160"/>
          </a:xfrm>
          <a:prstGeom prst="rect">
            <a:avLst/>
          </a:prstGeom>
          <a:noFill/>
          <a:ln w="9360">
            <a:solidFill>
              <a:srgbClr val="bb5f03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6" name="Oval 3"/>
          <p:cNvSpPr/>
          <p:nvPr/>
        </p:nvSpPr>
        <p:spPr>
          <a:xfrm>
            <a:off x="3708360" y="3213000"/>
            <a:ext cx="1943280" cy="107964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cente d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steg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Oval 4"/>
          <p:cNvSpPr/>
          <p:nvPr/>
        </p:nvSpPr>
        <p:spPr>
          <a:xfrm>
            <a:off x="1692360" y="765000"/>
            <a:ext cx="158436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unzione 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ession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Oval 5"/>
          <p:cNvSpPr/>
          <p:nvPr/>
        </p:nvSpPr>
        <p:spPr>
          <a:xfrm>
            <a:off x="1476360" y="4797360"/>
            <a:ext cx="1513080" cy="1008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top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Oval 6"/>
          <p:cNvSpPr/>
          <p:nvPr/>
        </p:nvSpPr>
        <p:spPr>
          <a:xfrm>
            <a:off x="3780000" y="5734080"/>
            <a:ext cx="1800000" cy="86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petti norma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Oval 7"/>
          <p:cNvSpPr/>
          <p:nvPr/>
        </p:nvSpPr>
        <p:spPr>
          <a:xfrm>
            <a:off x="4140360" y="1628640"/>
            <a:ext cx="1584000" cy="936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alt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Oval 8"/>
          <p:cNvSpPr/>
          <p:nvPr/>
        </p:nvSpPr>
        <p:spPr>
          <a:xfrm>
            <a:off x="7236000" y="2133720"/>
            <a:ext cx="1512720" cy="86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pologie 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cu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Oval 9"/>
          <p:cNvSpPr/>
          <p:nvPr/>
        </p:nvSpPr>
        <p:spPr>
          <a:xfrm>
            <a:off x="1908000" y="2637000"/>
            <a:ext cx="1441800" cy="792000"/>
          </a:xfrm>
          <a:prstGeom prst="ellipse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fi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Oval 10"/>
          <p:cNvSpPr/>
          <p:nvPr/>
        </p:nvSpPr>
        <p:spPr>
          <a:xfrm>
            <a:off x="0" y="3500280"/>
            <a:ext cx="1512720" cy="792360"/>
          </a:xfrm>
          <a:prstGeom prst="ellipse">
            <a:avLst/>
          </a:prstGeom>
          <a:solidFill>
            <a:srgbClr val="66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Oval 11"/>
          <p:cNvSpPr/>
          <p:nvPr/>
        </p:nvSpPr>
        <p:spPr>
          <a:xfrm>
            <a:off x="6804000" y="3860640"/>
            <a:ext cx="1800360" cy="86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pporto c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 famigl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12"/>
          <p:cNvSpPr/>
          <p:nvPr/>
        </p:nvSpPr>
        <p:spPr>
          <a:xfrm flipV="1">
            <a:off x="4643280" y="2563920"/>
            <a:ext cx="216000" cy="65088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13"/>
          <p:cNvSpPr/>
          <p:nvPr/>
        </p:nvSpPr>
        <p:spPr>
          <a:xfrm flipH="1" flipV="1">
            <a:off x="3057120" y="1555560"/>
            <a:ext cx="1228680" cy="290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14"/>
          <p:cNvSpPr/>
          <p:nvPr/>
        </p:nvSpPr>
        <p:spPr>
          <a:xfrm>
            <a:off x="5651640" y="3860640"/>
            <a:ext cx="115236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WordArt 15"/>
          <p:cNvSpPr txBox="1"/>
          <p:nvPr/>
        </p:nvSpPr>
        <p:spPr>
          <a:xfrm>
            <a:off x="2556000" y="2060640"/>
            <a:ext cx="217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1089" name="WordArt 16"/>
          <p:cNvSpPr txBox="1"/>
          <p:nvPr/>
        </p:nvSpPr>
        <p:spPr>
          <a:xfrm>
            <a:off x="1042920" y="256536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00"/>
                </a:solidFill>
                <a:latin typeface="Arial Black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9900"/>
              </a:solidFill>
              <a:latin typeface="Arial Black"/>
              <a:ea typeface="Arial Black"/>
            </a:endParaRPr>
          </a:p>
        </p:txBody>
      </p:sp>
      <p:sp>
        <p:nvSpPr>
          <p:cNvPr id="1090" name="Oval 17"/>
          <p:cNvSpPr/>
          <p:nvPr/>
        </p:nvSpPr>
        <p:spPr>
          <a:xfrm>
            <a:off x="4500720" y="333360"/>
            <a:ext cx="1726920" cy="71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spetti positi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Oval 18"/>
          <p:cNvSpPr/>
          <p:nvPr/>
        </p:nvSpPr>
        <p:spPr>
          <a:xfrm>
            <a:off x="6659640" y="620640"/>
            <a:ext cx="1582560" cy="863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lem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19"/>
          <p:cNvSpPr/>
          <p:nvPr/>
        </p:nvSpPr>
        <p:spPr>
          <a:xfrm flipV="1">
            <a:off x="5003640" y="1050840"/>
            <a:ext cx="289080" cy="57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20"/>
          <p:cNvSpPr/>
          <p:nvPr/>
        </p:nvSpPr>
        <p:spPr>
          <a:xfrm flipV="1">
            <a:off x="5724360" y="1411200"/>
            <a:ext cx="1368720" cy="57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21"/>
          <p:cNvSpPr/>
          <p:nvPr/>
        </p:nvSpPr>
        <p:spPr>
          <a:xfrm>
            <a:off x="5580000" y="2349360"/>
            <a:ext cx="165600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Line 22"/>
          <p:cNvSpPr/>
          <p:nvPr/>
        </p:nvSpPr>
        <p:spPr>
          <a:xfrm flipH="1">
            <a:off x="825120" y="1484280"/>
            <a:ext cx="1011240" cy="2016000"/>
          </a:xfrm>
          <a:prstGeom prst="line">
            <a:avLst/>
          </a:prstGeom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23"/>
          <p:cNvSpPr/>
          <p:nvPr/>
        </p:nvSpPr>
        <p:spPr>
          <a:xfrm>
            <a:off x="2484360" y="1700280"/>
            <a:ext cx="216000" cy="936720"/>
          </a:xfrm>
          <a:prstGeom prst="line">
            <a:avLst/>
          </a:prstGeom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24"/>
          <p:cNvSpPr/>
          <p:nvPr/>
        </p:nvSpPr>
        <p:spPr>
          <a:xfrm flipH="1">
            <a:off x="2698560" y="4221000"/>
            <a:ext cx="1298520" cy="6480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Line 25"/>
          <p:cNvSpPr/>
          <p:nvPr/>
        </p:nvSpPr>
        <p:spPr>
          <a:xfrm>
            <a:off x="2700360" y="5734080"/>
            <a:ext cx="1079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9" name="Oval 26" descr=""/>
          <p:cNvPicPr/>
          <p:nvPr/>
        </p:nvPicPr>
        <p:blipFill>
          <a:blip r:embed="rId1"/>
          <a:stretch/>
        </p:blipFill>
        <p:spPr>
          <a:xfrm>
            <a:off x="6291360" y="5505480"/>
            <a:ext cx="1895400" cy="816120"/>
          </a:xfrm>
          <a:prstGeom prst="rect">
            <a:avLst/>
          </a:prstGeom>
          <a:ln w="0">
            <a:noFill/>
          </a:ln>
        </p:spPr>
      </p:pic>
      <p:sp>
        <p:nvSpPr>
          <p:cNvPr id="1100" name="Line 27"/>
          <p:cNvSpPr/>
          <p:nvPr/>
        </p:nvSpPr>
        <p:spPr>
          <a:xfrm>
            <a:off x="5148360" y="4221000"/>
            <a:ext cx="165564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-27144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64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ufficienza dei corsi di specializzazione e delle qualità persona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cessità di formazione entro il percorso professionale: sviluppo di sapere, saper fare e saper ess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ruzione dell’identità profess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AutoShape 3"/>
          <p:cNvSpPr/>
          <p:nvPr/>
        </p:nvSpPr>
        <p:spPr>
          <a:xfrm>
            <a:off x="1187280" y="2060640"/>
            <a:ext cx="100836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461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eec94"/>
                </a:solidFill>
                <a:latin typeface="Arial"/>
              </a:rPr>
              <a:t>PUNTI DI FORZA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viluppo di curiosità verso i processi cognitivi ed emotivo-affettiv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assi dell’analisi dell’errore come elemento costrut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viluppo di competenze metodologiche raffi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udio delle più efficaci modalità comunic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dividuazione e strutturazione degli aiu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petto relaz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n dare nulla per scont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742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eec94"/>
                </a:solidFill>
                <a:latin typeface="Arial"/>
              </a:rPr>
              <a:t>PROBLEMI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82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fronte di una chiara normativa, esiste ampia variabilità nella visione e nell’utilizzo del docente di sosteg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ustrazioni: minore riconoscimento, orari di lavoro, tempi di apprendimento, collocazione fi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ssuto di impotenza, senso di isolamento, demotiv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vate attese (sovrainvestimento) delle famiglie degli alunni diversamente abili nei nostri confro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chio di un lavoro chiuso nel rapporto con l’alunno, senza ricadute sull’organizzazione della classe, della scuola e del gruppo di sosteg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Realizzazione di buone pratiche che non si tramutano in proposte   organizzati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utturazione del sostegno più come funzione che non come professione (intercambiabilità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cente di sostegno spesso figura di transizione verso il ruolo e non una stabile attività profession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eec94"/>
                </a:solidFill>
                <a:latin typeface="Arial"/>
              </a:rPr>
              <a:t>ALTA PRECARIETA’ E VARIABILITA’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751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vello di prestazione professionale nel complesso più bass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chio di una didattica più isola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schio di non integrazione delle competenze e professional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nza di continuità nei percorsi individualizzati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nza di un gruppo identificabile e dalla chiara identità (valido interlocuto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eazione di una figura profession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ruzione di un gruppo con cui condividere esperienze, competenze, dubbi, progetti   (identità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formazione di un gruppo dà un senso di appartenenza, rompe il senso di solitudine e aumenta la motivazio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AutoShape 4"/>
          <p:cNvSpPr/>
          <p:nvPr/>
        </p:nvSpPr>
        <p:spPr>
          <a:xfrm>
            <a:off x="539640" y="3573360"/>
            <a:ext cx="2087640" cy="432000"/>
          </a:xfrm>
          <a:prstGeom prst="rightArrow">
            <a:avLst>
              <a:gd name="adj1" fmla="val 50000"/>
              <a:gd name="adj2" fmla="val 12081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8" dur="2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6840" y="-379440"/>
            <a:ext cx="793116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docente precario che cambia di anno in anno sarà maggiormente portato (e collettivamente legittimato)  a occuparsi più dell’alunno che del resto dell’attivit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presenza stabile crea relazioni tra i doc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versi indicatori segnalano che laddove il docente di sostegno è maggiormente stabile nel tempo, più si è in presenza di una didattica meno isolante, più relazionale con il resto delle cla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it-IT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ponsabilità nella creazione di un profilo professionale che non può arrivare esclusivamente dall’al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pporto tra organizzazione istituzionale attuale e assunzione di responsabilità individuale e gruppale rispetto a un’innovazione, a un cambiamento, in un’ottica di alleanza e non di rot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1116000" y="549360"/>
            <a:ext cx="2374920" cy="431640"/>
          </a:xfrm>
          <a:custGeom>
            <a:avLst/>
            <a:gdLst>
              <a:gd name="textAreaLeft" fmla="*/ 417600 w 2374920"/>
              <a:gd name="textAreaRight" fmla="*/ 1715400 w 2374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00" hR="21600" stAng="10800000" swAng="5400000"/>
                <a:lnTo>
                  <a:pt x="11800" y="0"/>
                </a:lnTo>
                <a:arcTo wR="7600" hR="21600" stAng="-5400000" swAng="2691708"/>
                <a:lnTo>
                  <a:pt x="21165" y="14400"/>
                </a:lnTo>
                <a:lnTo>
                  <a:pt x="17300" y="21600"/>
                </a:lnTo>
                <a:lnTo>
                  <a:pt x="12565" y="14400"/>
                </a:lnTo>
                <a:lnTo>
                  <a:pt x="14765" y="14400"/>
                </a:lnTo>
                <a:arcTo wR="7600" hR="21600" stAng="-2708292" swAng="-2345122"/>
                <a:lnTo>
                  <a:pt x="9700" y="841"/>
                </a:lnTo>
                <a:arcTo wR="7600" hR="21600" stAng="-5746586" swAng="-5053414"/>
                <a:close/>
              </a:path>
              <a:path fill="darkenLess" w="21600" h="21600">
                <a:moveTo>
                  <a:pt x="0" y="21600"/>
                </a:moveTo>
                <a:arcTo wR="7600" hR="21600" stAng="10800000" swAng="5400000"/>
                <a:lnTo>
                  <a:pt x="7600" y="0"/>
                </a:lnTo>
                <a:arcTo wR="7600" hR="21600" stAng="-5400000" swAng="346586"/>
                <a:lnTo>
                  <a:pt x="9700" y="841"/>
                </a:lnTo>
                <a:arcTo wR="7600" hR="21600" stAng="-5746586" swAng="-5053414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24" dur="2000" fill="hold"/>
                                        <p:tgtEl>
                                          <p:spTgt spid="1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eec94"/>
                </a:solidFill>
                <a:latin typeface="Times New Roman"/>
              </a:rPr>
              <a:t>L’INTEGRAZIONE SCOLAS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’integrazione scolastica ha come obiettivo l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viluppo delle potenzialit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lla persona diversamente ab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ll’apprendim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lla comunic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lle relazi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lla socializza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ll’autono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egge quadro 104/1992 art. 12, comma 3 e art. 13 comma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</dc:creator>
  <dc:description/>
  <dc:language>en-US</dc:language>
  <cp:lastModifiedBy>Utente</cp:lastModifiedBy>
  <dcterms:modified xsi:type="dcterms:W3CDTF">2009-05-05T21:53:10Z</dcterms:modified>
  <cp:revision>9</cp:revision>
  <dc:subject/>
  <dc:title>Integrazione scolastica</dc:title>
</cp:coreProperties>
</file>