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216-1E4B-4116-826A-4B08054D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789-1E74-4A31-BE73-823BEF98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6ACA5-A29B-4497-99BC-48073764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BF400-D715-410E-8FF9-9736D6D8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98C148-4637-43C0-961F-8B9A2B89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846D8-81A3-481B-BDC5-5DD31387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9C4D0-136C-4F52-A636-4C2F079A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649A9-548C-49F6-8B37-7F1AA544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9EDF3-A044-4260-8A0E-833145E1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5A062-35BD-4ED4-8148-39ECD6A5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65F61-3E58-4DCE-9670-99B7CE05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5522DD-7713-43CF-9D00-93352D5CA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B4C-72C8-4A51-AAE5-E91FADA64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1C27C-D820-4523-9239-7965574E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123DF-7684-4AEA-84FE-C369D173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05B15-E74D-4027-8BC0-AC90C77B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2923F-C4C2-4B05-AEEB-3D717A0B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9E8EA-4B4B-43F6-BCAF-D67C840F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74E39-5C1C-494F-8683-F28C795F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FBC6B-DBFD-4399-9B52-87E16C52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7D5EB-9C59-4EA5-AE8C-E9D86067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C61A89-B840-4207-81F4-13825E89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8D6C3-3C86-44CE-9331-286BDB8E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1D61-384A-403B-994C-428F88BEB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42104-B020-491A-B8C5-9B7C9B767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F9895-1DA7-444F-95FC-5A12B5E43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8D1A3-9004-4A15-9663-FEC56B22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794E5-5488-425D-AE8D-B6A5A216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D45748-D81E-4CFB-A496-74FE9A93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F26C0-334C-47F7-8ABA-27406407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03B08D-C1C7-4A10-BAC5-76D9815A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8DB38-A34F-493C-9C4F-7384B15E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3CC20C-DF61-4260-BB6F-81A93739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4AD94-D553-4862-9800-84887B1A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7AF1-95FE-4571-8264-02F3047B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136DC9-4B98-4B01-A3A7-DF71AF05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7E01A-815F-4B26-A8DA-CDF47E14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22F60-54DA-4E51-AF39-B1F73BDD7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F1904-48AF-43C0-9AAC-3A4DB208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17855-837F-405A-B175-6EAB7E0B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F3603-BE7A-4A7B-991F-4A561699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114F6-EA45-4460-9F9A-62E784B4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34754-D415-47B2-B3BC-A54FE941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29945B-F204-4FF9-9B8F-7627ED6F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1BA23-82A3-4692-BF87-0AD952F0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81CF-35DF-4621-B21D-C16F22C3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ED557-F131-485E-ABEB-4493960D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329C8-160C-415E-8542-007BC957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4BFD4-89F6-46AE-855E-14A465F7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B7EE2-7534-47A2-A184-43C442FA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D1E3B-9C48-4844-AFFF-8028C6FC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DA19-BCBA-445A-AF0C-AF0F4693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C943-E5EB-4F85-9E35-173D41E6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581F-2E49-4D80-AFA3-19AF7AD6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07D1-3DDE-43D7-9D63-873B28378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B5F6-5D86-4898-9013-E51AEAC6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91FA-B660-4D31-91A7-36A5F63A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43E5-ACE1-4897-B261-B7756706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B847-773D-4C66-8C72-238E7379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804D-D77C-47EA-9A8F-5B77CF82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873A-B478-4555-8305-6772CE28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C094-FFCE-4033-8E7D-6D497FB5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A5A05-4EDB-41AE-94E3-EF0DA452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DE82D-B76D-4048-B04C-6EF05E2F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BF10F-BE42-49C1-AF47-84F7E8E7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63F28-C49A-4516-81DF-3F5E6CF4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03FD5-F66D-40A5-9D42-045CED96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022-CBAD-43CF-9EB9-6CABBD7E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B6D84-A80E-40EC-95EF-3C58377D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C7DF4-DAC7-4EF7-9967-54FDBF2D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824E-C95D-4E77-813F-A8A61E06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D34A8-BC9A-4B2F-B3B9-C9DCD7FA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07F5-ABE9-48DB-A449-008D6A99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77C2D-D2B0-4144-9CF8-88073BCE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1C021-4C06-4B0B-8211-62566626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F8715-79B0-4783-B8DC-9CB609DE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271D3-04FC-48EC-B496-330F5769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CAC93-0ED8-4DB3-BF14-42C1E405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75F-ECCA-44CB-87E8-C10BAA67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4AEF7-D6D4-4949-8CD8-AA23BF1B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93121-7517-4B61-A2B5-AF22CCD7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C3D67-4CB1-4B71-B3CC-83B28258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246E8-FE28-4823-97CA-DC6ED3E5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EB5AD-5230-46A8-B3DC-1C95B4CB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A8461-19E0-49FE-8972-90D932F9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D5E0A-5235-451B-ADBB-F16422F3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558B6-677A-4165-997F-D12FF662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A0329-025A-4AEB-AEC0-83AA4220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65214-C19D-4C84-8DFB-ED4C7A6F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5B5-803F-4087-921A-8846E572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6B39E-3319-4BBB-8776-7885843A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D9192-3E2B-4AF9-ABBC-EEC87D19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271E7-1B1B-426D-B57C-A8B995AD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E5CB5-7BE4-4459-815C-3DBF7334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6FE85-B9AA-4795-9E44-B7C8DADD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F0867-9DAA-4B8A-9BE7-A136D2FE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B129A-C450-4931-9E6A-9407C0D0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01739-C8D1-453C-934B-59251C3C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E2383-2B12-448C-AEED-B2E74755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80FBF-F79D-44B7-BC29-34F3991C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22C8-E49A-470C-86BD-4750CBE3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AFF3A-D59E-4861-9AA3-1ACDD773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80B0F-3C42-47C5-8C44-956D18230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2A22D-BC86-4632-9653-651465B6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67247-353F-47F1-8DC3-A84B2287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745A6-FEFC-431A-84CA-4A2E700A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CB71B-0164-4CC8-9050-ACB6D48E0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3638B-A1CF-4189-A200-6ACA55BF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18930-11D5-4D3B-9F89-533E7353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60011-3A0F-476E-A492-67B669F8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375F1-5EB3-402B-A6C5-C5D691A5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94D-6A2F-4F26-AC5E-3F37303A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646C7-E80C-4946-AD07-749B1198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44123-8C74-4562-87DA-A0D842C4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AD6B0-4FA1-4B3C-8498-53E0EDB3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96AB2-813E-4F9A-BF26-C02FD04F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E776E-5742-4AA0-BC6D-F5229B0B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950A0-9784-4A18-ABBF-2C31F94C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B48A0-9B0C-4214-8003-C51950E4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9938A-3816-43B3-8C31-5E731BD6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09E86-7A45-4B32-8A10-166077E3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0CFBC-0503-4A9D-85D8-D552AC7D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6E56-7B85-4E9B-9468-D9768FC7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3C3BF-76AC-43E4-A1C9-2DD687FD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CD545-EFA1-423B-AF36-40C56830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5DC6E-6B31-497C-8F56-50C931C2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B61FF-6DA3-452C-8265-9DD9F1D7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DAB31-1D3C-4885-B470-73D15882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59212-B48A-45CD-8123-599735DE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423C8-F242-47A1-8209-B245FD01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7A73F-9818-4BAB-8724-F7398565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D9D9F-4AD7-41E3-BD85-07959BD0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0D331-A37F-4B4A-A76D-5259AB03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C90B-E36B-4F4D-BA65-659DBE9B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BCDBE-D80C-42C9-ABAA-035FD51E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D8891-AFF8-4D1E-9ACF-03C45077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7080D-A365-4C2A-8D2A-CDC5DFF6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E3939-0F43-4847-A23E-529E9A74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8D837-2549-4DF3-9259-49BA9616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3A533-9CAA-4251-A760-0FE9AC8AB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0124C-E69B-4CFB-AA8C-E662CFD8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BC2C0-6D72-4A6C-BEE6-5AB2DD6DD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88A5A-AE07-4ECB-AD88-DDB08E67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A7FB7-63F4-4920-B6F2-EFB4E829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ad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AD7F-E940-4FF2-8A56-A81C524B7E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ad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CA21-AB6E-48FE-B0D3-BD6411ED60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ad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4218-6836-4F18-BC9F-300E898065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ad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5747-ED74-4C58-8FC6-3D1D4BBEA424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ad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1F79-2931-4532-BA92-C14D47B780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ad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5BBE-6F96-42F4-8B11-11095615915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ad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A1BF-4266-41E3-A49F-63371F61F1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ad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ADF8-8A85-44C0-9AE1-A54A7E7B73A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ad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6DFA-A7BD-4BB0-A6DC-0BDE9A1105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ad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E18D-DFB2-4109-8358-B8F2E94092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ad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501B-1A43-4E0A-AD7F-87F043D5924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ad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8582-46D8-4542-9F39-87168EAB5F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eec94"/>
                </a:solidFill>
                <a:latin typeface="Century Gothic"/>
              </a:rPr>
              <a:t>COMPITI PRATICI DELL’INSEGNANTE DI SOSTEGNO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CasellaDiTesto 3"/>
          <p:cNvSpPr/>
          <p:nvPr/>
        </p:nvSpPr>
        <p:spPr>
          <a:xfrm>
            <a:off x="1714680" y="357192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BORDERLINE  - Il disabile intellettivo borderline e lie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Udine, 6 maggio 2009  - S. Sec. di primo grado “via Petrarc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114440" y="1828440"/>
            <a:ext cx="42670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partecipano alle attività d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5029200" y="3048120"/>
            <a:ext cx="41148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1c191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Programm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1c191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Verif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1c191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Valut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1c191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762120" y="4756320"/>
            <a:ext cx="3733560" cy="28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con gli insegnanti curriculari delle varie discip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914400" y="1219320"/>
            <a:ext cx="228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li insegnanti di sostegno sono insegnanti di classe 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2895480" y="1905120"/>
            <a:ext cx="1219320" cy="4572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AutoShape 7"/>
          <p:cNvSpPr/>
          <p:nvPr/>
        </p:nvSpPr>
        <p:spPr>
          <a:xfrm>
            <a:off x="4800600" y="5105520"/>
            <a:ext cx="1066680" cy="914400"/>
          </a:xfrm>
          <a:prstGeom prst="pie">
            <a:avLst/>
          </a:prstGeom>
          <a:gradFill rotWithShape="0">
            <a:gsLst>
              <a:gs pos="0">
                <a:srgbClr val="ff9900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Coordinano le informazioni e le osservazioni sui vari alunni segnalat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990720" y="3657600"/>
            <a:ext cx="7848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instaurando e favorendo i necessari rapporti di scambio e collaborazione con operatori e strutture ester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AutoShape 4"/>
          <p:cNvSpPr/>
          <p:nvPr/>
        </p:nvSpPr>
        <p:spPr>
          <a:xfrm>
            <a:off x="4495680" y="297180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gradFill rotWithShape="0">
            <a:gsLst>
              <a:gs pos="0">
                <a:srgbClr val="ff9900"/>
              </a:gs>
              <a:gs pos="100000">
                <a:srgbClr val="9933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1042920" y="765000"/>
            <a:ext cx="74678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Creano le condizioni</a:t>
            </a: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 </a:t>
            </a:r>
            <a:r>
              <a:rPr b="1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affinché l’alunno</a:t>
            </a: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 </a:t>
            </a:r>
            <a:r>
              <a:rPr b="1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sia a contatto con i compagn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c1916"/>
                </a:solidFill>
                <a:latin typeface="Times New Roman"/>
                <a:ea typeface="Times New Roman"/>
              </a:rPr>
              <a:t>   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692360" y="2924280"/>
            <a:ext cx="6248160" cy="43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consentendo una sollecitazione che </a:t>
            </a:r>
            <a:r>
              <a:rPr b="1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stimola l’apprendi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e promuovendo un </a:t>
            </a:r>
            <a:r>
              <a:rPr b="1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senso di comunità nella clas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Adattano il complesso degli insegnamenti</a:t>
            </a: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 alle esigenze specifiche degli alunni in situazione di handic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Favoriscono l’integrazione</a:t>
            </a: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 di ragazzi in difficoltà, anche non portatori di handica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1371600" y="3657600"/>
            <a:ext cx="7391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  </a:t>
            </a:r>
            <a:r>
              <a:rPr b="1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promovendo</a:t>
            </a: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 per tutti gli alunni della classe in cui operano, </a:t>
            </a:r>
            <a:r>
              <a:rPr b="1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modalità di lavoro operativo e interdisciplin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Attuano iniziative di recupero e/o</a:t>
            </a: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 </a:t>
            </a:r>
            <a:r>
              <a:rPr b="1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potenziame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1066680" y="2819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concordate</a:t>
            </a: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 con i colleghi del Consiglio di Clas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990720" y="4495680"/>
            <a:ext cx="7619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tramite </a:t>
            </a:r>
            <a:r>
              <a:rPr b="1" lang="it-IT" sz="3200" spc="-1" strike="noStrike">
                <a:solidFill>
                  <a:srgbClr val="1c1916"/>
                </a:solidFill>
                <a:latin typeface="Century Gothic"/>
                <a:ea typeface="Times New Roman"/>
              </a:rPr>
              <a:t>interventi individualizzati e /o di piccolo grupp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7:31:48Z</dcterms:created>
  <dc:creator>AP</dc:creator>
  <dc:description/>
  <dc:language>en-US</dc:language>
  <cp:lastModifiedBy>Utente</cp:lastModifiedBy>
  <dcterms:modified xsi:type="dcterms:W3CDTF">2009-05-05T21:34:09Z</dcterms:modified>
  <cp:revision>11</cp:revision>
  <dc:subject/>
  <dc:title>Diapositiva 1</dc:title>
</cp:coreProperties>
</file>